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228E-6BD8-4655-BC5B-6F90A43701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6115-00F3-4D25-8405-15B9DA7BD4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236D-109F-45DE-AA29-6E84747E33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40D8-AF9C-4E88-85F7-9B652A498A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F630-0398-4E89-AD6B-F0624DA7DB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6936-E40B-4B88-A917-FC53EC04B2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CAC-0D18-4B3C-A582-E7CE8C2EB2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B647-823B-4DA1-AEB5-E32C79B201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7AF9-70FD-4612-8E16-99B1DBC0F6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5F26-D8E7-488F-87E7-949C541EDC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BEDC-66BC-4155-8D49-F7EC02BD34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278D-BDCF-44A5-B068-77ABF5F70F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50D0-B9A2-458D-9416-2B640DCADA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684D-C04E-42A6-9A58-3EBAB53E5F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E307-CA64-4386-B257-AF06E70715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6B19-5107-4A19-AE5E-D1FB18A156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2509-2D89-4CC0-9A9D-08E7AE19A0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AC6D-CF1E-45BC-936F-10466DB887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2E80-6878-4992-A5B9-428134EA99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4350-1DD0-4107-B263-B134B1EC16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C900-86FA-4409-938E-DC3F98ADF6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BBFA-B72F-42C6-B60A-D605F5D32D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BDA1-CE14-4DE2-B898-70FAF7B2FB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80E-7FEA-4AB1-A13F-1DCE6D7C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6A0-CFE6-4F1B-9F72-1D2EF9B5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D10-DE0A-4B52-9769-2B6E3756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36A-27C4-46C2-9E92-47319060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4A80-05F0-4D1F-8276-1319D195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2F0C-E0E0-448F-9FF7-EE7888AB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4E96-939D-408B-92B2-C902903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F88A-5A41-4EF9-9CAE-44E62222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3400-E787-4103-B4AB-10F4DF1A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76CB-8607-4B4A-8CA5-1C37A039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0290-58FD-449A-8FDE-EFEFEA58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1A8-0B09-4F2E-910B-46554826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94FA-86CF-43B7-AA4C-027B63D5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03CD-DEE7-499F-983E-C41F200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B44D-7173-4D5C-8882-A8F5996F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F284-12EA-455D-B082-37928577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F025-ADDC-4639-95A7-4378D6BB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373-B5B5-4977-87C1-625542BA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E7D-7EFA-4AB5-B7D0-C42B483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25F-A255-46C5-A59B-49A9B5EF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82E-4E63-4168-BFE1-4CDCBA1A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BC1-9EE0-4D53-95EE-B1B1C8A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B8C-A510-45AA-A7CE-6B8E2CD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AD7-4221-4675-8B1B-2FB9E3C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6A21-EB54-4D67-B9B8-06D7BAC14778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8581-05C8-42B1-AFEE-D22C572F267E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F3CA-A526-4C66-8EFF-896FB597C2BC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79B2-53B8-4260-B383-A7A783E92230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5D99-6200-442E-8D13-BEB4B5D7C965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4CFC-F718-4960-95E6-6F50B8348CCB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ffff"/>
                </a:solidFill>
                <a:latin typeface="Tahoma"/>
              </a:rPr>
              <a:t>Начальные сведения </a:t>
            </a:r>
            <a:br>
              <a:rPr sz="4000"/>
            </a:br>
            <a:r>
              <a:rPr b="0" lang="ru-RU" sz="4000" spc="-1" strike="noStrike">
                <a:solidFill>
                  <a:srgbClr val="29ffff"/>
                </a:solidFill>
                <a:latin typeface="Tahoma"/>
              </a:rPr>
              <a:t>из теории вероятн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66"/>
                </a:solidFill>
                <a:latin typeface="Tahoma"/>
              </a:rPr>
              <a:t>9 клас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DD0C-F87D-4293-A148-3CE98EA17015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9B25-5D8B-41EB-8B2E-4496BC1F6B2F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6320" y="76320"/>
            <a:ext cx="9067680" cy="75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дание из ГИ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Э К З А М Е 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Из слова случайным образом выбирают букву. Какова вероятность того, что она окажется гласной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2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05A1-8691-4442-A0C5-F891B539C023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Номер слайда 4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7B25-1BA4-41A0-8237-F1A08ACBD79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Rectangle 7" descr=""/>
          <p:cNvPicPr/>
          <p:nvPr/>
        </p:nvPicPr>
        <p:blipFill>
          <a:blip r:embed="rId1"/>
          <a:stretch/>
        </p:blipFill>
        <p:spPr>
          <a:xfrm>
            <a:off x="73080" y="73080"/>
            <a:ext cx="9077400" cy="75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4644-9E4C-4C45-B0E5-526C216F6118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A0C5-A21C-4CD3-9B90-E9998157476F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94920" y="18284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дание из ГИ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з класса, в котором учатся 15 мальчиков и 10 девочек, выбирают по жребию одного дежурного. Какова вероятность того, что это будет девочк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71EB-3C2E-4B36-B5C9-56A01F80A9E7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FE4E-4513-45C2-9B78-382A981ABF3F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Rectangle 7" descr=""/>
          <p:cNvPicPr/>
          <p:nvPr/>
        </p:nvPicPr>
        <p:blipFill>
          <a:blip r:embed="rId1"/>
          <a:stretch/>
        </p:blipFill>
        <p:spPr>
          <a:xfrm>
            <a:off x="73080" y="73080"/>
            <a:ext cx="9077400" cy="75531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2" descr="http://www.symbolsbook.ru/images/K/Cube.jpg"/>
          <p:cNvPicPr/>
          <p:nvPr/>
        </p:nvPicPr>
        <p:blipFill>
          <a:blip r:embed="rId2"/>
          <a:stretch/>
        </p:blipFill>
        <p:spPr>
          <a:xfrm>
            <a:off x="4638600" y="2967120"/>
            <a:ext cx="1390680" cy="1266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4724280" y="1066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Дата 2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D271-BF49-4361-B741-430267F327ED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Номер слайда 4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2A15-14D7-445C-AD83-4E4604F00DD0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Rectangle 7" descr=""/>
          <p:cNvPicPr/>
          <p:nvPr/>
        </p:nvPicPr>
        <p:blipFill>
          <a:blip r:embed="rId1"/>
          <a:stretch/>
        </p:blipFill>
        <p:spPr>
          <a:xfrm>
            <a:off x="73080" y="73080"/>
            <a:ext cx="9077400" cy="75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553D-DE79-4F5C-9858-06534807807F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8BFB-9A52-4BAE-8A08-0C5E24C21C8B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Объект 1" descr=""/>
          <p:cNvPicPr/>
          <p:nvPr/>
        </p:nvPicPr>
        <p:blipFill>
          <a:blip r:embed="rId1"/>
          <a:stretch/>
        </p:blipFill>
        <p:spPr>
          <a:xfrm>
            <a:off x="476280" y="987480"/>
            <a:ext cx="71499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5486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а Даламбе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Объект 6" descr="Alembert.jpg"/>
          <p:cNvPicPr/>
          <p:nvPr/>
        </p:nvPicPr>
        <p:blipFill>
          <a:blip r:embed="rId1"/>
          <a:srcRect l="0" t="20002" r="0" b="20002"/>
          <a:stretch/>
        </p:blipFill>
        <p:spPr>
          <a:xfrm>
            <a:off x="228600" y="1523880"/>
            <a:ext cx="2438280" cy="26672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66880" y="17521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ий французский философ и математик Даламбер вошел в историю теории вероятностей со своей знаменитой ошибкой, суть которой в том, что он неверно определил равновозможность исходов в опыте всего с двумя монетам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07CB-6B28-4E67-9B7D-C824EB4BAD4D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Нижний колонтитул 4"/>
          <p:cNvSpPr/>
          <p:nvPr/>
        </p:nvSpPr>
        <p:spPr>
          <a:xfrm>
            <a:off x="76320" y="4113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b2b2"/>
                </a:solidFill>
                <a:latin typeface="Tahoma"/>
              </a:rPr>
              <a:t>Жан Лерон Даламб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b2b2"/>
                </a:solidFill>
                <a:latin typeface="Tahoma"/>
              </a:rPr>
              <a:t>(1717-178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821E-8315-4B3C-B271-BE3262BF57DC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171360" y="73080"/>
            <a:ext cx="8448840" cy="6486480"/>
          </a:xfrm>
          <a:prstGeom prst="rect">
            <a:avLst/>
          </a:prstGeom>
          <a:ln w="0">
            <a:noFill/>
          </a:ln>
        </p:spPr>
      </p:pic>
      <p:sp>
        <p:nvSpPr>
          <p:cNvPr id="199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1AC1-E08A-45AC-963A-12750B2D1C65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3679-5F73-4B98-8CB0-8ABAF964472E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7800" y="9000"/>
            <a:ext cx="8915400" cy="662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ыт «выбор перчаток». В коробке лежат 3 пары одинаковых перчаток. Из неё, не глядя, вынимаются две перча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числите все равновозможные исх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й вариант вер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-ый вариант               2-ой вариа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исхода:                     4 исх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«обе перчатки          1) «обе перчатки на леву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левую руку»,             руку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«обе перчатки         2) «обе перчатки на праву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равую руку»,          руку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«перчатки на           3)«первая перчатка на леву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ые руки».                Руку, вторая на правую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«первая перчатка на правую рук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ло: природа различает         вторая на леву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предметы, даже если внешние они для нас неотличи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Номер слайда 5"/>
          <p:cNvSpPr/>
          <p:nvPr/>
        </p:nvSpPr>
        <p:spPr>
          <a:xfrm>
            <a:off x="8305920" y="838080"/>
            <a:ext cx="761760" cy="60984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C1F-A3B2-46EA-BC05-81513DBE66B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7" descr="http://podelise.ru/tw_files/1/d-585/585_html_38b518b.gif"/>
          <p:cNvPicPr/>
          <p:nvPr/>
        </p:nvPicPr>
        <p:blipFill>
          <a:blip r:embed="rId1"/>
          <a:stretch/>
        </p:blipFill>
        <p:spPr>
          <a:xfrm>
            <a:off x="0" y="1600200"/>
            <a:ext cx="2805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9907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ормула классической вероятности даёт простой способ вычисления вероятнос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о необходимо правильно определить количество равновозможных исходов и количество благоприя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тобы упорядочить свои знания заполни таблиц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8F52-2F24-4AB6-A0BF-35851F5D99CE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E8D6-0954-4E9F-8096-D7C2B4D0362D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2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0CA0-1A7F-4C3D-9AAB-41F58F2F7E19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ижний колонтитул 3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8633-EE35-457E-BE8E-AABF8F3C616F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 algn="ctr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Теория вероятностей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учает закономерности случайных событ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04920" y="0"/>
          <a:ext cx="7848360" cy="7226280"/>
        </p:xfrm>
        <a:graphic>
          <a:graphicData uri="http://schemas.openxmlformats.org/drawingml/2006/table">
            <a:tbl>
              <a:tblPr/>
              <a:tblGrid>
                <a:gridCol w="345960"/>
                <a:gridCol w="1582560"/>
                <a:gridCol w="1874880"/>
                <a:gridCol w="1219320"/>
                <a:gridCol w="1220760"/>
                <a:gridCol w="160488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Испыт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Число возможных исх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Событие 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Число благоприятных исх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вероя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наступления события 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дбрасывают одну моне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ыпадет орё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дбрасывают две мон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ыпадут 2ор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дбрасывают 1 игральный куб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ыпавшее число очков нечёт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дбрасывают 1 игральный куб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ыпавшее число кратно трё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дбрасывают 2 игральный куб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 сумме выпадет 8 оч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лучайный выбор двузначного чис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исло состоит из одинаковых циф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скручивание рулетки, разделённой на 8 равных сектор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тановки стрелки на секторе с номером, кратным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гра в лотерею: 1500 билетов из 120 выигрыш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ыиграли, купив один би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09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52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чётное домашнее задание по книг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ИА. 3000 задач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577, 2596, 2614, 2623, 2629, 264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4CEE-B6FC-4894-84DA-A2409521EA82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E42F-7BDA-4B7B-A910-296A22157A63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9D36-8B87-4B6E-A5DB-FCA19ECA098F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BDBC-AE29-49A3-B1E5-04DD3BBC749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52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00"/>
                </a:solidFill>
                <a:latin typeface="Bodoni MT Black"/>
              </a:rPr>
              <a:t> 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Рисунок 7" descr="http://1.bp.blogspot.com/-xU9kkolt0fQ/UGTKN3hDZsI/AAAAAAAAAww/SNN4h8YAiv0/s320/the-e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FEB5-DA61-4750-A0DE-41DFEDE4E479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84C5-E575-4D9C-84F5-FF6D7E8F7F43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371600" y="137124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лучайное событ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бытие которое может произойти а может не произойти называется случайн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пример, событие А: «Ты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УЧИЛ СЕГОДНЯ 5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74D6-9C7B-4A8F-9DDB-A3FD19ADFE24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83F1-BAC3-448E-8395-4E3DB215F731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авновозможные исхо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ходы в определённом опыте или наблюдении считают равновозможными, если шансы этих исходов одинаков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5313-268C-460F-A666-805A8E758569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9AE0-48EA-4D3E-8596-274530912F16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294920" y="123480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мер: с бросани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уб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бытие А: выпадение на верхней грани одного из чисел-1,2,3,4,5,6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ществует 6 равновозможных исходов этого событ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5" descr="http://www.symbolsbook.ru/images/K/Cube.jpg"/>
          <p:cNvPicPr/>
          <p:nvPr/>
        </p:nvPicPr>
        <p:blipFill>
          <a:blip r:embed="rId1"/>
          <a:stretch/>
        </p:blipFill>
        <p:spPr>
          <a:xfrm>
            <a:off x="1295280" y="1295280"/>
            <a:ext cx="1067040" cy="9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2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3505-9543-4013-B4ED-1AE19FF8218C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Нижний колонтитул 3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Номер слайда 4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1F08-288D-411B-9BA6-E30494D0071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295280" y="1235160"/>
            <a:ext cx="7086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лагоприятные исх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ходы, при которых происходит некоторое событие, называют благоприятными исходами для этого событ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BC6C-9D4A-4A44-9A54-61E0CD02D293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50AC-7D11-40CD-8086-455CD23D155D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320" y="76320"/>
            <a:ext cx="9067680" cy="75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мер: с бросани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уб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ытие А: выпадение на верхней грани одного из чисел-1,2,3,4,5,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ествует 6 равновозможных исходов этого собы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ытие В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адение числа очков, кратного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лишь при двух исходах испытания(?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исходы называются благоприятными для события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Рисунок 12" descr="http://www.symbolsbook.ru/images/K/Cube.jpg"/>
          <p:cNvPicPr/>
          <p:nvPr/>
        </p:nvPicPr>
        <p:blipFill>
          <a:blip r:embed="rId1"/>
          <a:stretch/>
        </p:blipFill>
        <p:spPr>
          <a:xfrm>
            <a:off x="304920" y="76320"/>
            <a:ext cx="13906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Дата 2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2CFA-BE25-4AC9-9DF2-52D7B3B27B0D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Нижний колонтитул 3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9B55-C23C-44A6-8A8B-CFA777368F5F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6320" y="76320"/>
            <a:ext cx="9067680" cy="75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лассическое опреде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роя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ероятностью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события называется отношение числа благоприятных для него исходов испытания к числу всех равновозможных исход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3FDC-6B3A-4B54-B5E4-10D2257D69FB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Элективный кур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3BA2-3BDE-46E7-A024-2C085766300F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мер: игра в наперс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а вероятность того, что ты угадаешь, где спрятан шари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 1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Рисунок 5" descr="http://i.i.ua/photo/images/pic/7/7/1920377_52fc9703.jpg"/>
          <p:cNvPicPr/>
          <p:nvPr/>
        </p:nvPicPr>
        <p:blipFill>
          <a:blip r:embed="rId1"/>
          <a:stretch/>
        </p:blipFill>
        <p:spPr>
          <a:xfrm>
            <a:off x="1295280" y="2590920"/>
            <a:ext cx="4038840" cy="27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3-02-24T04:48:5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