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4E1-E388-41F3-AB61-307ECB41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3CB-8A77-4BC3-A4A9-0C90FF74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B42-603E-48BE-BBDF-BC73C412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11A-57D7-4781-8B52-BAE8EC45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71CE-D683-4B29-9FB1-C63FE25F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DD50-3518-4E3A-B5FA-42DE3392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E8AA-670F-489F-A05B-7BA784D6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30A6-FFF5-45A3-8522-723F1486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95E-E29D-4C97-A994-E332A1E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8F64-CCDB-4B29-920F-A0B80BB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8531-A068-4323-B3F0-5594C818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AB8-4A74-4FA8-90DF-59B0673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E68D-0D16-414B-A3B0-E30763E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A4DE-54EA-4211-B9B3-6E984EC6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5FD1-8E79-4900-AF26-5880F941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1F2C-28EC-4887-BD7B-65611B34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573F-4978-4ED8-8BD8-F22B6A96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58EF-84F2-4198-98F1-223B1352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0C26-0392-4F27-9C03-3BC8DDE8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F758-FB13-4E16-A57F-03F9FC15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B1AF-DEC5-4791-9F83-B8B4A332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489C-2804-4FCB-8832-CF87C1A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06A-E4F5-4D99-B765-FDAE12BA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48F1-E4A6-48EC-AE78-AE769922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041E-31D9-4767-8A23-2A0E9A95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3052-EF80-4FF6-A57B-62EF683E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016A-05D3-4A9B-A07C-0838F7F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B014-838C-417B-9235-CBD8A36D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C641-3A25-4B5C-95C3-059486CD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39D7-5782-47EC-AC18-AA697690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090BF-91E0-40E5-ABBB-63362C8C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B83D-0E22-49ED-BCCC-C11E09C7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DA91-36BA-44C0-AFDF-B644DD02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E3D-AC94-42ED-924C-37E63A21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BDBB-E7AF-4BC9-B57C-E98FCCAC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91D0-4281-4598-8A8C-EF24DDAC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3A100-C9EC-43AA-8EF8-F527235F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0894-2916-4768-AFDD-0BC9C69A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8611-1EAE-4372-968E-43A93DC5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DF31-B871-479E-AAB2-3E77B09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AE79-CBBB-403A-B274-D1B5B00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96CB-B6A3-4320-A422-639D25F1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73C05-CC86-4989-B6E7-22BC2299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A7527-AB50-4079-921E-75C1010D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1AE-B458-43D9-AB17-E9B1CB6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EE583-5984-4632-A5A8-8B6AB02D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22EBE-ACA3-4E82-94E7-62690B08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B8153-14BD-484E-A9ED-3795E144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C1C0F-B118-49EB-ACC7-83309EB9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622AB-0804-4E65-80EF-A97E303B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A0B43-587A-4C75-B34D-F4F684A5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F5FA2-424B-4413-AC24-1868F6E8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08B02-54D6-4BEC-9ACB-17030244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9D4A5-FBEE-47FA-A069-41993D80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07D4D-37D0-4BBC-B68C-4E6E6E3D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190-4B61-43A3-BAF5-945D3643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0F5D5-AAE7-49CF-9B8B-2C1933E8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972-64AD-4251-B3A3-EB5C0E8C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D5C-3683-40B9-87F2-0B612747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24B-E6C1-4991-927B-B650CA3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F824-196F-4ABB-AFA6-21FF0106686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44DE-DFC7-4726-8846-8A82A99F3F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2783-3962-4263-8773-CA173DF5EDC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2576-9011-40E9-BF9A-A81CCA3964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3606-D23D-444F-B138-8189775614A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749160" y="396720"/>
            <a:ext cx="8139240" cy="14875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d700"/>
                </a:solidFill>
                <a:latin typeface="Constantia"/>
              </a:rPr>
              <a:t>Тема проект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Инструктор по горному туризму:  перспектива професс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2d700"/>
                </a:solidFill>
                <a:latin typeface="Book Antiqua"/>
              </a:rPr>
              <a:t>авторы проект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2d700"/>
                </a:solidFill>
                <a:latin typeface="Book Antiqua"/>
              </a:rPr>
              <a:t>Баласанян Никола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2d700"/>
                </a:solidFill>
                <a:latin typeface="Book Antiqua"/>
              </a:rPr>
              <a:t>Муниципальное  бюджетное общеобразовательное учрежд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2d700"/>
                </a:solidFill>
                <a:latin typeface="Book Antiqua"/>
              </a:rPr>
              <a:t>средняя общеобразовательная школа № 9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Book Antiqua"/>
              </a:rPr>
              <a:t>Сочи 2011</a:t>
            </a:r>
            <a:r>
              <a:rPr b="0" lang="ru-RU" sz="2400" spc="-1" strike="noStrike">
                <a:solidFill>
                  <a:srgbClr val="e2d7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64304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7" descr="новый год 044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13" descr="P1060184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549360"/>
            <a:ext cx="914400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0000"/>
              </a:solidFill>
              <a:latin typeface="French Script M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50560" y="213840"/>
            <a:ext cx="8713800" cy="65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структурном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данная работа состоит из введения, двух глав, заключения, а также приложения. В первой главе рассматриваются общетеоретические вопросы туризма и отдыха, а также общая характеристика профессии инструктор по горному туризму. Во второй главе рассматриваются вопросы практического характера, связанные с непосредственной деятельностью инструктора по горному туризму, перспективами профессии в городе Соч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686800" cy="632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2800" spc="-1" strike="noStrike">
                <a:solidFill>
                  <a:srgbClr val="115964"/>
                </a:solidFill>
                <a:latin typeface="Calibri"/>
              </a:rPr>
              <a:t>Актуальность проекта </a:t>
            </a:r>
            <a:r>
              <a:rPr b="0" i="1" lang="ru-RU" sz="2800" spc="-1" strike="noStrike">
                <a:solidFill>
                  <a:srgbClr val="115964"/>
                </a:solidFill>
                <a:latin typeface="Calibri"/>
              </a:rPr>
              <a:t>обусловлена возрастающим интересом</a:t>
            </a:r>
            <a:r>
              <a:rPr b="1" i="1" lang="ru-RU" sz="2800" spc="-1" strike="noStrike">
                <a:solidFill>
                  <a:srgbClr val="115964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115964"/>
                </a:solidFill>
                <a:latin typeface="Calibri"/>
              </a:rPr>
              <a:t>отечественных и зарубежных туристов к отдыху в городе-курорте Сочи. Гостей курорта необходимо не </a:t>
            </a:r>
            <a:r>
              <a:rPr b="0" lang="ru-RU" sz="2800" spc="-1" strike="noStrike">
                <a:solidFill>
                  <a:srgbClr val="115964"/>
                </a:solidFill>
                <a:latin typeface="Calibri"/>
              </a:rPr>
              <a:t>только комфортно разместить в гостинице, но и предоставить возможность знакомства с достопримечательностями города. В числе главных достопримечательностей города Сочи можно назвать не только памятники архитектуры, культуры, но и горные вершины, стремительно возвышающиеся над федеральным курортом. Методы и приемы показа гор отличаются от показа иных достопримечательностей. В данном случае требуются помощь инструктора по горному туризму. </a:t>
            </a:r>
            <a:br>
              <a:rPr sz="24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Целью</a:t>
            </a: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данного проекта является изучение перспектив подготовки высококвалифицированных специалистов в области туристского бизнеса на территории города-курорта Сочи.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c0000"/>
                </a:solidFill>
                <a:latin typeface="Calibri"/>
              </a:rPr>
              <a:t>Задачи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400" y="1285560"/>
            <a:ext cx="82580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3495c"/>
                </a:solidFill>
                <a:latin typeface="Constantia"/>
              </a:rPr>
              <a:t>определение актуальности профессии инструктора по горному туризму;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3495c"/>
                </a:solidFill>
                <a:latin typeface="Constantia"/>
              </a:rPr>
              <a:t>анализ особенностей профессии инструктора по горному туризму;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3495c"/>
                </a:solidFill>
                <a:latin typeface="Constantia"/>
              </a:rPr>
              <a:t>выявление проблем подготовки инструкторов по горному туризму в г. Сочи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3495c"/>
                </a:solidFill>
                <a:latin typeface="Constantia"/>
              </a:rPr>
              <a:t>рассмотрение роли общеобразовательных школ в развитии туристской отрасли города-курорта.</a:t>
            </a:r>
            <a:r>
              <a:rPr b="1" lang="ru-RU" sz="3000" spc="-1" strike="noStrike">
                <a:solidFill>
                  <a:srgbClr val="03495c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-732960"/>
            <a:ext cx="514368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ктуальность проект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условлена возрастающим интересом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ечественных и зарубежных туристов к отдыху в городе-курорте Сочи. Гостей курорта необходимо не только комфортно разместить в гостинице, но и предоставить возможность знакомства с достопримечательностями города. В числе главных достопримечательностей города Сочи можно назвать не только памятники архитектуры, культуры, но и горные вершины, стремительно возвышающиеся над федеральным курортом. Методы и приемы показа гор отличаются от показа иных достопримечательностей. В данном случае требуются помощь инструктора по горному туризм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4" descr="Ачишхо май 07 017"/>
          <p:cNvPicPr/>
          <p:nvPr/>
        </p:nvPicPr>
        <p:blipFill>
          <a:blip r:embed="rId1"/>
          <a:stretch/>
        </p:blipFill>
        <p:spPr>
          <a:xfrm>
            <a:off x="92160" y="214200"/>
            <a:ext cx="890892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13" descr="P1060134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10" descr="Копия (2) P1060127"/>
          <p:cNvPicPr/>
          <p:nvPr/>
        </p:nvPicPr>
        <p:blipFill>
          <a:blip r:embed="rId1"/>
          <a:stretch/>
        </p:blipFill>
        <p:spPr>
          <a:xfrm>
            <a:off x="214200" y="357120"/>
            <a:ext cx="835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7" descr="Ачишхо май 07 121"/>
          <p:cNvPicPr/>
          <p:nvPr/>
        </p:nvPicPr>
        <p:blipFill>
          <a:blip r:embed="rId1"/>
          <a:stretch/>
        </p:blipFill>
        <p:spPr>
          <a:xfrm>
            <a:off x="357120" y="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4" descr="новый год 033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0:16:09Z</dcterms:created>
  <dc:creator>user1</dc:creator>
  <dc:description/>
  <dc:language>en-US</dc:language>
  <cp:lastModifiedBy>User</cp:lastModifiedBy>
  <dcterms:modified xsi:type="dcterms:W3CDTF">2013-09-30T20:00:49Z</dcterms:modified>
  <cp:revision>5</cp:revision>
  <dc:subject/>
  <dc:title>Я выбираю профессию</dc:title>
</cp:coreProperties>
</file>