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4A03-94E2-4D7F-8C19-FEAEBD1EC3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CB96-02A2-43E5-A678-9EB2704D87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66CD-0E28-4F86-B64D-E47D8BD254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E0A2-FD87-4B2F-9129-4DC7F856D8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4193-4C1E-4897-ACDC-F8D095C287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2461-98B0-416F-8319-7E55A91016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5523-D829-40ED-94CB-162875C091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6B25-CC6D-445F-AA87-3C80D1A8D8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71BE-8D5E-4B23-AF5F-00F0BD46BC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2271-0D4B-4A84-AF21-DCE04A93FC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AFDE-1BD5-401B-AF5A-0D73F2DC38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2B45-A0A6-4B86-BDE8-17BE215D48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B9C-1027-4B83-8315-FDBCA90E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A2D-D6F0-46B0-AEFA-ACF99326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7B5-4CDD-4AF6-BDB5-F6A2AF34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AEB-72C4-474A-B0B7-279D5EFD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324-BDB3-4C1D-B7C5-128E0FF9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2D4-11C3-4CCA-BC1E-9D092379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ED5-EEB4-4AF7-9A36-B7FB0A91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7E0-3B74-4F96-BD01-D904F53B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338-3632-491F-9933-A6B04A2F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DEA-055E-4271-9D0D-9CF2A6E2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B34-AADB-40FB-BCC2-7C65F1B4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097-C66F-47E3-9242-2529C1E9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F632-7BB3-4D09-946C-755A31ABE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:\Documents and Settings\Admin\Мои документы\Мои рисунки\шк принадл\5434f88a87d4t.jpg"/>
          <p:cNvPicPr/>
          <p:nvPr/>
        </p:nvPicPr>
        <p:blipFill>
          <a:blip r:embed="rId1"/>
          <a:stretch/>
        </p:blipFill>
        <p:spPr>
          <a:xfrm>
            <a:off x="4648320" y="228600"/>
            <a:ext cx="4149720" cy="4381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57200" y="19051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Monotype Corsiva"/>
              </a:rPr>
              <a:t>Режим дня школьн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30e440ab3aeat"/>
          <p:cNvPicPr/>
          <p:nvPr/>
        </p:nvPicPr>
        <p:blipFill>
          <a:blip r:embed="rId1"/>
          <a:stretch/>
        </p:blipFill>
        <p:spPr>
          <a:xfrm>
            <a:off x="0" y="228600"/>
            <a:ext cx="3627360" cy="4103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267080" y="175248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581280" y="1522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8.00-21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800600" y="609480"/>
            <a:ext cx="403848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Ужин вкусный мы съе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Телевизор погляд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Или в игры поигра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Или книжку почит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E:\Documents and Settings\Admin\Мои документы\Мои рисунки\Изображение\e3fbedf42210t.jpg"/>
          <p:cNvPicPr/>
          <p:nvPr/>
        </p:nvPicPr>
        <p:blipFill>
          <a:blip r:embed="rId2"/>
          <a:stretch/>
        </p:blipFill>
        <p:spPr>
          <a:xfrm>
            <a:off x="3048120" y="3200400"/>
            <a:ext cx="2334960" cy="34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post-53751-1221413255тим"/>
          <p:cNvPicPr/>
          <p:nvPr/>
        </p:nvPicPr>
        <p:blipFill>
          <a:blip r:embed="rId3"/>
          <a:stretch/>
        </p:blipFill>
        <p:spPr>
          <a:xfrm>
            <a:off x="5349960" y="2819520"/>
            <a:ext cx="379404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4bd47120e608"/>
          <p:cNvPicPr/>
          <p:nvPr/>
        </p:nvPicPr>
        <p:blipFill>
          <a:blip r:embed="rId1"/>
          <a:stretch/>
        </p:blipFill>
        <p:spPr>
          <a:xfrm>
            <a:off x="3200400" y="3341520"/>
            <a:ext cx="3516480" cy="3516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b2fc97cbd319"/>
          <p:cNvPicPr/>
          <p:nvPr/>
        </p:nvPicPr>
        <p:blipFill>
          <a:blip r:embed="rId2"/>
          <a:stretch/>
        </p:blipFill>
        <p:spPr>
          <a:xfrm>
            <a:off x="0" y="609480"/>
            <a:ext cx="3600360" cy="338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E:\Documents and Settings\Admin\Мои документы\Мои рисунки\дети\72cea29bd6c6.jpg"/>
          <p:cNvPicPr/>
          <p:nvPr/>
        </p:nvPicPr>
        <p:blipFill>
          <a:blip r:embed="rId3"/>
          <a:stretch/>
        </p:blipFill>
        <p:spPr>
          <a:xfrm>
            <a:off x="6419880" y="0"/>
            <a:ext cx="272412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E:\Documents and Settings\Admin\Мои документы\Мои рисунки\дети\boyreading.gif"/>
          <p:cNvPicPr/>
          <p:nvPr/>
        </p:nvPicPr>
        <p:blipFill>
          <a:blip r:embed="rId4"/>
          <a:stretch/>
        </p:blipFill>
        <p:spPr>
          <a:xfrm>
            <a:off x="0" y="4724280"/>
            <a:ext cx="3235320" cy="1806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3429000" y="228600"/>
            <a:ext cx="36576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Ждёт зубной порошок и журчит водица:                                                 «Не забудь, мой дружок, перед сном умыться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усть приходит крепкий сон.                                                      Всем на свете нужен он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52280" y="152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1.00-2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E:\Documents and Settings\Admin\Мои документы\Мои рисунки\дети\с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2438280" y="594360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Чай попить и спать - в кровать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Завтра рано мне встав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505320" y="2286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1.20-7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9" descr="c429ee41ba61t"/>
          <p:cNvPicPr/>
          <p:nvPr/>
        </p:nvPicPr>
        <p:blipFill>
          <a:blip r:embed="rId1"/>
          <a:srcRect l="0" t="0" r="0" b="4166"/>
          <a:stretch/>
        </p:blipFill>
        <p:spPr>
          <a:xfrm>
            <a:off x="304920" y="533520"/>
            <a:ext cx="4127400" cy="4176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0"/>
          <p:cNvSpPr/>
          <p:nvPr/>
        </p:nvSpPr>
        <p:spPr>
          <a:xfrm>
            <a:off x="2590920" y="228600"/>
            <a:ext cx="24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дъём 7.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3657600" y="2590920"/>
            <a:ext cx="5257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Каждый день, как только вы пробудились, подумайте –у меня есть бесценная человеческая жизнь, и я не собираюсь тратить ее впустую. Я буду использовать всю свою энергию чтобы развивать себя, открывать свое сердце другим людям. Я буду думать о других только хорошее, не позволю себе злиться или думать плохо о ком-то, я собираюсь быть полезным людям настолько, насколько я смогу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32"/>
          <p:cNvSpPr/>
          <p:nvPr/>
        </p:nvSpPr>
        <p:spPr>
          <a:xfrm>
            <a:off x="5105520" y="228600"/>
            <a:ext cx="3657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Утром зазвонил буди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не будильник ни к че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тому, что без звон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тать так рано я мог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38" descr="H:\документы с диска С(мои документы0\документы с диска с\здесь мои рисунки\анимация\+анимационные картинки\361.gif"/>
          <p:cNvPicPr/>
          <p:nvPr/>
        </p:nvPicPr>
        <p:blipFill>
          <a:blip r:embed="rId2"/>
          <a:stretch/>
        </p:blipFill>
        <p:spPr>
          <a:xfrm>
            <a:off x="1219320" y="4876920"/>
            <a:ext cx="14634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270915985f52t"/>
          <p:cNvPicPr/>
          <p:nvPr/>
        </p:nvPicPr>
        <p:blipFill>
          <a:blip r:embed="rId1"/>
          <a:srcRect l="0" t="0" r="0" b="5555"/>
          <a:stretch/>
        </p:blipFill>
        <p:spPr>
          <a:xfrm>
            <a:off x="228600" y="685800"/>
            <a:ext cx="4249800" cy="4238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6084720" y="260280"/>
            <a:ext cx="252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арядка 7.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5029200" y="1295280"/>
            <a:ext cx="36576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Monotype Corsiva"/>
              </a:rPr>
              <a:t>Занимаюсь я зарядкой,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Monotype Corsiva"/>
              </a:rPr>
              <a:t>По утрам, по вечерам.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Monotype Corsiva"/>
              </a:rPr>
              <a:t>Со здоровьем всё в порядке,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Monotype Corsiva"/>
              </a:rPr>
              <a:t>Что советую я Вам.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Monotype Corsiva"/>
              </a:rPr>
              <a:t>А потом пойду в присядку,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Monotype Corsiva"/>
              </a:rPr>
              <a:t>Потанцую на ковре.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Monotype Corsiva"/>
              </a:rPr>
              <a:t>Так я делаю зарядку,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Monotype Corsiva"/>
              </a:rPr>
              <a:t>Рано утром на заре.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Monotype Corsiva"/>
              </a:rPr>
              <a:t>Головой вращаю смело,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Monotype Corsiva"/>
              </a:rPr>
              <a:t>Поклонюсь Вам до земли.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Monotype Corsiva"/>
              </a:rPr>
              <a:t>Дух здоровый, крепче тело,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Monotype Corsiva"/>
              </a:rPr>
              <a:t>С добрым утром — земляки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3" descr="91307b4f8fa3t"/>
          <p:cNvPicPr/>
          <p:nvPr/>
        </p:nvPicPr>
        <p:blipFill>
          <a:blip r:embed="rId1"/>
          <a:srcRect l="0" t="0" r="197" b="5497"/>
          <a:stretch/>
        </p:blipFill>
        <p:spPr>
          <a:xfrm>
            <a:off x="179280" y="26028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6ef2c4d023c6t"/>
          <p:cNvPicPr/>
          <p:nvPr/>
        </p:nvPicPr>
        <p:blipFill>
          <a:blip r:embed="rId2"/>
          <a:srcRect l="0" t="0" r="0" b="6901"/>
          <a:stretch/>
        </p:blipFill>
        <p:spPr>
          <a:xfrm>
            <a:off x="5794200" y="3141720"/>
            <a:ext cx="3349800" cy="3456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5"/>
          <p:cNvSpPr/>
          <p:nvPr/>
        </p:nvSpPr>
        <p:spPr>
          <a:xfrm>
            <a:off x="5638680" y="152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мывание 7.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6"/>
          <p:cNvSpPr/>
          <p:nvPr/>
        </p:nvSpPr>
        <p:spPr>
          <a:xfrm>
            <a:off x="152280" y="3844800"/>
            <a:ext cx="358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нует зубная щет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к по морю лод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к по речке пароход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 зубам она ид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верх и вниз, туда-обратн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чистим мы налет и пятн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Чтобы зубки не боле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Чтоб как зимний снег бел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7"/>
          <p:cNvSpPr/>
          <p:nvPr/>
        </p:nvSpPr>
        <p:spPr>
          <a:xfrm>
            <a:off x="3962520" y="533520"/>
            <a:ext cx="29718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олшебная водичк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На розовое личико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учеек из сказк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На носик и на глазки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рызги из кадушк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На щечки и на ушки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Дождичек из лейк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На лобик и на шейку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ивень с теплой тучк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На маленькие ручки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от какой чистюля! Целуй меня, мамул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1" descr="0c6106eabbf5"/>
          <p:cNvPicPr/>
          <p:nvPr/>
        </p:nvPicPr>
        <p:blipFill>
          <a:blip r:embed="rId1"/>
          <a:stretch/>
        </p:blipFill>
        <p:spPr>
          <a:xfrm>
            <a:off x="5076720" y="2637000"/>
            <a:ext cx="3821040" cy="3821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3"/>
          <p:cNvSpPr/>
          <p:nvPr/>
        </p:nvSpPr>
        <p:spPr>
          <a:xfrm>
            <a:off x="6400800" y="3808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втрак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7.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533520" y="914400"/>
            <a:ext cx="464796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ъели завтрак, попрощ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Быстро в школу собира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Здравствуй школа! Здравствуй клас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Ждёт учительница нас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0" descr="7428d74289b9"/>
          <p:cNvPicPr/>
          <p:nvPr/>
        </p:nvPicPr>
        <p:blipFill>
          <a:blip r:embed="rId1"/>
          <a:stretch/>
        </p:blipFill>
        <p:spPr>
          <a:xfrm>
            <a:off x="3780000" y="2781360"/>
            <a:ext cx="4935240" cy="3652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1"/>
          <p:cNvSpPr/>
          <p:nvPr/>
        </p:nvSpPr>
        <p:spPr>
          <a:xfrm>
            <a:off x="762120" y="152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орога в школу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7.50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8.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2"/>
          <p:cNvSpPr/>
          <p:nvPr/>
        </p:nvSpPr>
        <p:spPr>
          <a:xfrm>
            <a:off x="152280" y="914400"/>
            <a:ext cx="4267440" cy="80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Утром , по дороге в школ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Свежим воздухом дыш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Жду подружку  я у до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Вместе с ней теперь 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Мы немного поболта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осмеёмся ведь т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Нам дорога в школу дли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Не наскучит нико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3" descr="H:\Мои рисунки\анимашки цифры и буквы\humor1_1.gif"/>
          <p:cNvPicPr/>
          <p:nvPr/>
        </p:nvPicPr>
        <p:blipFill>
          <a:blip r:embed="rId2"/>
          <a:stretch/>
        </p:blipFill>
        <p:spPr>
          <a:xfrm>
            <a:off x="5638680" y="152280"/>
            <a:ext cx="18478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3" descr="4ca1f4b728bc"/>
          <p:cNvPicPr/>
          <p:nvPr/>
        </p:nvPicPr>
        <p:blipFill>
          <a:blip r:embed="rId1"/>
          <a:stretch/>
        </p:blipFill>
        <p:spPr>
          <a:xfrm>
            <a:off x="324000" y="476280"/>
            <a:ext cx="4103640" cy="41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4"/>
          <p:cNvSpPr/>
          <p:nvPr/>
        </p:nvSpPr>
        <p:spPr>
          <a:xfrm>
            <a:off x="4419720" y="762120"/>
            <a:ext cx="4495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Чтобы грамотнее стать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Надо книжки почитат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И задачи все решить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Чтоб пятёрку получить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1447920" y="152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роки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8.30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-13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7" descr="E:\Documents and Settings\Admin\Мои документы\Мои рисунки\анимация\l1_sociol_o.gif"/>
          <p:cNvPicPr/>
          <p:nvPr/>
        </p:nvPicPr>
        <p:blipFill>
          <a:blip r:embed="rId2"/>
          <a:stretch/>
        </p:blipFill>
        <p:spPr>
          <a:xfrm>
            <a:off x="6629400" y="2819520"/>
            <a:ext cx="2228760" cy="3749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8"/>
          <p:cNvSpPr/>
          <p:nvPr/>
        </p:nvSpPr>
        <p:spPr>
          <a:xfrm>
            <a:off x="380880" y="4724280"/>
            <a:ext cx="601992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За звонком звенит зво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Точно в срок идёт у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Нужно очень мног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Чтоб полезным  в жизни с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3" descr="540bbb08e374"/>
          <p:cNvPicPr/>
          <p:nvPr/>
        </p:nvPicPr>
        <p:blipFill>
          <a:blip r:embed="rId1"/>
          <a:stretch/>
        </p:blipFill>
        <p:spPr>
          <a:xfrm>
            <a:off x="5899320" y="838080"/>
            <a:ext cx="3244680" cy="3245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4"/>
          <p:cNvSpPr/>
          <p:nvPr/>
        </p:nvSpPr>
        <p:spPr>
          <a:xfrm>
            <a:off x="304920" y="762120"/>
            <a:ext cx="457200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Полдник съели, погул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Поработали оп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Из портфеля мы до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вой учебник и тетрад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5"/>
          <p:cNvSpPr/>
          <p:nvPr/>
        </p:nvSpPr>
        <p:spPr>
          <a:xfrm>
            <a:off x="914400" y="152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5.30-16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7" descr="E:\Documents and Settings\Admin\Рабочий стол\новые картинки 5.01.10\девиз.jpg"/>
          <p:cNvPicPr/>
          <p:nvPr/>
        </p:nvPicPr>
        <p:blipFill>
          <a:blip r:embed="rId2"/>
          <a:stretch/>
        </p:blipFill>
        <p:spPr>
          <a:xfrm>
            <a:off x="838080" y="31240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0" descr="E:\Documents and Settings\Admin\Мои документы\Мои рисунки\Изображение\4b482ecf9e64t.jpg"/>
          <p:cNvPicPr/>
          <p:nvPr/>
        </p:nvPicPr>
        <p:blipFill>
          <a:blip r:embed="rId3"/>
          <a:stretch/>
        </p:blipFill>
        <p:spPr>
          <a:xfrm>
            <a:off x="7238880" y="4419720"/>
            <a:ext cx="1905120" cy="186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1" descr="E:\Documents and Settings\Admin\Мои документы\Мои рисунки\Изображение\53f2c2f77d9at.jpg"/>
          <p:cNvPicPr/>
          <p:nvPr/>
        </p:nvPicPr>
        <p:blipFill>
          <a:blip r:embed="rId4"/>
          <a:stretch/>
        </p:blipFill>
        <p:spPr>
          <a:xfrm>
            <a:off x="5715000" y="4191120"/>
            <a:ext cx="1676520" cy="2171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2"/>
          <p:cNvSpPr/>
          <p:nvPr/>
        </p:nvSpPr>
        <p:spPr>
          <a:xfrm>
            <a:off x="4952880" y="190512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3.50-1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5d465015f508"/>
          <p:cNvPicPr/>
          <p:nvPr/>
        </p:nvPicPr>
        <p:blipFill>
          <a:blip r:embed="rId1"/>
          <a:stretch/>
        </p:blipFill>
        <p:spPr>
          <a:xfrm>
            <a:off x="179280" y="189000"/>
            <a:ext cx="3529080" cy="3260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3581280" y="0"/>
            <a:ext cx="4572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В магазин мы сходим с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ол в квартире подмет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Чтобы легче было ма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Мы поможем ей во всём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52280" y="1522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6.30-18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E:\Documents and Settings\Admin\Мои документы\Мои рисунки\Изображение\00a613512fa5tи.jpg"/>
          <p:cNvPicPr/>
          <p:nvPr/>
        </p:nvPicPr>
        <p:blipFill>
          <a:blip r:embed="rId2"/>
          <a:srcRect l="0" t="0" r="0" b="11474"/>
          <a:stretch/>
        </p:blipFill>
        <p:spPr>
          <a:xfrm>
            <a:off x="6600960" y="4505400"/>
            <a:ext cx="2543040" cy="2352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E:\Documents and Settings\Admin\Рабочий стол\00a613512fa5t.jpg"/>
          <p:cNvPicPr/>
          <p:nvPr/>
        </p:nvPicPr>
        <p:blipFill>
          <a:blip r:embed="rId3"/>
          <a:srcRect l="0" t="0" r="0" b="11118"/>
          <a:stretch/>
        </p:blipFill>
        <p:spPr>
          <a:xfrm>
            <a:off x="6518160" y="1981080"/>
            <a:ext cx="2625840" cy="243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E:\Documents and Settings\Admin\Рабочий стол\51f16850823bt.jpg"/>
          <p:cNvPicPr/>
          <p:nvPr/>
        </p:nvPicPr>
        <p:blipFill>
          <a:blip r:embed="rId4"/>
          <a:srcRect l="0" t="0" r="0" b="9377"/>
          <a:stretch/>
        </p:blipFill>
        <p:spPr>
          <a:xfrm>
            <a:off x="228600" y="3352680"/>
            <a:ext cx="2371680" cy="221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E:\Documents and Settings\Admin\Рабочий стол\61e91ec0bb33t.jpg"/>
          <p:cNvPicPr/>
          <p:nvPr/>
        </p:nvPicPr>
        <p:blipFill>
          <a:blip r:embed="rId5"/>
          <a:srcRect l="0" t="0" r="0" b="12123"/>
          <a:stretch/>
        </p:blipFill>
        <p:spPr>
          <a:xfrm>
            <a:off x="3962520" y="2133720"/>
            <a:ext cx="2473200" cy="220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E:\Documents and Settings\Admin\Рабочий стол\f7d7d1f3b627t.jpg"/>
          <p:cNvPicPr/>
          <p:nvPr/>
        </p:nvPicPr>
        <p:blipFill>
          <a:blip r:embed="rId6"/>
          <a:srcRect l="0" t="0" r="0" b="9198"/>
          <a:stretch/>
        </p:blipFill>
        <p:spPr>
          <a:xfrm>
            <a:off x="2590920" y="4371840"/>
            <a:ext cx="2367000" cy="225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7:31:08Z</dcterms:created>
  <dc:creator>user</dc:creator>
  <dc:description/>
  <dc:language>en-US</dc:language>
  <cp:lastModifiedBy>user</cp:lastModifiedBy>
  <dcterms:modified xsi:type="dcterms:W3CDTF">2013-02-18T17:46:48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