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006-4BE6-4227-BA6F-53F546A3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F57-0792-468F-879E-40A67416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3AA-6B13-42FB-89D9-4C95284D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24C-2DAE-4031-8D3E-EE48F2BA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7A2E-C805-4AC1-9CDF-A9C5D83A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3D42-39CC-417F-AAAC-5100191D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5DE1-9C4A-4D7B-9504-84A596CF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DDE2-5304-455B-8EF8-4AA2D691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A12E-794A-49F2-BDCE-CB8D1F4B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CD97-80DB-43B2-8BD9-4A5C361D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3C35-7B9D-4325-BA7B-92666C32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F7E-AAA6-4AC2-8838-676ECD18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7CF0-53A8-434F-A5E6-130E7C8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42AC-A23F-4A00-B796-FD8B92C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EA55-0467-4AE4-A088-6944AAAE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FD21-37A5-4FB9-8BE6-0E987E0A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8F9C-9BBB-4855-90DF-001F5B00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417-B4BC-41F7-ABE3-8CD7063F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271-DAB6-413E-8546-7661B8B2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233-B5E3-4441-94B6-E2745C35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EDF-8F79-4028-A902-10685EDE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2EB-DB39-41AA-B5E2-E6923F5B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7F7-FE31-4A12-817A-6A3D7D1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8A7-C46E-4169-B441-2FBA7DFF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9c7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9c7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9c7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c7300"/>
                        </a:solidFill>
                        <a:ln w="9360">
                          <a:solidFill>
                            <a:srgbClr val="9c7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9c7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C694-E5E6-439A-AC96-EF6731D36E0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9c7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9c7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9c7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c7300"/>
                        </a:solidFill>
                        <a:ln w="9360">
                          <a:solidFill>
                            <a:srgbClr val="9c7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9c7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7A6F-EFA1-48BC-A2D4-E0CD8A60D63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ОДНИМ ИЗ БЛАГ ЦИВИЛИЗАЦИИ ЯВЛЯЕТСЯ СОТОВЫЙ ТЕЛЕФОН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3600" y="4365720"/>
            <a:ext cx="4453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ОДНИ СЧИТАЮТ ЕГО УДОБНЫМ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42920" y="5805360"/>
            <a:ext cx="662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ДЛЯ ТРЕТЬИХ – ЭТО ИНТЕРЕСНАЯ ИГРУШК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4360" y="5084640"/>
            <a:ext cx="8062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ДРУГИЕ, СЧИТАЮТ, ЧТО ОТ МОБИЛЬНИКА  ОДИН ВРЕД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" descr="Телефоны американской компании Motorola признаны самыми опасными с точки зрения уровня излучения"/>
          <p:cNvPicPr/>
          <p:nvPr/>
        </p:nvPicPr>
        <p:blipFill>
          <a:blip r:embed="rId1"/>
          <a:stretch/>
        </p:blipFill>
        <p:spPr>
          <a:xfrm>
            <a:off x="3132000" y="11970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24000" y="3429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О НЁМ СЕЙЧАС  МНОГО ГОВОРЯ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076720" y="2637000"/>
            <a:ext cx="2951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ослабление памяти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3933720"/>
            <a:ext cx="309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снижение внимания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5516640"/>
            <a:ext cx="8291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Verdana"/>
              </a:rPr>
              <a:t>снижение умственных и познавательных способностей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19640" y="119700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Verdana"/>
              </a:rPr>
              <a:t>раздражительность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141300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Verdana"/>
              </a:rPr>
              <a:t>нарушение сн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16360" y="1484280"/>
            <a:ext cx="316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Verdana"/>
              </a:rPr>
              <a:t>опухоль мозга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92360" y="404640"/>
            <a:ext cx="540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Verdana"/>
              </a:rPr>
              <a:t>«приобретенное слабоумие»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Удар молни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4681440" cy="31176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28576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Правила пользования телефоно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0320" y="6021360"/>
            <a:ext cx="72583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Если вы используете сотовый телефон в качестве будильник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оложите его подальше от голо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5084640"/>
            <a:ext cx="77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е используйте мобильный телефон в троллейбусах, трамвая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 лиф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8320" y="450864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е прижимайте телефон слишком сильно к ух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360" y="3933720"/>
            <a:ext cx="574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 звонке ждите, пока произойдет соедин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0240" y="3357720"/>
            <a:ext cx="5151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спользуйте гарнитуры или громкую связ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0360" y="2852640"/>
            <a:ext cx="7191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ократите до минимума разговоры в местах с плохой связ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7080" y="1989000"/>
            <a:ext cx="597816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спользуйте мобильный телефон как можно реж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говорите максимально коротко и быстр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6560" y="98100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е вешайте телефон на шею, не держите во внутреннем карма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ли в кармане брюк, положите его в сум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Правила телефонного этикет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200" y="5445000"/>
            <a:ext cx="78829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еобходимо выключать личный мобильный телефон в тех случаях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огда использование радиосвязи может подвергнуть 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жизнь других люд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0680" y="4149720"/>
            <a:ext cx="76636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ледует воздерживаться от использования мобильного телеф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о время управления транспорт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960" y="2637000"/>
            <a:ext cx="74761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еобходимо выключать телефон или переводить е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беззвучный режим на спектаклях, киносеансах, концертах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музеях и выставочных залах, во время церемоний и ритуа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4160" y="1268280"/>
            <a:ext cx="77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ыключайте телефон во время уроков, внеклассных мероприят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амоподготовки, тренировок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759040" cy="45306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39640" y="620640"/>
            <a:ext cx="518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товый телефон похож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гонь. Пока им пользуеш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ккуратно, соблюдаешь вс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авила, он приносит пользу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д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15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15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8229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cc0099"/>
                </a:solidFill>
                <a:latin typeface="Verdana"/>
              </a:rPr>
              <a:t>Влияние сотового телефона на организм подростка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Познакомиться с историей создания сотового телефона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692280"/>
            <a:ext cx="748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Цель работы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4365720"/>
            <a:ext cx="84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Дать рекомендации учащимся нашей школы по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использованию телефон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299736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Выяснить, как сотовый телефон влияет на здоровь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подростка и на сколько это опасно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8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568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Verdana"/>
              </a:rPr>
              <a:t>История сотового телефона началась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433680" y="322956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5543640" cy="34783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55640" y="1557360"/>
            <a:ext cx="7488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Verdana"/>
              </a:rPr>
              <a:t>в компании АТ&amp;Т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00720" y="692280"/>
            <a:ext cx="2087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Verdana"/>
              </a:rPr>
              <a:t>в 1947 году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Verdana"/>
              </a:rPr>
              <a:t>70-е годы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4038840" cy="3828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6800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3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800520" cy="4762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63640" y="692280"/>
            <a:ext cx="590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620640"/>
            <a:ext cx="302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1973 год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80000" y="620640"/>
            <a:ext cx="4176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город Нью-Йорк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1197000"/>
            <a:ext cx="6769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Инженер фирмы 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MOTOROLA 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Мартин Купер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763640" y="692280"/>
            <a:ext cx="590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19280" y="620640"/>
            <a:ext cx="604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телефон Dyna-Tac от компании Motorola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9481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rcRect l="26729" t="0" r="26888" b="0"/>
          <a:stretch/>
        </p:blipFill>
        <p:spPr>
          <a:xfrm>
            <a:off x="3635280" y="1413000"/>
            <a:ext cx="1873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897440" cy="36082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Verdana"/>
              </a:rPr>
              <a:t>«Дети, используя мобильный телефон, не в состоянии осознавать, что подвергают свой мозг воздействию электромагнитного поля, а здоровье — риску, — говорят ученые. — И этот риск ничуть не меньше, чем риск для здоровья от табака или алкоголя».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0:07:27Z</dcterms:created>
  <dc:creator>Милана</dc:creator>
  <dc:description/>
  <dc:language>en-US</dc:language>
  <cp:lastModifiedBy>User</cp:lastModifiedBy>
  <dcterms:modified xsi:type="dcterms:W3CDTF">2009-04-13T13:29:31Z</dcterms:modified>
  <cp:revision>69</cp:revision>
  <dc:subject/>
  <dc:title>Презентация PowerPoint</dc:title>
</cp:coreProperties>
</file>