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B76F-E9BF-488F-BA65-F0828C4F9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56EB-8FCB-4962-81A5-582DDA1A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C5CE-8F45-4BC4-B096-2304876D6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07AB-4781-462A-A116-585F9F4EE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2601-730A-4800-BDC8-67D838D5C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DD9A0-9C7A-4D18-B7C9-FEC4A0AA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E1DD-D1AC-45F8-B672-36125CA2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A3DD-58B6-4810-B768-C42F04E8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D2E9-5535-4C60-BCCC-30E200ED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14325-F366-4D8C-A10A-912FF84A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8705-8C48-452A-8FFE-B751BD3E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B256-1390-4CF9-9A4C-A8C53B4C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F6EF1-B4EF-4221-B49D-5095B572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A075-5B7D-412A-8E7D-3A7E3CE5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BDB4-4A31-4BE1-9A0A-5C49F2D6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E365-E921-4051-8525-CFDBD79E1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5857-78BD-4BA0-AD0B-D89E4779B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F7A3-A23E-41DF-821E-AEE0DD28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5119-28FD-4F22-9F53-9FE7D65B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9FBB-EF72-49F5-9DB8-B750718F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D835-B828-4D93-A029-E3146266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9F14-4AFD-4576-BB97-AFAEF220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06F0-1854-4882-875E-7E8E34A6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3769-7C7F-47B8-A173-7D66C775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7748-7075-459A-BE2B-71A908D27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D1B4-5D73-4836-A953-4AF396338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8.xm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" Target="slide25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6720" y="477720"/>
            <a:ext cx="8415360" cy="291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Всероссийский урок</a:t>
            </a: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4800"/>
            </a:b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«Конституции Российской Федерации 20 лет»</a:t>
            </a:r>
            <a:br>
              <a:rPr sz="4800"/>
            </a:b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(принята 12 декабря 1993 года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146640" y="3016080"/>
            <a:ext cx="2544840" cy="3841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980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СССР 1977 г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487044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2a51"/>
                </a:solidFill>
                <a:latin typeface="Arial"/>
              </a:rPr>
              <a:t>Эта конституция закрепляла однопартийную политическую систему (КПСС). Несмотря на распад СССР действовала на территории России до 1993 г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2a51"/>
                </a:solidFill>
                <a:latin typeface="Arial"/>
              </a:rPr>
              <a:t>Вошла в историю как «конституция развитого социализма» ил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«Брежневская конституция»</a:t>
            </a:r>
            <a:r>
              <a:rPr b="1" lang="ru-RU" sz="2200" spc="-1" strike="noStrike">
                <a:solidFill>
                  <a:srgbClr val="202a51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brezh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5724360" y="1628640"/>
            <a:ext cx="2368800" cy="32385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347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12 декабря 1993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Всенародны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голосованием (на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референдуме</a:t>
            </a: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) была принята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Конституция Российской Федерации</a:t>
            </a: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День Конституци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причислен к памятным датам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5435640" y="4221000"/>
            <a:ext cx="2925720" cy="22910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655308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0000"/>
                </a:solidFill>
                <a:latin typeface="Arial"/>
              </a:rPr>
              <a:t>К 15-летию Конституции</a:t>
            </a:r>
            <a:r>
              <a:rPr b="1" lang="ru-RU" sz="2600" spc="-1" strike="noStrike">
                <a:solidFill>
                  <a:srgbClr val="202a51"/>
                </a:solidFill>
                <a:latin typeface="Arial"/>
              </a:rPr>
              <a:t> в 2008 году Президент России </a:t>
            </a:r>
            <a:r>
              <a:rPr b="1" lang="ru-RU" sz="2600" spc="-1" strike="noStrike">
                <a:solidFill>
                  <a:srgbClr val="cc0000"/>
                </a:solidFill>
                <a:latin typeface="Arial"/>
              </a:rPr>
              <a:t>Дмитрий Медведев</a:t>
            </a:r>
            <a:r>
              <a:rPr b="1" lang="ru-RU" sz="2600" spc="-1" strike="noStrike">
                <a:solidFill>
                  <a:srgbClr val="202a51"/>
                </a:solidFill>
                <a:latin typeface="Arial"/>
              </a:rPr>
              <a:t> сказал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2204640"/>
            <a:ext cx="8332920" cy="33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202a51"/>
                </a:solidFill>
                <a:latin typeface="Arial"/>
              </a:rPr>
              <a:t>«12 декабря 1993 года в нашей стране впервые за её историю был принят принципиально новый Основной закон – такой Закон, который признал высшей ценностью </a:t>
            </a:r>
            <a:r>
              <a:rPr b="1" i="1" lang="ru-RU" sz="2600" spc="-1" strike="noStrike">
                <a:solidFill>
                  <a:srgbClr val="cc0000"/>
                </a:solidFill>
                <a:latin typeface="Arial"/>
              </a:rPr>
              <a:t>человека</a:t>
            </a:r>
            <a:r>
              <a:rPr b="1" i="1" lang="ru-RU" sz="2600" spc="-1" strike="noStrike">
                <a:solidFill>
                  <a:srgbClr val="202a51"/>
                </a:solidFill>
                <a:latin typeface="Arial"/>
              </a:rPr>
              <a:t>, его права и свободы, который установил </a:t>
            </a:r>
            <a:r>
              <a:rPr b="1" i="1" lang="ru-RU" sz="2600" spc="-1" strike="noStrike">
                <a:solidFill>
                  <a:srgbClr val="cc0000"/>
                </a:solidFill>
                <a:latin typeface="Arial"/>
              </a:rPr>
              <a:t>основы демократического порядка России</a:t>
            </a:r>
            <a:r>
              <a:rPr b="1" i="1" lang="ru-RU" sz="2600" spc="-1" strike="noStrike">
                <a:solidFill>
                  <a:srgbClr val="202a51"/>
                </a:solidFill>
                <a:latin typeface="Arial"/>
              </a:rPr>
              <a:t> и обязавший государство на деле соблюдать и защищать эти новые базовые ценности.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280px-Dmitry_Medvedev_official_large_photo_-5"/>
          <p:cNvPicPr/>
          <p:nvPr/>
        </p:nvPicPr>
        <p:blipFill>
          <a:blip r:embed="rId2"/>
          <a:stretch/>
        </p:blipFill>
        <p:spPr>
          <a:xfrm>
            <a:off x="6948360" y="333360"/>
            <a:ext cx="1565280" cy="18144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33440" y="1173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202a51"/>
                </a:solidFill>
                <a:latin typeface="Times New Roman"/>
              </a:rPr>
              <a:t> </a:t>
            </a:r>
            <a:r>
              <a:rPr b="1" lang="ru-RU" sz="3500" spc="-1" strike="noStrike">
                <a:solidFill>
                  <a:srgbClr val="cc0000"/>
                </a:solidFill>
                <a:latin typeface="Times New Roman"/>
              </a:rPr>
              <a:t>Конституция Российской Федерации</a:t>
            </a:r>
            <a:r>
              <a:rPr b="1" lang="ru-RU" sz="3500" spc="-1" strike="noStrike">
                <a:solidFill>
                  <a:srgbClr val="202a51"/>
                </a:solidFill>
                <a:latin typeface="Times New Roman"/>
              </a:rPr>
              <a:t>  - это </a:t>
            </a:r>
            <a:r>
              <a:rPr b="1" i="1" lang="ru-RU" sz="3500" spc="-1" strike="noStrike">
                <a:solidFill>
                  <a:srgbClr val="cc0000"/>
                </a:solidFill>
                <a:latin typeface="Times New Roman"/>
              </a:rPr>
              <a:t>основной закон</a:t>
            </a:r>
            <a:r>
              <a:rPr b="1" lang="ru-RU" sz="3500" spc="-1" strike="noStrike">
                <a:solidFill>
                  <a:srgbClr val="202a51"/>
                </a:solidFill>
                <a:latin typeface="Times New Roman"/>
              </a:rPr>
              <a:t> нашего государства, который имеет высшую юридическую силу, прямое действие и применяется на всей территории РФ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202a51"/>
                </a:solidFill>
                <a:latin typeface="Times New Roman"/>
              </a:rPr>
              <a:t> </a:t>
            </a:r>
            <a:r>
              <a:rPr b="1" lang="ru-RU" sz="3500" spc="-1" strike="noStrike">
                <a:solidFill>
                  <a:srgbClr val="cc0000"/>
                </a:solidFill>
                <a:latin typeface="Times New Roman"/>
              </a:rPr>
              <a:t>Все остальные законы не должны противоречить Конституции РФ.</a:t>
            </a:r>
            <a:r>
              <a:rPr b="1" lang="ru-RU" sz="3500" spc="-1" strike="noStrike">
                <a:solidFill>
                  <a:srgbClr val="202a51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0" y="390600"/>
            <a:ext cx="907416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Конституция Р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920" y="313920"/>
            <a:ext cx="90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Структура Конститу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992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Преамбу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Раздел перв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1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Основы конституционного строя (ст.1-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2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Права и свободы человека и гражданина (ст.17-6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3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Ф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едеративное устройство (ст.65-7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4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Президент Российской Федерации (ст.80-9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5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Федеральное собрание (ст.94-1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6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Правительство Российской Федерации (ст.110-1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7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Судебная власть (ст.118-12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8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Местное самоуправление (ст.130-13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9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Конституционные поправки и пересмо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                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конституции (ст.134-13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Раздел второй. Заключительные и переходные по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амбул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757520"/>
            <a:ext cx="903132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Мы, многонациональный народ Российской Федерации, соединё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ей судьбой на своей земле, утверждая права и свободы человека, граждан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ир и согласие, сохраняя исторически сложившееся государственное единств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ходя из общепризнанных принципов равноправия и самоопределения народов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тя память предков, передавших нам любовь и уважение к Отечеству, веру в добр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справедливость, возрождая суверенную государственность России и утвержд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зыблемость ее демократической основы, стремясь обеспечить благополучие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цветание России, исходя из ответственности за свою Родину перед нынешним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удущими поколениями, сознавая себя частью мирового сообщества, принима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КОНСТИТУЦИЮ РОССИЙСКОЙ ФЕДЕРАЦИ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44680" y="1773360"/>
            <a:ext cx="815976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Times New Roman"/>
              </a:rPr>
              <a:t>Человек, его права и свободы – высшая ценность по Конституции РФ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Times New Roman"/>
              </a:rPr>
              <a:t>Что такое права (свободы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80000"/>
              </a:lnSpc>
              <a:spcBef>
                <a:spcPts val="1400"/>
              </a:spcBef>
              <a:buClr>
                <a:srgbClr val="202a51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Times New Roman"/>
              </a:rPr>
              <a:t>Это возможность поступать по своему усмотрению или возможность получать определенные бла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80000"/>
              </a:lnSpc>
              <a:spcBef>
                <a:spcPts val="1400"/>
              </a:spcBef>
              <a:buClr>
                <a:srgbClr val="202a51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Times New Roman"/>
              </a:rPr>
              <a:t>Какими правами обладаете вы, ваши родители, друзь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34920" y="523800"/>
            <a:ext cx="907416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Конституция РФ о правах и свободах граждан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ll dir="r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920" y="523800"/>
            <a:ext cx="907416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Наши пра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Times New Roman"/>
              </a:rPr>
              <a:t>По Конституции нашей страны мы имеем право на жизнь, имеем право выбирать профессию, имеем право на отдых, жилье и медицинскую помощ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Times New Roman"/>
              </a:rPr>
              <a:t>Все люди равны перед законом, и каждого из нас защищает государство, через полицию и су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4920" y="293400"/>
            <a:ext cx="90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Наши своб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569440" cy="40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Times New Roman"/>
              </a:rPr>
              <a:t>Наши свободы – свобода слова, вероисповедания и совести и многие друг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Times New Roman"/>
              </a:rPr>
              <a:t>Все права и свободы, данные нам государством, не должны нарушать или ущемлять права и свободы других гражда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Times New Roman"/>
              </a:rPr>
              <a:t>Например, свобода слова – мы имеем право искать, собирать и распространять информацию, но не имеем права вмешиваться в личную жизнь других людей, разглашать государственную тай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0440" y="49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, кроме прав и свобод, прописано в нашей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Конституци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то наши 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обязанности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ие обязанности должны выполнять граждане нашей стран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ll dir="ru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«Горжусь, что я - Россиянин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.В. Сув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624120" y="3168720"/>
            <a:ext cx="2627280" cy="32036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нституция РФ об обязанностях человека и граждани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0760" y="1599840"/>
            <a:ext cx="88902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людать Конституцию и другие зак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тить налоги и сб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хранять природу и окружающую сре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щищать Отечество и нести воинскую служб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ботиться о детях и о нетрудоспособных родител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учить полное среднее обра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http://www.warnet.ru/img/books_ill/1005877985.jpg"/>
          <p:cNvPicPr/>
          <p:nvPr/>
        </p:nvPicPr>
        <p:blipFill>
          <a:blip r:embed="rId2"/>
          <a:stretch/>
        </p:blipFill>
        <p:spPr>
          <a:xfrm>
            <a:off x="0" y="0"/>
            <a:ext cx="90774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стное самоупр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76120" y="1600200"/>
            <a:ext cx="875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ком субъекте Федерации мы живе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называется глава нашей области? Какие города в ярославской области вы зна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называется глава нашего города? Какие еще органы власти есть в нашей области и в нашем город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Каково же значение Конституции РФ в жизни нашей страны? В жизни каждого из нас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Конституция нашего кла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6800" y="1173240"/>
            <a:ext cx="877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курс проектов Конституции нашего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е: в течение недели написать проект Конституции нашего класса. Можно пользоваться помощью родителей или работать над проектом в группе из 2-3 челов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цениваться будет содержание проекта Конституции класса, а также его оформ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бедитель получит </a:t>
            </a:r>
            <a:r>
              <a:rPr b="0" lang="ru-RU" sz="2800" spc="-1" strike="noStrike" u="sng">
                <a:solidFill>
                  <a:srgbClr val="6379ce"/>
                </a:solidFill>
                <a:uFillTx/>
                <a:latin typeface="Arial"/>
                <a:hlinkClick r:id="rId2" action="ppaction://hlinksldjump"/>
              </a:rPr>
              <a:t>дипл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и его проект ляжет в основу Конституции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окончании конкурса проектов будет голосование - референду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970600" y="4983120"/>
            <a:ext cx="2695680" cy="18748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Возможная структура Конституции клас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7320" y="1628280"/>
            <a:ext cx="5413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амб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а и свободы учащихся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язанности учащихся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ктив учащихся и проведение выборов в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ституционные поправки и пересмотр Конституции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5613480" y="1538280"/>
            <a:ext cx="2909880" cy="46576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360" y="1989000"/>
            <a:ext cx="9144000" cy="17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Успехов в </a:t>
            </a:r>
            <a:br>
              <a:rPr sz="5400"/>
            </a:b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учебном году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ll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rcRect l="3162" t="13306" r="65663" b="31418"/>
          <a:stretch/>
        </p:blipFill>
        <p:spPr>
          <a:xfrm>
            <a:off x="4307040" y="0"/>
            <a:ext cx="483696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>
            <a:hlinkClick r:id="rId3" action="ppaction://hlinksldjump"/>
          </p:cNvPr>
          <p:cNvSpPr/>
          <p:nvPr/>
        </p:nvSpPr>
        <p:spPr>
          <a:xfrm>
            <a:off x="260280" y="42591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ef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95160" y="3417840"/>
            <a:ext cx="6886800" cy="14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Что такое конституц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http://www.spohelp.ru/photos/0003/0533/d_konst.jpg"/>
          <p:cNvPicPr/>
          <p:nvPr/>
        </p:nvPicPr>
        <p:blipFill>
          <a:blip r:embed="rId2"/>
          <a:stretch/>
        </p:blipFill>
        <p:spPr>
          <a:xfrm>
            <a:off x="2692440" y="223920"/>
            <a:ext cx="6121440" cy="30812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63440" y="136440"/>
            <a:ext cx="8980560" cy="39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Любая конституция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 – это основной закон страны, который закрепля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02a5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основы государственного стро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02a5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права и свободы человека и граждани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02a5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основы общественного стро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02a5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форму правления и территориального устройств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02a5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организацию высших органов государственной влас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02a5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столицу государства и государственную символику.</a:t>
            </a:r>
            <a:r>
              <a:rPr b="0" lang="ru-RU" sz="2800" spc="-1" strike="noStrike">
                <a:solidFill>
                  <a:srgbClr val="202a5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24280" y="5246640"/>
            <a:ext cx="5319720" cy="14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е еще законы, кроме Конституции, есть в нашей стран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94800" y="3417840"/>
            <a:ext cx="7937640" cy="14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Как вы думаете, сколько было конституций в истории нашей стран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http://www.spohelp.ru/photos/0003/0533/d_konst.jpg"/>
          <p:cNvPicPr/>
          <p:nvPr/>
        </p:nvPicPr>
        <p:blipFill>
          <a:blip r:embed="rId2"/>
          <a:stretch/>
        </p:blipFill>
        <p:spPr>
          <a:xfrm>
            <a:off x="2692440" y="223920"/>
            <a:ext cx="6121440" cy="30812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323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История Конституции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8760" y="1296720"/>
            <a:ext cx="66117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18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РСФ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24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36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77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93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100480" y="4156200"/>
            <a:ext cx="4043520" cy="27018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6920" y="256680"/>
            <a:ext cx="7961400" cy="126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РСФСР 1918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г.</a:t>
            </a:r>
            <a:r>
              <a:rPr b="1" lang="ru-RU" sz="4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39440" y="1444320"/>
            <a:ext cx="529596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Конституция 1918 г</a:t>
            </a:r>
            <a:r>
              <a:rPr b="1" lang="en-US" sz="2000" spc="-1" strike="noStrike">
                <a:solidFill>
                  <a:srgbClr val="202a51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 закрепила диктатуру пролетариа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Лица, жившие на нетрудовые доходы или использовавшие наемный труд были лишены политических пра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Данная Конституция была </a:t>
            </a: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самой идеологизированной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 из всех советских конституц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Она утратила силу в связи с принятием Конституции 1924</a:t>
            </a:r>
            <a:r>
              <a:rPr b="1" lang="en-US" sz="20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220px-Обложка_Конституции_РСФСР_1918_года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6156360" y="1484280"/>
            <a:ext cx="2539800" cy="3706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5352840" cy="121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СССР 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1924 г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26680" y="2639520"/>
            <a:ext cx="824076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В 1922 года I съезд Советов СССР утвердил Договор об образовании СССР. Договор подписали четыре республики: Россия, Украина, Белоруссия и Закавказье (в состав которой входили Грузия, Армения, Азербайджан). Каждая из республик уже имела свою конституцию. Съезд принял решение о разработке общесоюзной конституции. 1924 года Конституция была единогласно принята II съездом Сов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ussr"/>
          <p:cNvPicPr/>
          <p:nvPr/>
        </p:nvPicPr>
        <p:blipFill>
          <a:blip r:embed="rId2"/>
          <a:stretch/>
        </p:blipFill>
        <p:spPr>
          <a:xfrm>
            <a:off x="6369120" y="210960"/>
            <a:ext cx="2262240" cy="23180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5480" y="379080"/>
            <a:ext cx="52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СССР 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1936 г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694480" cy="28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02a51"/>
                </a:solidFill>
                <a:latin typeface="Arial"/>
              </a:rPr>
              <a:t>Неофициальное название: </a:t>
            </a:r>
            <a:r>
              <a:rPr b="1" lang="ru-RU" sz="2600" spc="-1" strike="noStrike">
                <a:solidFill>
                  <a:srgbClr val="cc0000"/>
                </a:solidFill>
                <a:latin typeface="Arial"/>
              </a:rPr>
              <a:t>«Сталинская конституция»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600" spc="-1" strike="noStrike">
                <a:solidFill>
                  <a:srgbClr val="202a51"/>
                </a:solidFill>
                <a:latin typeface="Arial"/>
              </a:rPr>
              <a:t> В работе над текстом конституции непосредственно принимал участие И.В. Сталин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0_1c0d6_199e7891_XL"/>
          <p:cNvPicPr/>
          <p:nvPr/>
        </p:nvPicPr>
        <p:blipFill>
          <a:blip r:embed="rId2"/>
          <a:stretch/>
        </p:blipFill>
        <p:spPr>
          <a:xfrm>
            <a:off x="6000840" y="438120"/>
            <a:ext cx="2766960" cy="40114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5"/>
          <p:cNvSpPr/>
          <p:nvPr/>
        </p:nvSpPr>
        <p:spPr>
          <a:xfrm>
            <a:off x="3564000" y="4724280"/>
            <a:ext cx="560376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Конституция 1936 года по замыслу авторов должна была отразить важный этап в истории Советского государства – построение социализма. В ее обсуждении впервые участвовало 75 млн. ч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10:35:24Z</dcterms:created>
  <dc:creator>1</dc:creator>
  <dc:description/>
  <dc:language>en-US</dc:language>
  <cp:lastModifiedBy>1</cp:lastModifiedBy>
  <dcterms:modified xsi:type="dcterms:W3CDTF">2013-09-11T12:37:50Z</dcterms:modified>
  <cp:revision>52</cp:revision>
  <dc:subject/>
  <dc:title>Слайд 1</dc:title>
</cp:coreProperties>
</file>