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6E1-5D9D-46F1-B9B0-4E86A0AD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DF0-4B7B-43A2-824E-850CB278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DF3-5AD1-4364-A194-B802D406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B87-6883-45DA-8173-06F2EA2F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455B-8C09-4671-92A7-F6361E44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9C4E-F015-4A21-97FF-9A3A20B1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C55A-9CC0-42AA-B0C7-D36F2D1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7556-8A4D-4504-B30A-8CAB08D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11B2-A017-41A5-A4F4-DB38DDDC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C63B-5620-4E2A-8F36-43402086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5BF1-6376-46FA-A678-080CA74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506-2B2A-408C-863C-947E61F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F13F-D13D-4057-9A6B-78D786D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018-7D7A-45CE-BEF2-C515479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88C-A96B-4565-9E26-61EC9FE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9657-DDB4-42AB-BE6B-818C626D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EE9-D5D5-42C4-B544-A43FF1DB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930-AD62-43BF-90B6-9DBF859A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F98-8372-4470-9793-5FD4216C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55E-ED88-4816-A595-17281DE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35F-2E27-446F-AAB9-CC33C8DE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87C-08C9-44BF-95CE-BACC452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5EF-B68D-4DB9-9615-13E057D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C9A-7D4B-419F-9382-8C36A51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804-C3FB-48FC-80E2-99F8838E3AF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DA82-3BB5-481A-AB4D-14626A1FD0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68561925_65"/>
          <p:cNvPicPr/>
          <p:nvPr/>
        </p:nvPicPr>
        <p:blipFill>
          <a:blip r:embed="rId1"/>
          <a:stretch/>
        </p:blipFill>
        <p:spPr>
          <a:xfrm>
            <a:off x="250920" y="765000"/>
            <a:ext cx="8497800" cy="5112000"/>
          </a:xfrm>
          <a:prstGeom prst="rect">
            <a:avLst/>
          </a:prstGeom>
          <a:ln w="0">
            <a:noFill/>
          </a:ln>
        </p:spPr>
      </p:pic>
      <p:pic>
        <p:nvPicPr>
          <p:cNvPr id="89" name="ot_geroev_bilih_vremen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03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таршинов Павел Ермолае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539640" y="1827360"/>
            <a:ext cx="3745080" cy="404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3 февраля в 190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41 году пошёл 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фронте был шофё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«За взятие Берли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билейные мед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ot_geroev_bilih_vremen.mp3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103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азорёнов Сергей Павл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468360" y="1700280"/>
            <a:ext cx="3382920" cy="3744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6 июля 1927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шёл боевой путь от г. Ту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 Китая. воевал в войне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понией, в составе 333-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елкового пол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чиком, звание -  ряд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гра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даль«За победу над Германи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билейные меда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ot_geroev_bilih_vremen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1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епцов Алексей Иван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468360" y="1600200"/>
            <a:ext cx="3672000" cy="420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в 1925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войны прошёл 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ями от г. Бикина до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о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аль «За победу над Германи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аль «За победу над Японией»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билейные мед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ot_geroev_bilih_vremen.mp3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103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лезнёв Пётр Павл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468360" y="1600200"/>
            <a:ext cx="3743280" cy="406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12 июля 1926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шёл очень сложны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ый путь от Москвы до Берл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ужил в танковских войсках, звание – старш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аль «За Боевые заслуг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аль «За взятие Варшав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аль «За взятие Берлин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ot_geroev_bilih_vremen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103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омин Егор Федот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539640" y="1600200"/>
            <a:ext cx="3527640" cy="4205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лся в 1914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1941 г. служил в 40-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енитно-прожектор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ку на обороне Москв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5 мая 1943 г. по 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943 г. в радиоконтро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нкте № 4 старш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офё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аль «За победу над Германи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Юбилейные меда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ot_geroev_bilih_vremen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103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обряков Василий Захар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539640" y="1600200"/>
            <a:ext cx="3745080" cy="3989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одился 26 апреля 1912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чал воевать на Кур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ге: Новосильск -Верхов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рнов, в особой полк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оте в отделении из 3-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ловек. Участник проры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ороны на Курской дуге.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943 г. был ранен и потеря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о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ден Славы 3 степени – за прорыв п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рс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даль за Победу над Герман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Юбилейные Меда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ot_geroev_bilih_vremen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103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Андреев Егор Алексее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468360" y="1600200"/>
            <a:ext cx="3672000" cy="3773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дился в 1918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ужбу в рядах Совет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мии начал с 1938 г. по1946г. 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мя войны служил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балтийском военном округ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ание-ефрей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аль«За победу над Германи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а доблесть и отвагу в Великой Отечественной войне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билейные меда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ot_geroev_bilih_vremen.mp3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3103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фон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мофей Серге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ирюх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силий Семё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яб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гей Дмитри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юх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силий Борис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убарё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митрий Ив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вк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ван Ив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ф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дрей Алексе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естопа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силий Стеф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естопа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вел Пиме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ot_geroev_bilih_vremen.mp3" descr=""/>
          <p:cNvPicPr/>
          <p:nvPr/>
        </p:nvPicPr>
        <p:blipFill>
          <a:blip r:embed="rId1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3103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1210329615_9_"/>
          <p:cNvPicPr/>
          <p:nvPr/>
        </p:nvPicPr>
        <p:blipFill>
          <a:blip r:embed="rId1"/>
          <a:stretch/>
        </p:blipFill>
        <p:spPr>
          <a:xfrm>
            <a:off x="5092560" y="1778040"/>
            <a:ext cx="4051440" cy="507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Отсканировано 25"/>
          <p:cNvPicPr/>
          <p:nvPr/>
        </p:nvPicPr>
        <p:blipFill>
          <a:blip r:embed="rId2"/>
          <a:stretch/>
        </p:blipFill>
        <p:spPr>
          <a:xfrm>
            <a:off x="0" y="0"/>
            <a:ext cx="5651640" cy="4292640"/>
          </a:xfrm>
          <a:prstGeom prst="rect">
            <a:avLst/>
          </a:prstGeom>
          <a:ln w="0">
            <a:noFill/>
          </a:ln>
        </p:spPr>
      </p:pic>
      <p:pic>
        <p:nvPicPr>
          <p:cNvPr id="155" name="ot_geroev_bilih_vremen.mp3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3103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20080510-07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826920" y="692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ЕЧНАЯ ПАМЯ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metronom1.mp3" descr=""/>
          <p:cNvPicPr/>
          <p:nvPr/>
        </p:nvPicPr>
        <p:blipFill>
          <a:blip r:embed="rId2"/>
          <a:stretch/>
        </p:blipFill>
        <p:spPr>
          <a:xfrm>
            <a:off x="111600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1038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блонцев Иосиф Павлович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21 сентября 1914 г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шёл  боевой путь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инграда до Берли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44г. Был ране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ходился в госпита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ГР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аль «За отвагу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За победу над Германи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Отсканировано 06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ot_geroev_bilih_vreme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103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син Михаил Дмитрие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1924 г.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ревне  Анн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 боевой пу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меновал с г. Брян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ужил в пулемё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с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гр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30 лет со дня побед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60 лет со дня побед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539640" y="1557360"/>
            <a:ext cx="3672000" cy="4535640"/>
          </a:xfrm>
          <a:prstGeom prst="rect">
            <a:avLst/>
          </a:prstGeom>
          <a:ln w="0">
            <a:noFill/>
          </a:ln>
        </p:spPr>
      </p:pic>
      <p:pic>
        <p:nvPicPr>
          <p:cNvPr id="98" name="ot_geroev_bilih_vremen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103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артышев Пётр Афанасье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395280" y="1557360"/>
            <a:ext cx="381636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лся в 192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1943 г. пошёл на фр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аствовал в боях в Кур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ласти. Служил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ханизированных войск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ртиллерии, работал шофё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ден Славы третей степени 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аль «За боевые заслуг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аль «За отваг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аль «За победу над Германи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t_geroev_bilih_vremen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103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злов Владимир Петр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лся в 1925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1943 г. пошёл на фрон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енный путь начал с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лы. Служил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елковых войсках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даль «За победу н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рмани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билейные мед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11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раев Дмитрий Гаврилович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лся в 1924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 фронт пошел в 1943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аствовал в боях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вобождение Белорусси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ьши, Чехословакии, Венг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 фронтовым разведчи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ден Славы 3-ей степен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ден Славы 2-ой степен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аль «За захват немецкого офицер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Отсканировано 06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4753080"/>
          </a:xfrm>
          <a:prstGeom prst="rect">
            <a:avLst/>
          </a:prstGeom>
          <a:ln w="0">
            <a:noFill/>
          </a:ln>
        </p:spPr>
      </p:pic>
      <p:pic>
        <p:nvPicPr>
          <p:cNvPr id="109" name="ot_geroev_bilih_vremen.mp3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103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Антонов Алексей Иль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396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лся в 1923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ужил в отде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требительском противотанков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ивизионе. Военный путь нач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 января 1943г. По 9 мая 1945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 командиром оруд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аль«За победу над Германи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Юбилейные мед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ot_geroev_bilih_vremen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103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арев Иван Иван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3887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7 октября в 1920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40 году был призван в ря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тской Арм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ание – рядо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гр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аль «За победу над Германи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билейные мед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ot_geroev_bilih_vremen.mp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103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окин Иван Петро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4" descr="Отсканировано 08"/>
          <p:cNvPicPr/>
          <p:nvPr/>
        </p:nvPicPr>
        <p:blipFill>
          <a:blip r:embed="rId1"/>
          <a:stretch/>
        </p:blipFill>
        <p:spPr>
          <a:xfrm>
            <a:off x="539640" y="1914480"/>
            <a:ext cx="3600720" cy="3746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12 июля в 1919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фронт пошёл в 1941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ужил 7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град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аль «За оборону Ленингра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аль «За победу над Япони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ot_geroev_bilih_vremen.mp3" descr=""/>
          <p:cNvPicPr/>
          <p:nvPr/>
        </p:nvPicPr>
        <p:blipFill>
          <a:blip r:embed="rId2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103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1:24:29Z</dcterms:created>
  <dc:creator>USER</dc:creator>
  <dc:description/>
  <dc:language>en-US</dc:language>
  <cp:lastModifiedBy>user</cp:lastModifiedBy>
  <dcterms:modified xsi:type="dcterms:W3CDTF">2013-10-01T09:26:24Z</dcterms:modified>
  <cp:revision>3</cp:revision>
  <dc:subject/>
  <dc:title>Слайд 1</dc:title>
</cp:coreProperties>
</file>