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941-8307-4D5A-8CB4-39125B7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105-C0BC-4A2B-ABAC-5F70AE79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E5E-012E-4A76-AD22-C1FC01D4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53E-EB90-4443-B020-D77217E6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22F-F7F6-4B10-8FC4-D216BF2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49D-36C0-48CF-9B95-392D133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EBE-7487-4314-A5BF-93BE98D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176-89D6-4D22-A3B9-4AE2AABB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FBF-84C1-4FBC-BB66-17D90E8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25D-E1A9-49F8-9310-643E542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5CE-09C9-4E42-8231-0DB8081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014-BA9A-427F-9E9D-CCD4586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E107-18AA-4202-892A-68CCA3F89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42884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ждый педагогический прием – это нить,</a:t>
            </a:r>
            <a:br>
              <a:rPr sz="2000"/>
            </a:b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которая, переплетаясь, </a:t>
            </a:r>
            <a:br>
              <a:rPr sz="2000"/>
            </a:b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кладывается в нечто целое, в систему.   </a:t>
            </a:r>
            <a:br>
              <a:rPr sz="2000"/>
            </a:b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Анатолий Г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785600"/>
            <a:ext cx="8715600" cy="478620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азвитие критиче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ышления через чтение и письм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40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«Верные и неверные утверждения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ф.jpeg"/>
          <p:cNvPicPr/>
          <p:nvPr/>
        </p:nvPicPr>
        <p:blipFill>
          <a:blip r:embed="rId2"/>
          <a:stretch/>
        </p:blipFill>
        <p:spPr>
          <a:xfrm>
            <a:off x="706320" y="281160"/>
            <a:ext cx="1658880" cy="129852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7"/>
          <p:cNvSpPr/>
          <p:nvPr/>
        </p:nvSpPr>
        <p:spPr>
          <a:xfrm>
            <a:off x="3643200" y="5214960"/>
            <a:ext cx="5072040" cy="11430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кидина Наталья Пет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КОУСОШ № 5   пгт. Сибирц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исание прие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ем «Верные и неверные  утверждения» используется на стадии вызова с целью мотивации    предстоящей деятельности  и подготовки учащихся к выполнению последующей работы. В начале урока учитель зачитывает утверждения, которые нужно оценить как верные или неверные и обосновать свои решения. Информация, полученная на первой стадии выслушивается, записывается, обсуждается. Работа ведется  индивидуально, в парах,  в группах. Можно каждой группе для обсуждения предложить по 2–3 во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25.gif"/>
          <p:cNvPicPr/>
          <p:nvPr/>
        </p:nvPicPr>
        <p:blipFill>
          <a:blip r:embed="rId2"/>
          <a:stretch/>
        </p:blipFill>
        <p:spPr>
          <a:xfrm>
            <a:off x="785880" y="214200"/>
            <a:ext cx="1071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42884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спользование приема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на уроке русского языка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в 4-ом классе (УМК «Планета Знаний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20" y="1785960"/>
            <a:ext cx="8501040" cy="485784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ма урока: «Спряжение глагол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 детей на столах лежат карточки с изображением таблицы. Цифрами указан № вопроса. Я задаю вопросы по теме «Части речи. Глагол», а обучающиеся обсуждают ответы в группах. Если согласны, то ставят «+», если не согласны «-», если  возникает спор,  обводят этот номер в кружок. Затем группы последовательно отвечают на вопросы для всего класс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19d052b0ff1b14d706dfbfc38b8f0508.gif"/>
          <p:cNvPicPr/>
          <p:nvPr/>
        </p:nvPicPr>
        <p:blipFill>
          <a:blip r:embed="rId2"/>
          <a:stretch/>
        </p:blipFill>
        <p:spPr>
          <a:xfrm>
            <a:off x="714240" y="428760"/>
            <a:ext cx="97488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85880" y="5429160"/>
          <a:ext cx="7715160" cy="118908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480"/>
                <a:gridCol w="771480"/>
                <a:gridCol w="771480"/>
                <a:gridCol w="771840"/>
                <a:gridCol w="771480"/>
                <a:gridCol w="771480"/>
                <a:gridCol w="771480"/>
                <a:gridCol w="77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030320" y="476280"/>
            <a:ext cx="3017880" cy="23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023840" y="3475080"/>
            <a:ext cx="3041640" cy="23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5284800" y="476280"/>
            <a:ext cx="3116160" cy="23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5315040" y="3475080"/>
            <a:ext cx="3085920" cy="2303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071720" y="2857680"/>
            <a:ext cx="7286400" cy="489960"/>
          </a:xfrm>
          <a:prstGeom prst="rect">
            <a:avLst/>
          </a:prstGeom>
          <a:solidFill>
            <a:srgbClr val="ebf1de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ответов в груп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71720" y="5857920"/>
            <a:ext cx="7286400" cy="885960"/>
          </a:xfrm>
          <a:prstGeom prst="rect">
            <a:avLst/>
          </a:prstGeom>
          <a:solidFill>
            <a:srgbClr val="ebf1de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выясняют,  какие  из утверждений были верн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91192.jpg"/>
          <p:cNvPicPr/>
          <p:nvPr/>
        </p:nvPicPr>
        <p:blipFill>
          <a:blip r:embed="rId6"/>
          <a:stretch/>
        </p:blipFill>
        <p:spPr>
          <a:xfrm>
            <a:off x="142920" y="142920"/>
            <a:ext cx="1285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07172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400" y="1714680"/>
            <a:ext cx="8358120" cy="4929120"/>
          </a:xfrm>
          <a:prstGeom prst="rect">
            <a:avLst/>
          </a:prstGeom>
          <a:solidFill>
            <a:srgbClr val="ebf1de"/>
          </a:solidFill>
          <a:ln w="57240">
            <a:solidFill>
              <a:srgbClr val="f7964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анный прием дает возможность быстро включить детей в мыслительную деятельность и логично перейти к изучению темы уро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Формируе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9537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ение оценивать ситуацию или факт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9537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ение анализировать информаци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9537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ение отражать свое мнени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6" descr="яяя.jpeg"/>
          <p:cNvPicPr/>
          <p:nvPr/>
        </p:nvPicPr>
        <p:blipFill>
          <a:blip r:embed="rId2"/>
          <a:stretch/>
        </p:blipFill>
        <p:spPr>
          <a:xfrm>
            <a:off x="714240" y="285840"/>
            <a:ext cx="1285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06:55:44Z</dcterms:created>
  <dc:creator>Admin</dc:creator>
  <dc:description/>
  <dc:language>en-US</dc:language>
  <cp:lastModifiedBy>Admin</cp:lastModifiedBy>
  <dcterms:modified xsi:type="dcterms:W3CDTF">2012-02-09T13:12:11Z</dcterms:modified>
  <cp:revision>64</cp:revision>
  <dc:subject/>
  <dc:title>Слайд 1</dc:title>
</cp:coreProperties>
</file>