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  <p:custShowLst>
    <p:custShow name="По наличию черешка" id="0">
      <p:sldLst>
        <p:sld r:id="rId10"/>
      </p:sldLst>
    </p:custShow>
    <p:custShow name="По количеству листовых пластино" id="1">
      <p:sldLst>
        <p:sld r:id="rId11"/>
      </p:sldLst>
    </p:custShow>
    <p:custShow name="Сложные листья" id="2">
      <p:sldLst>
        <p:sld r:id="rId12"/>
      </p:sldLst>
    </p:custShow>
    <p:custShow name="Форма листовой пластинки" id="3">
      <p:sldLst>
        <p:sld r:id="rId13"/>
      </p:sldLst>
    </p:custShow>
    <p:custShow name="Форма края листовой пластинки" id="4">
      <p:sldLst>
        <p:sld r:id="rId14"/>
      </p:sldLst>
    </p:custShow>
    <p:custShow name="Жилкование листьев" id="5">
      <p:sldLst>
        <p:sld r:id="rId15"/>
      </p:sldLst>
    </p:custShow>
    <p:custShow name="Видоизменения листьев" id="6">
      <p:sldLst>
        <p:sld r:id="rId16"/>
      </p:sldLst>
    </p:custShow>
    <p:custShow name="Основной" id="7">
      <p:sldLst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custShow i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4C91-7020-4A04-958B-C2F63E219D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C780-26D2-4F67-B4A4-6163780CFE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удобства работы текст (заметки к слайдам) лучше распечата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йл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чать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чатать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Заме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более долгий путь, но с лучшим результатом (возможно, придется изменять шрифт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йл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править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Office Word …, далее выбираете удобный для Вас вариант, правите в Word и там же распечатыва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ловные обозначения в заметках к слай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мерованный список – последовательность анимационных эффектов, применённых к слай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черкнутый текст – гиперссыл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EAD4-54F0-490D-BDA5-2FBAB6613E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ья различных растений отличаются друг от друга формой края листовой пластин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нокрайняя – край листа ровный. Кувшинка, кофейное дере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ильчатая – край листовой пластинки имеет скошенные зазубринки. Крапива, рябина, сны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Зубчатая – зубчики похожи на равнобедренные треугольнички. Манже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3F74-D56C-4D33-82A4-4768588005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еперь давай приглядимся к разным листьям еще внимательнее. Можно даже рассмотреть их на свет. Ты, наверное, уже догадываешься, о чем пойдет речь! Конечно, о том замечательном кружевном узоре, который образован жилками листа. Он называется жилкованием лис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ходилось ли тебе находить в лесу на земле прошлогодний лист осины? Это удивительное кружевное чудо! Все мягкие ткани листа сгнили за зиму. Осталась только тончайшая сеточка из более прочных жилок. Такое жилкование называется сетчат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еперь поднеси к свету лист клена. Ты видишь, что крупные жилки расходятся из одной точки у черешка? Это пальчатое жилк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м еще один лист. Пусть это будет подорожник или ландыш. Видишь, все жилки, кроме центральной, изогнуты, как дуги? Это жилкование называется дугов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911B-EF05-4B79-AE52-F1F661B812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нешнего строения листьев называется их видоизменением. Оно связано с тем, что лист выполняет не свойственные ему обычно функции, приспосабливаясь к условиям среды об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 на колючий кактус. Где его листья? Они превратились в сухие жесткие колючки, чтобы меньше испарять воду. Ведь кактусы растут в очень засушливых райо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у гороха верхние листовые пластинки перистосложного листа стали цепкими изящными ус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от совсем удивительные листья. Они умеют ловить и поедать животных. Перед тобой росянка. Это растение – хищник. Видишь, листья росянки покрыты волосками, выделяющими капельки особого клейкого вещества? Усевшись на такой листок, насекомое просто-напросто приклеивается к нему. Тогда листочек начинает сжиматься, крепко "обняв" свою жертву. Когда лист вновь раскроется, на листочке остаются лишь крылышки да лапки бывшей мухи. Все мягкие ткани насекомого росянка переваривает и всасыв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D7D5-BAD2-4E29-A724-4A3FCB206A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ей частью побега являются листья. Ты, наверное, уже знаешь, насколько разными они бывают. Давай постараемся разобраться в их разнообразии. Мы рассмотрим, как в листьях могут располагаться жилки, увидим листья простые и слож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223A-C364-4C74-9F16-D4DEEC5145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ист раст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часть листа обычно плоская и расширенная. Ее называют листовой пластин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листовой пластинки у большинства листьев отходит черешок. Он гораздо уже листовой пластинки и похож на стебелек. Черешок может менять свое положение в пространстве, поворачивая при этом и листовую пластинку. Особенно хорошо это видно, когда листья колышутся даже при легком ветре. Именно благодаря черешку лист может поворачивать свою листовую пластинку к свету так, чтобы на нее попадало как можно больше солнечных луч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прикрепления черешка к стеблю всегда немного расширено. Это основание л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9E90-E711-43F4-A456-A40038C46B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-ка на лист клевера. Что это? У основания листа, плотно прижавшись с двух сторон к черешку, притаились два маленьких листочка. Это тоже часть листа. Такие выросты у основания листа называются прилистниками. Они могут иметь очень разную форму и окраску. Прилистники встречаются не у всех листь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38CB-4DBA-4897-9BD4-9D38090FEC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ья очень разнообразны и по форме, и по стро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ья можно разделить по следующим признак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ю или отсутствию череш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у листовых пластинок, прикрепленных к черешк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е листовой пластин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е края листовой пластин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кованию листье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оизменениям листь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6D34-16D7-4F67-B060-44EEA21FFB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наличию или отсутствию черешка листья делятся на черешковые и сидяч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, тебе приходилось видеть, что у некоторых растений листовая пластинка "сидит" на стебле безо всякого черешка. Такие листья и называются сидячими. Сидячие листья можно увидеть у гвоздики, льна, пшеницы, традеска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ния, у которых есть черешок, называются черешков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9C83-C7FD-46F2-9B19-9AA5A8F5E0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еперь сравни листья березы и рябины. Смотри: лист березы имеет одну листовую пластинку, а у листа рябины их одиннадцать. Да-да! Это не веточка, а всего-то один лист. Приглядись, листовые пластинки рябины сидят не на стебле, а на черешке, ведь у его основания ты видишь прилист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ья, имеющие одну листовую пластинку, называются простыми. Лист березы – прост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ья, на черешке которых находится несколько листовых пластинок, – сложные. Лист рябины – сложны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887B-189C-4F6D-8CFE-BB28FC07EC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ые листья тоже бывают очень раз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отри: у рябины листовые пластинки расположились в два ряда по обе стороны черешка. Правда, это чем-то напоминает перышко? Такой лист называется перистослож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листа люпина листовые пластинки прикреплены как бы в одной точке на верхушке черешка. Они похожи на растопыренные пальчики. Вот и называется такой лист пальчатослож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1B4F-462C-41AE-9608-274932BD36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листовых пластинок, как у простых, так и у сложных листьев, разнообраз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глая. Встречается у кувшинки, ос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ейная. Такие листья у гладиолуса, тимофеев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йцевидная. У жасмина, крапивы, кофейного дере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ланцетные листья имеет ландыш, хо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77C4-4BC5-4C6B-9B48-C1E72B46C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172040"/>
            <a:ext cx="8686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8EC9F-9F13-43E0-910F-3802D38DA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172040"/>
            <a:ext cx="42390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172040"/>
            <a:ext cx="42390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4EEE9-60D3-4B2A-8BE1-871F19CC4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172040"/>
            <a:ext cx="27968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172040"/>
            <a:ext cx="27968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172040"/>
            <a:ext cx="27968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1195-AC5F-4FDC-B3AC-84B83D7A6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28600" y="4172040"/>
            <a:ext cx="42390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6811E-892D-43AC-8041-EE952B1A3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0000" y="4172040"/>
            <a:ext cx="42390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72040"/>
            <a:ext cx="8686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8600" y="4172040"/>
            <a:ext cx="8686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172040"/>
            <a:ext cx="42390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0000" y="4172040"/>
            <a:ext cx="42390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28600" y="4172040"/>
            <a:ext cx="27968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5840" y="4172040"/>
            <a:ext cx="27968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2720" y="4172040"/>
            <a:ext cx="27968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8C1FC-B443-4CE7-96BC-625902E01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F0F15-A0DA-4E21-BB24-2AEC2E57C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8FDE-51F6-49BC-8988-BCE50F42B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5C96F-447A-4D20-91A9-BC177270F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172040"/>
            <a:ext cx="42390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EAD9D-688D-4CDD-BB5D-7D92AAC7E9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172040"/>
            <a:ext cx="42390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6C3E-3E82-4891-B713-53AC1377C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172040"/>
            <a:ext cx="8686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5628-7A9C-4465-93FD-EBA4581F4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931C-E84A-4128-885F-242C91D25C9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372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У школа-интернат V-VI вида Костромской об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124080" y="6245280"/>
            <a:ext cx="55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БОУ «СОШ № 47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Внешнее строение и разнообразие листьев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643360" y="3886200"/>
            <a:ext cx="3392280" cy="17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ал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лоногова И.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биоло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Форма края листовой пластинки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pSp>
        <p:nvGrpSpPr>
          <p:cNvPr id="168" name="Organization Chart 3"/>
          <p:cNvGrpSpPr/>
          <p:nvPr/>
        </p:nvGrpSpPr>
        <p:grpSpPr>
          <a:xfrm>
            <a:off x="431640" y="1568520"/>
            <a:ext cx="8208360" cy="2160000"/>
            <a:chOff x="431640" y="1568520"/>
            <a:chExt cx="8208360" cy="2160000"/>
          </a:xfrm>
        </p:grpSpPr>
        <p:cxnSp>
          <p:nvCxnSpPr>
            <p:cNvPr id="169" name="_s6148"/>
            <p:cNvCxnSpPr>
              <a:stCxn id="170" idx="0"/>
              <a:endCxn id="171" idx="2"/>
            </p:cNvCxnSpPr>
            <p:nvPr/>
          </p:nvCxnSpPr>
          <p:spPr>
            <a:xfrm flipV="1" rot="16200000">
              <a:off x="5771160" y="1211040"/>
              <a:ext cx="402480" cy="287352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72" name="_s6149"/>
            <p:cNvCxnSpPr>
              <a:stCxn id="173" idx="0"/>
              <a:endCxn id="171" idx="2"/>
            </p:cNvCxnSpPr>
            <p:nvPr/>
          </p:nvCxnSpPr>
          <p:spPr>
            <a:xfrm flipV="1">
              <a:off x="4536000" y="2446920"/>
              <a:ext cx="3600" cy="40248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74" name="_s6150"/>
            <p:cNvCxnSpPr>
              <a:stCxn id="175" idx="0"/>
              <a:endCxn id="171" idx="2"/>
            </p:cNvCxnSpPr>
            <p:nvPr/>
          </p:nvCxnSpPr>
          <p:spPr>
            <a:xfrm flipH="1" flipV="1" rot="5400000">
              <a:off x="2898000" y="1211400"/>
              <a:ext cx="402480" cy="287352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71" name="_s6151"/>
            <p:cNvSpPr/>
            <p:nvPr/>
          </p:nvSpPr>
          <p:spPr>
            <a:xfrm>
              <a:off x="3304440" y="1568520"/>
              <a:ext cx="2462400" cy="8640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Лист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_s6152"/>
            <p:cNvSpPr/>
            <p:nvPr/>
          </p:nvSpPr>
          <p:spPr>
            <a:xfrm>
              <a:off x="431640" y="2864520"/>
              <a:ext cx="246240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ffffff"/>
                  </a:solidFill>
                  <a:latin typeface="Arial"/>
                </a:rPr>
                <a:t>Цельнокрайная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_s6153"/>
            <p:cNvSpPr/>
            <p:nvPr/>
          </p:nvSpPr>
          <p:spPr>
            <a:xfrm>
              <a:off x="3304440" y="2864520"/>
              <a:ext cx="246240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Пильчатая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6154"/>
            <p:cNvSpPr/>
            <p:nvPr/>
          </p:nvSpPr>
          <p:spPr>
            <a:xfrm>
              <a:off x="6177600" y="2864520"/>
              <a:ext cx="246240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Зубчатая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6" name="Picture 12" descr="Кувшинка"/>
          <p:cNvPicPr/>
          <p:nvPr/>
        </p:nvPicPr>
        <p:blipFill>
          <a:blip r:embed="rId1"/>
          <a:srcRect l="-4883" t="-4451" r="-4883" b="-4451"/>
          <a:stretch/>
        </p:blipFill>
        <p:spPr>
          <a:xfrm>
            <a:off x="468360" y="4094280"/>
            <a:ext cx="2340000" cy="269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7" name="Picture 13" descr="Крапива"/>
          <p:cNvPicPr/>
          <p:nvPr/>
        </p:nvPicPr>
        <p:blipFill>
          <a:blip r:embed="rId2"/>
          <a:srcRect l="-4110" t="-4558" r="-4110" b="-4558"/>
          <a:stretch/>
        </p:blipFill>
        <p:spPr>
          <a:xfrm>
            <a:off x="3367080" y="4092480"/>
            <a:ext cx="2340000" cy="2698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8" name="Picture 14" descr="Манжетка"/>
          <p:cNvPicPr/>
          <p:nvPr/>
        </p:nvPicPr>
        <p:blipFill>
          <a:blip r:embed="rId3"/>
          <a:srcRect l="-3419" t="-5259" r="-3419" b="-5259"/>
          <a:stretch/>
        </p:blipFill>
        <p:spPr>
          <a:xfrm>
            <a:off x="6261120" y="4076640"/>
            <a:ext cx="2340000" cy="2698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Жилкование листьев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pSp>
        <p:nvGrpSpPr>
          <p:cNvPr id="180" name="Organization Chart 3"/>
          <p:cNvGrpSpPr/>
          <p:nvPr/>
        </p:nvGrpSpPr>
        <p:grpSpPr>
          <a:xfrm>
            <a:off x="431640" y="1568520"/>
            <a:ext cx="8208360" cy="2160000"/>
            <a:chOff x="431640" y="1568520"/>
            <a:chExt cx="8208360" cy="2160000"/>
          </a:xfrm>
        </p:grpSpPr>
        <p:cxnSp>
          <p:nvCxnSpPr>
            <p:cNvPr id="181" name="_s7172"/>
            <p:cNvCxnSpPr>
              <a:stCxn id="182" idx="0"/>
              <a:endCxn id="183" idx="2"/>
            </p:cNvCxnSpPr>
            <p:nvPr/>
          </p:nvCxnSpPr>
          <p:spPr>
            <a:xfrm flipV="1" rot="16200000">
              <a:off x="5771160" y="1211040"/>
              <a:ext cx="402480" cy="287352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84" name="_s7173"/>
            <p:cNvCxnSpPr>
              <a:stCxn id="185" idx="0"/>
              <a:endCxn id="183" idx="2"/>
            </p:cNvCxnSpPr>
            <p:nvPr/>
          </p:nvCxnSpPr>
          <p:spPr>
            <a:xfrm flipV="1">
              <a:off x="4536000" y="2446920"/>
              <a:ext cx="3600" cy="40248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86" name="_s7174"/>
            <p:cNvCxnSpPr>
              <a:stCxn id="187" idx="0"/>
              <a:endCxn id="183" idx="2"/>
            </p:cNvCxnSpPr>
            <p:nvPr/>
          </p:nvCxnSpPr>
          <p:spPr>
            <a:xfrm flipH="1" flipV="1" rot="5400000">
              <a:off x="2898000" y="1211400"/>
              <a:ext cx="402480" cy="287352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83" name="_s7175"/>
            <p:cNvSpPr/>
            <p:nvPr/>
          </p:nvSpPr>
          <p:spPr>
            <a:xfrm>
              <a:off x="3304440" y="1568520"/>
              <a:ext cx="2462400" cy="8640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ffffff"/>
                  </a:solidFill>
                  <a:latin typeface="Arial"/>
                </a:rPr>
                <a:t>Лист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_s7176"/>
            <p:cNvSpPr/>
            <p:nvPr/>
          </p:nvSpPr>
          <p:spPr>
            <a:xfrm>
              <a:off x="431640" y="2864520"/>
              <a:ext cx="246240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ffffff"/>
                  </a:solidFill>
                  <a:latin typeface="Arial"/>
                </a:rPr>
                <a:t>Сетчатое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_s7177"/>
            <p:cNvSpPr/>
            <p:nvPr/>
          </p:nvSpPr>
          <p:spPr>
            <a:xfrm>
              <a:off x="3304440" y="2864520"/>
              <a:ext cx="246240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ffffff"/>
                  </a:solidFill>
                  <a:latin typeface="Arial"/>
                </a:rPr>
                <a:t>Пальчатое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_s7178"/>
            <p:cNvSpPr/>
            <p:nvPr/>
          </p:nvSpPr>
          <p:spPr>
            <a:xfrm>
              <a:off x="6177600" y="2864520"/>
              <a:ext cx="246240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ffffff"/>
                  </a:solidFill>
                  <a:latin typeface="Arial"/>
                </a:rPr>
                <a:t>Дуговое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8" name="Picture 13" descr="Клён"/>
          <p:cNvPicPr/>
          <p:nvPr/>
        </p:nvPicPr>
        <p:blipFill>
          <a:blip r:embed="rId1"/>
          <a:srcRect l="-3532" t="-3096" r="-3532" b="-3096"/>
          <a:stretch/>
        </p:blipFill>
        <p:spPr>
          <a:xfrm>
            <a:off x="3402000" y="3994200"/>
            <a:ext cx="2340000" cy="269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9" name="Picture 14" descr="Подорожник"/>
          <p:cNvPicPr/>
          <p:nvPr/>
        </p:nvPicPr>
        <p:blipFill>
          <a:blip r:embed="rId2"/>
          <a:srcRect l="-8747" t="-5875" r="-8747" b="-5875"/>
          <a:stretch/>
        </p:blipFill>
        <p:spPr>
          <a:xfrm>
            <a:off x="6273720" y="3933720"/>
            <a:ext cx="2340000" cy="2698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0" name="Picture 15" descr="Сетчатое жилкование"/>
          <p:cNvPicPr/>
          <p:nvPr/>
        </p:nvPicPr>
        <p:blipFill>
          <a:blip r:embed="rId3"/>
          <a:srcRect l="-4917" t="-2997" r="-4917" b="-2997"/>
          <a:stretch/>
        </p:blipFill>
        <p:spPr>
          <a:xfrm>
            <a:off x="530280" y="3994200"/>
            <a:ext cx="2340000" cy="269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Видоизменения листьев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pSp>
        <p:nvGrpSpPr>
          <p:cNvPr id="192" name="Organization Chart 3"/>
          <p:cNvGrpSpPr/>
          <p:nvPr/>
        </p:nvGrpSpPr>
        <p:grpSpPr>
          <a:xfrm>
            <a:off x="431640" y="1568520"/>
            <a:ext cx="8208360" cy="2160000"/>
            <a:chOff x="431640" y="1568520"/>
            <a:chExt cx="8208360" cy="2160000"/>
          </a:xfrm>
        </p:grpSpPr>
        <p:cxnSp>
          <p:nvCxnSpPr>
            <p:cNvPr id="193" name="_s8196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5771160" y="1211040"/>
              <a:ext cx="402480" cy="287352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96" name="_s8197"/>
            <p:cNvCxnSpPr>
              <a:stCxn id="197" idx="0"/>
              <a:endCxn id="195" idx="2"/>
            </p:cNvCxnSpPr>
            <p:nvPr/>
          </p:nvCxnSpPr>
          <p:spPr>
            <a:xfrm flipV="1">
              <a:off x="4536000" y="2446920"/>
              <a:ext cx="3600" cy="40248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98" name="_s8198"/>
            <p:cNvCxnSpPr>
              <a:stCxn id="199" idx="0"/>
              <a:endCxn id="195" idx="2"/>
            </p:cNvCxnSpPr>
            <p:nvPr/>
          </p:nvCxnSpPr>
          <p:spPr>
            <a:xfrm flipH="1" flipV="1" rot="5400000">
              <a:off x="2898000" y="1211400"/>
              <a:ext cx="402480" cy="287352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95" name="_s8199"/>
            <p:cNvSpPr/>
            <p:nvPr/>
          </p:nvSpPr>
          <p:spPr>
            <a:xfrm>
              <a:off x="3304440" y="1568520"/>
              <a:ext cx="2462400" cy="8640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Лист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8200"/>
            <p:cNvSpPr/>
            <p:nvPr/>
          </p:nvSpPr>
          <p:spPr>
            <a:xfrm>
              <a:off x="431640" y="2864520"/>
              <a:ext cx="246240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Колючки</a:t>
              </a:r>
              <a:br>
                <a:rPr sz="2500"/>
              </a:b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кактуса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8201"/>
            <p:cNvSpPr/>
            <p:nvPr/>
          </p:nvSpPr>
          <p:spPr>
            <a:xfrm>
              <a:off x="3304440" y="2864520"/>
              <a:ext cx="246240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Усики</a:t>
              </a:r>
              <a:br>
                <a:rPr sz="2500"/>
              </a:b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гороха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8202"/>
            <p:cNvSpPr/>
            <p:nvPr/>
          </p:nvSpPr>
          <p:spPr>
            <a:xfrm>
              <a:off x="6177600" y="2864520"/>
              <a:ext cx="246240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Ловчий</a:t>
              </a:r>
              <a:br>
                <a:rPr sz="2500"/>
              </a:b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аппарат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0" name="Picture 12" descr="Кактус"/>
          <p:cNvPicPr/>
          <p:nvPr/>
        </p:nvPicPr>
        <p:blipFill>
          <a:blip r:embed="rId1"/>
          <a:srcRect l="-5411" t="-5875" r="-5411" b="-5875"/>
          <a:stretch/>
        </p:blipFill>
        <p:spPr>
          <a:xfrm>
            <a:off x="422280" y="3843360"/>
            <a:ext cx="2340000" cy="269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1" name="Picture 14" descr="Росянка"/>
          <p:cNvPicPr/>
          <p:nvPr/>
        </p:nvPicPr>
        <p:blipFill>
          <a:blip r:embed="rId2"/>
          <a:srcRect l="-4852" t="-4133" r="-4852" b="-4133"/>
          <a:stretch/>
        </p:blipFill>
        <p:spPr>
          <a:xfrm>
            <a:off x="6267600" y="3879720"/>
            <a:ext cx="2340000" cy="2698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2" name="Picture 15" descr="Горошек мышиный"/>
          <p:cNvPicPr/>
          <p:nvPr/>
        </p:nvPicPr>
        <p:blipFill>
          <a:blip r:embed="rId3"/>
          <a:srcRect l="-2686" t="-2849" r="-2686" b="-2849"/>
          <a:stretch/>
        </p:blipFill>
        <p:spPr>
          <a:xfrm>
            <a:off x="3362400" y="3908520"/>
            <a:ext cx="2340000" cy="269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Внешнее строение и разнообразие листьев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58920" y="3212640"/>
            <a:ext cx="64008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им, как в листьях могут располагаться жилки; научимся различать листья простые и сложн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Внешнее строение лист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2" name="Picture 3" descr="Простой лист 1"/>
          <p:cNvPicPr/>
          <p:nvPr/>
        </p:nvPicPr>
        <p:blipFill>
          <a:blip r:embed="rId1"/>
          <a:stretch/>
        </p:blipFill>
        <p:spPr>
          <a:xfrm>
            <a:off x="34920" y="1639800"/>
            <a:ext cx="3737160" cy="495792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4"/>
          <p:cNvGrpSpPr/>
          <p:nvPr/>
        </p:nvGrpSpPr>
        <p:grpSpPr>
          <a:xfrm>
            <a:off x="3131640" y="1557360"/>
            <a:ext cx="5256360" cy="520560"/>
            <a:chOff x="3131640" y="1557360"/>
            <a:chExt cx="5256360" cy="520560"/>
          </a:xfrm>
        </p:grpSpPr>
        <p:sp>
          <p:nvSpPr>
            <p:cNvPr id="94" name="Text Box 5"/>
            <p:cNvSpPr/>
            <p:nvPr/>
          </p:nvSpPr>
          <p:spPr>
            <a:xfrm>
              <a:off x="4787640" y="155736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основание лист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"/>
            <p:cNvSpPr/>
            <p:nvPr/>
          </p:nvSpPr>
          <p:spPr>
            <a:xfrm flipH="1">
              <a:off x="3131640" y="1817640"/>
              <a:ext cx="1584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Group 7"/>
          <p:cNvGrpSpPr/>
          <p:nvPr/>
        </p:nvGrpSpPr>
        <p:grpSpPr>
          <a:xfrm>
            <a:off x="2627280" y="2205000"/>
            <a:ext cx="5761080" cy="520560"/>
            <a:chOff x="2627280" y="2205000"/>
            <a:chExt cx="5761080" cy="520560"/>
          </a:xfrm>
        </p:grpSpPr>
        <p:sp>
          <p:nvSpPr>
            <p:cNvPr id="97" name="Text Box 8"/>
            <p:cNvSpPr/>
            <p:nvPr/>
          </p:nvSpPr>
          <p:spPr>
            <a:xfrm>
              <a:off x="4788000" y="22050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черешок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9"/>
            <p:cNvSpPr/>
            <p:nvPr/>
          </p:nvSpPr>
          <p:spPr>
            <a:xfrm flipH="1">
              <a:off x="2627280" y="2463480"/>
              <a:ext cx="20894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10"/>
          <p:cNvGrpSpPr/>
          <p:nvPr/>
        </p:nvGrpSpPr>
        <p:grpSpPr>
          <a:xfrm>
            <a:off x="2556000" y="3789360"/>
            <a:ext cx="5832360" cy="520560"/>
            <a:chOff x="2556000" y="3789360"/>
            <a:chExt cx="5832360" cy="520560"/>
          </a:xfrm>
        </p:grpSpPr>
        <p:sp>
          <p:nvSpPr>
            <p:cNvPr id="100" name="Text Box 11"/>
            <p:cNvSpPr/>
            <p:nvPr/>
          </p:nvSpPr>
          <p:spPr>
            <a:xfrm>
              <a:off x="4788000" y="378936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листовая пластинк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12"/>
            <p:cNvSpPr/>
            <p:nvPr/>
          </p:nvSpPr>
          <p:spPr>
            <a:xfrm flipH="1">
              <a:off x="2556000" y="4048200"/>
              <a:ext cx="2160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Прилистники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03" name="Picture 3" descr="лист клевера"/>
          <p:cNvPicPr/>
          <p:nvPr/>
        </p:nvPicPr>
        <p:blipFill>
          <a:blip r:embed="rId1"/>
          <a:stretch/>
        </p:blipFill>
        <p:spPr>
          <a:xfrm>
            <a:off x="1476360" y="1628640"/>
            <a:ext cx="2633760" cy="452448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4"/>
          <p:cNvGrpSpPr/>
          <p:nvPr/>
        </p:nvGrpSpPr>
        <p:grpSpPr>
          <a:xfrm>
            <a:off x="1763640" y="5573880"/>
            <a:ext cx="6264000" cy="520560"/>
            <a:chOff x="1763640" y="5573880"/>
            <a:chExt cx="6264000" cy="520560"/>
          </a:xfrm>
        </p:grpSpPr>
        <p:sp>
          <p:nvSpPr>
            <p:cNvPr id="105" name="Text Box 5"/>
            <p:cNvSpPr/>
            <p:nvPr/>
          </p:nvSpPr>
          <p:spPr>
            <a:xfrm>
              <a:off x="4160880" y="5573880"/>
              <a:ext cx="386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прилистник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6"/>
            <p:cNvSpPr/>
            <p:nvPr/>
          </p:nvSpPr>
          <p:spPr>
            <a:xfrm flipH="1">
              <a:off x="1763640" y="5832720"/>
              <a:ext cx="2320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Многообразие листьев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pSp>
        <p:nvGrpSpPr>
          <p:cNvPr id="108" name="Organization Chart 3"/>
          <p:cNvGrpSpPr/>
          <p:nvPr/>
        </p:nvGrpSpPr>
        <p:grpSpPr>
          <a:xfrm>
            <a:off x="380880" y="1555920"/>
            <a:ext cx="8532000" cy="4539600"/>
            <a:chOff x="380880" y="1555920"/>
            <a:chExt cx="8532000" cy="4539600"/>
          </a:xfrm>
        </p:grpSpPr>
        <p:cxnSp>
          <p:nvCxnSpPr>
            <p:cNvPr id="109" name="_s1028"/>
            <p:cNvCxnSpPr>
              <a:stCxn id="110" idx="1"/>
              <a:endCxn id="111" idx="2"/>
            </p:cNvCxnSpPr>
            <p:nvPr/>
          </p:nvCxnSpPr>
          <p:spPr>
            <a:xfrm rot="10800000">
              <a:off x="2939760" y="2023200"/>
              <a:ext cx="841680" cy="384516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12" name="_s1029"/>
            <p:cNvCxnSpPr>
              <a:stCxn id="113" idx="1"/>
              <a:endCxn id="111" idx="2"/>
            </p:cNvCxnSpPr>
            <p:nvPr/>
          </p:nvCxnSpPr>
          <p:spPr>
            <a:xfrm rot="10800000">
              <a:off x="2939760" y="2023200"/>
              <a:ext cx="841680" cy="31640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14" name="_s1030"/>
            <p:cNvCxnSpPr>
              <a:stCxn id="115" idx="1"/>
              <a:endCxn id="111" idx="2"/>
            </p:cNvCxnSpPr>
            <p:nvPr/>
          </p:nvCxnSpPr>
          <p:spPr>
            <a:xfrm rot="10800000">
              <a:off x="2939760" y="2023200"/>
              <a:ext cx="841680" cy="248328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16" name="_s1031"/>
            <p:cNvCxnSpPr>
              <a:stCxn id="117" idx="1"/>
              <a:endCxn id="111" idx="2"/>
            </p:cNvCxnSpPr>
            <p:nvPr/>
          </p:nvCxnSpPr>
          <p:spPr>
            <a:xfrm rot="10800000">
              <a:off x="2939760" y="2023200"/>
              <a:ext cx="841680" cy="180216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18" name="_s1032"/>
            <p:cNvCxnSpPr>
              <a:stCxn id="119" idx="1"/>
              <a:endCxn id="111" idx="2"/>
            </p:cNvCxnSpPr>
            <p:nvPr/>
          </p:nvCxnSpPr>
          <p:spPr>
            <a:xfrm rot="10800000">
              <a:off x="2939760" y="2023200"/>
              <a:ext cx="841680" cy="112140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20" name="_s1033"/>
            <p:cNvCxnSpPr>
              <a:stCxn id="121" idx="1"/>
              <a:endCxn id="111" idx="2"/>
            </p:cNvCxnSpPr>
            <p:nvPr/>
          </p:nvCxnSpPr>
          <p:spPr>
            <a:xfrm rot="10800000">
              <a:off x="2939760" y="2023200"/>
              <a:ext cx="841680" cy="44028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11" name="_s1034"/>
            <p:cNvSpPr/>
            <p:nvPr/>
          </p:nvSpPr>
          <p:spPr>
            <a:xfrm>
              <a:off x="380880" y="1555920"/>
              <a:ext cx="5119200" cy="45396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Листья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1035">
              <a:hlinkClick r:id="rId1" action="ppaction://hlinksldjump"/>
            </p:cNvPr>
            <p:cNvSpPr/>
            <p:nvPr/>
          </p:nvSpPr>
          <p:spPr>
            <a:xfrm>
              <a:off x="3793680" y="2236680"/>
              <a:ext cx="5119200" cy="4539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u="sng">
                  <a:solidFill>
                    <a:srgbClr val="ffff99"/>
                  </a:solidFill>
                  <a:uFillTx/>
                  <a:latin typeface="Arial"/>
                  <a:hlinkClick r:id="rId2" action="ppaction://hlinksldjump"/>
                </a:rPr>
                <a:t>Наличие черешка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1036"/>
            <p:cNvSpPr/>
            <p:nvPr/>
          </p:nvSpPr>
          <p:spPr>
            <a:xfrm>
              <a:off x="3793680" y="2917800"/>
              <a:ext cx="5119200" cy="4539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u="sng">
                  <a:solidFill>
                    <a:srgbClr val="ffff99"/>
                  </a:solidFill>
                  <a:uFillTx/>
                  <a:latin typeface="Arial"/>
                  <a:hlinkClick r:id="rId3" action="ppaction://hlinksldjump"/>
                </a:rPr>
                <a:t>Количество листовых пластинок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037"/>
            <p:cNvSpPr/>
            <p:nvPr/>
          </p:nvSpPr>
          <p:spPr>
            <a:xfrm>
              <a:off x="3793680" y="3598560"/>
              <a:ext cx="5119200" cy="4539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u="sng">
                  <a:solidFill>
                    <a:srgbClr val="ffff99"/>
                  </a:solidFill>
                  <a:uFillTx/>
                  <a:latin typeface="Arial"/>
                  <a:hlinkClick r:id="rId4" action="ppaction://hlinksldjump"/>
                </a:rPr>
                <a:t>Форма листовой пластинки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038"/>
            <p:cNvSpPr/>
            <p:nvPr/>
          </p:nvSpPr>
          <p:spPr>
            <a:xfrm>
              <a:off x="3793680" y="4279680"/>
              <a:ext cx="5119200" cy="4539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u="sng">
                  <a:solidFill>
                    <a:srgbClr val="ffff99"/>
                  </a:solidFill>
                  <a:uFillTx/>
                  <a:latin typeface="Arial"/>
                  <a:hlinkClick r:id="rId5" action="ppaction://hlinksldjump"/>
                </a:rPr>
                <a:t>Форма края листовой пластинки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039"/>
            <p:cNvSpPr/>
            <p:nvPr/>
          </p:nvSpPr>
          <p:spPr>
            <a:xfrm>
              <a:off x="3793680" y="4960800"/>
              <a:ext cx="5119200" cy="4539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u="sng">
                  <a:solidFill>
                    <a:srgbClr val="ffff99"/>
                  </a:solidFill>
                  <a:uFillTx/>
                  <a:latin typeface="Arial"/>
                  <a:hlinkClick r:id="rId6" action="ppaction://hlinksldjump"/>
                </a:rPr>
                <a:t>Жилкование листьев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040"/>
            <p:cNvSpPr/>
            <p:nvPr/>
          </p:nvSpPr>
          <p:spPr>
            <a:xfrm>
              <a:off x="3793680" y="5641560"/>
              <a:ext cx="5119200" cy="4539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Видоизменения листьев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По наличию черешк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pSp>
        <p:nvGrpSpPr>
          <p:cNvPr id="123" name="Organization Chart 3"/>
          <p:cNvGrpSpPr/>
          <p:nvPr/>
        </p:nvGrpSpPr>
        <p:grpSpPr>
          <a:xfrm>
            <a:off x="431640" y="1568520"/>
            <a:ext cx="8208000" cy="2160000"/>
            <a:chOff x="431640" y="1568520"/>
            <a:chExt cx="8208000" cy="2160000"/>
          </a:xfrm>
        </p:grpSpPr>
        <p:cxnSp>
          <p:nvCxnSpPr>
            <p:cNvPr id="124" name="_s2052"/>
            <p:cNvCxnSpPr>
              <a:stCxn id="125" idx="0"/>
              <a:endCxn id="126" idx="2"/>
            </p:cNvCxnSpPr>
            <p:nvPr/>
          </p:nvCxnSpPr>
          <p:spPr>
            <a:xfrm flipV="1" rot="16200000">
              <a:off x="5439600" y="1542960"/>
              <a:ext cx="402480" cy="221004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27" name="_s2053"/>
            <p:cNvCxnSpPr>
              <a:stCxn id="128" idx="0"/>
              <a:endCxn id="126" idx="2"/>
            </p:cNvCxnSpPr>
            <p:nvPr/>
          </p:nvCxnSpPr>
          <p:spPr>
            <a:xfrm flipH="1" flipV="1" rot="5400000">
              <a:off x="3229560" y="1542600"/>
              <a:ext cx="402480" cy="221076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26" name="_s2054"/>
            <p:cNvSpPr/>
            <p:nvPr/>
          </p:nvSpPr>
          <p:spPr>
            <a:xfrm>
              <a:off x="2642040" y="1568520"/>
              <a:ext cx="3788280" cy="8640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100" spc="-1" strike="noStrike">
                  <a:solidFill>
                    <a:srgbClr val="ffffff"/>
                  </a:solidFill>
                  <a:latin typeface="Arial"/>
                </a:rPr>
                <a:t>Лист</a:t>
              </a:r>
              <a:endParaRPr b="0" lang="en-US" sz="5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2055"/>
            <p:cNvSpPr/>
            <p:nvPr/>
          </p:nvSpPr>
          <p:spPr>
            <a:xfrm>
              <a:off x="431640" y="2864520"/>
              <a:ext cx="378828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"/>
                </a:rPr>
                <a:t>Черешковые</a:t>
              </a:r>
              <a:endParaRPr b="0" lang="en-US" sz="4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2056"/>
            <p:cNvSpPr/>
            <p:nvPr/>
          </p:nvSpPr>
          <p:spPr>
            <a:xfrm>
              <a:off x="4851360" y="2864520"/>
              <a:ext cx="378828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"/>
                </a:rPr>
                <a:t>Сидячие</a:t>
              </a:r>
              <a:endParaRPr b="0" lang="en-US" sz="4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9" name="Picture 10" descr="Черешковый"/>
          <p:cNvPicPr/>
          <p:nvPr/>
        </p:nvPicPr>
        <p:blipFill>
          <a:blip r:embed="rId1"/>
          <a:srcRect l="-6065" t="-3979" r="-6065" b="-3979"/>
          <a:stretch/>
        </p:blipFill>
        <p:spPr>
          <a:xfrm>
            <a:off x="558720" y="3933720"/>
            <a:ext cx="3598920" cy="2698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0" name="Picture 11" descr="Сидячий"/>
          <p:cNvPicPr/>
          <p:nvPr/>
        </p:nvPicPr>
        <p:blipFill>
          <a:blip r:embed="rId2"/>
          <a:srcRect l="-5014" t="-4225" r="-5014" b="-4225"/>
          <a:stretch/>
        </p:blipFill>
        <p:spPr>
          <a:xfrm>
            <a:off x="4932360" y="3933720"/>
            <a:ext cx="3598920" cy="2698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293"/>
                </a:solidFill>
                <a:latin typeface="Arial"/>
              </a:rPr>
              <a:t>По количеству листовых пластинок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pSp>
        <p:nvGrpSpPr>
          <p:cNvPr id="132" name="Organization Chart 3"/>
          <p:cNvGrpSpPr/>
          <p:nvPr/>
        </p:nvGrpSpPr>
        <p:grpSpPr>
          <a:xfrm>
            <a:off x="431640" y="1568520"/>
            <a:ext cx="8208000" cy="2160000"/>
            <a:chOff x="431640" y="1568520"/>
            <a:chExt cx="8208000" cy="2160000"/>
          </a:xfrm>
        </p:grpSpPr>
        <p:cxnSp>
          <p:nvCxnSpPr>
            <p:cNvPr id="133" name="_s3076"/>
            <p:cNvCxnSpPr>
              <a:stCxn id="134" idx="0"/>
              <a:endCxn id="135" idx="2"/>
            </p:cNvCxnSpPr>
            <p:nvPr/>
          </p:nvCxnSpPr>
          <p:spPr>
            <a:xfrm flipV="1" rot="16200000">
              <a:off x="5439600" y="1542960"/>
              <a:ext cx="402480" cy="221004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36" name="_s3077"/>
            <p:cNvCxnSpPr>
              <a:stCxn id="137" idx="0"/>
              <a:endCxn id="135" idx="2"/>
            </p:cNvCxnSpPr>
            <p:nvPr/>
          </p:nvCxnSpPr>
          <p:spPr>
            <a:xfrm flipH="1" flipV="1" rot="5400000">
              <a:off x="3229560" y="1542600"/>
              <a:ext cx="402480" cy="221076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35" name="_s3078"/>
            <p:cNvSpPr/>
            <p:nvPr/>
          </p:nvSpPr>
          <p:spPr>
            <a:xfrm>
              <a:off x="2642040" y="1568520"/>
              <a:ext cx="3788280" cy="8640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ffffff"/>
                  </a:solidFill>
                  <a:latin typeface="Arial"/>
                </a:rPr>
                <a:t>Лист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3079"/>
            <p:cNvSpPr/>
            <p:nvPr/>
          </p:nvSpPr>
          <p:spPr>
            <a:xfrm>
              <a:off x="431640" y="2864520"/>
              <a:ext cx="378828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ffffff"/>
                  </a:solidFill>
                  <a:latin typeface="Arial"/>
                </a:rPr>
                <a:t>Простой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3080"/>
            <p:cNvSpPr/>
            <p:nvPr/>
          </p:nvSpPr>
          <p:spPr>
            <a:xfrm>
              <a:off x="4851360" y="2864520"/>
              <a:ext cx="378828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ffffff"/>
                  </a:solidFill>
                  <a:latin typeface="Arial"/>
                </a:rPr>
                <a:t>Сложный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8" name="Picture 10" descr="береза"/>
          <p:cNvPicPr/>
          <p:nvPr/>
        </p:nvPicPr>
        <p:blipFill>
          <a:blip r:embed="rId1"/>
          <a:srcRect l="0" t="0" r="0" b="4573"/>
          <a:stretch/>
        </p:blipFill>
        <p:spPr>
          <a:xfrm>
            <a:off x="539640" y="3970440"/>
            <a:ext cx="3598920" cy="269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9" name="Picture 11" descr="Рябина"/>
          <p:cNvPicPr/>
          <p:nvPr/>
        </p:nvPicPr>
        <p:blipFill>
          <a:blip r:embed="rId2"/>
          <a:srcRect l="-3313" t="-2232" r="-3313" b="-2232"/>
          <a:stretch/>
        </p:blipFill>
        <p:spPr>
          <a:xfrm>
            <a:off x="4933800" y="3970440"/>
            <a:ext cx="3598920" cy="269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Сложные листья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pSp>
        <p:nvGrpSpPr>
          <p:cNvPr id="141" name="Organization Chart 4"/>
          <p:cNvGrpSpPr/>
          <p:nvPr/>
        </p:nvGrpSpPr>
        <p:grpSpPr>
          <a:xfrm>
            <a:off x="431640" y="1568520"/>
            <a:ext cx="8208000" cy="2160000"/>
            <a:chOff x="431640" y="1568520"/>
            <a:chExt cx="8208000" cy="2160000"/>
          </a:xfrm>
        </p:grpSpPr>
        <p:cxnSp>
          <p:nvCxnSpPr>
            <p:cNvPr id="142" name="_s4100"/>
            <p:cNvCxnSpPr>
              <a:stCxn id="143" idx="0"/>
              <a:endCxn id="144" idx="2"/>
            </p:cNvCxnSpPr>
            <p:nvPr/>
          </p:nvCxnSpPr>
          <p:spPr>
            <a:xfrm flipV="1" rot="16200000">
              <a:off x="5439600" y="1542960"/>
              <a:ext cx="402480" cy="221004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45" name="_s4101"/>
            <p:cNvCxnSpPr>
              <a:stCxn id="146" idx="0"/>
              <a:endCxn id="144" idx="2"/>
            </p:cNvCxnSpPr>
            <p:nvPr/>
          </p:nvCxnSpPr>
          <p:spPr>
            <a:xfrm flipH="1" flipV="1" rot="5400000">
              <a:off x="3229560" y="1542600"/>
              <a:ext cx="402480" cy="221076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44" name="_s4102"/>
            <p:cNvSpPr/>
            <p:nvPr/>
          </p:nvSpPr>
          <p:spPr>
            <a:xfrm>
              <a:off x="2642040" y="1568520"/>
              <a:ext cx="3788280" cy="8640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ff"/>
                  </a:solidFill>
                  <a:latin typeface="Arial"/>
                </a:rPr>
                <a:t>Лист</a:t>
              </a:r>
              <a:endParaRPr b="0" lang="en-US" sz="4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4103"/>
            <p:cNvSpPr/>
            <p:nvPr/>
          </p:nvSpPr>
          <p:spPr>
            <a:xfrm>
              <a:off x="431640" y="2864520"/>
              <a:ext cx="378828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500" spc="-1" strike="noStrike">
                  <a:solidFill>
                    <a:srgbClr val="ffffff"/>
                  </a:solidFill>
                  <a:latin typeface="Arial"/>
                </a:rPr>
                <a:t>Перистосложный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4104"/>
            <p:cNvSpPr/>
            <p:nvPr/>
          </p:nvSpPr>
          <p:spPr>
            <a:xfrm>
              <a:off x="4851360" y="2864520"/>
              <a:ext cx="378828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500" spc="-1" strike="noStrike">
                  <a:solidFill>
                    <a:srgbClr val="ffffff"/>
                  </a:solidFill>
                  <a:latin typeface="Arial"/>
                </a:rPr>
                <a:t>Пальчатосложный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7" name="Picture 11" descr="Рябина"/>
          <p:cNvPicPr/>
          <p:nvPr/>
        </p:nvPicPr>
        <p:blipFill>
          <a:blip r:embed="rId1"/>
          <a:srcRect l="-2232" t="-3314" r="-2232" b="-3314"/>
          <a:stretch/>
        </p:blipFill>
        <p:spPr>
          <a:xfrm>
            <a:off x="574560" y="3933720"/>
            <a:ext cx="3598920" cy="2698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8" name="Picture 12" descr="Люпин"/>
          <p:cNvPicPr/>
          <p:nvPr/>
        </p:nvPicPr>
        <p:blipFill>
          <a:blip r:embed="rId2"/>
          <a:srcRect l="-3582" t="-4111" r="-3582" b="-4111"/>
          <a:stretch/>
        </p:blipFill>
        <p:spPr>
          <a:xfrm>
            <a:off x="4884840" y="3933720"/>
            <a:ext cx="3598920" cy="2698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Форма листовой пластинки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pSp>
        <p:nvGrpSpPr>
          <p:cNvPr id="150" name="Organization Chart 3"/>
          <p:cNvGrpSpPr/>
          <p:nvPr/>
        </p:nvGrpSpPr>
        <p:grpSpPr>
          <a:xfrm>
            <a:off x="228600" y="1341360"/>
            <a:ext cx="8686080" cy="2636280"/>
            <a:chOff x="228600" y="1341360"/>
            <a:chExt cx="8686080" cy="2636280"/>
          </a:xfrm>
        </p:grpSpPr>
        <p:cxnSp>
          <p:nvCxnSpPr>
            <p:cNvPr id="151" name="_s5124"/>
            <p:cNvCxnSpPr>
              <a:stCxn id="152" idx="0"/>
              <a:endCxn id="153" idx="2"/>
            </p:cNvCxnSpPr>
            <p:nvPr/>
          </p:nvCxnSpPr>
          <p:spPr>
            <a:xfrm flipV="1" rot="16200000">
              <a:off x="5845680" y="1138680"/>
              <a:ext cx="491400" cy="3040920"/>
            </a:xfrm>
            <a:prstGeom prst="bentConnector3">
              <a:avLst>
                <a:gd name="adj1" fmla="val 28079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54" name="_s5125"/>
            <p:cNvCxnSpPr>
              <a:stCxn id="155" idx="0"/>
              <a:endCxn id="153" idx="2"/>
            </p:cNvCxnSpPr>
            <p:nvPr/>
          </p:nvCxnSpPr>
          <p:spPr>
            <a:xfrm flipV="1">
              <a:off x="4571280" y="2413440"/>
              <a:ext cx="3960" cy="49140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56" name="_s5126"/>
            <p:cNvCxnSpPr>
              <a:stCxn id="157" idx="0"/>
              <a:endCxn id="153" idx="2"/>
            </p:cNvCxnSpPr>
            <p:nvPr/>
          </p:nvCxnSpPr>
          <p:spPr>
            <a:xfrm flipH="1" flipV="1" rot="5400000">
              <a:off x="2805840" y="1138680"/>
              <a:ext cx="491400" cy="3040920"/>
            </a:xfrm>
            <a:prstGeom prst="bentConnector3">
              <a:avLst>
                <a:gd name="adj1" fmla="val 28079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53" name="_s5127"/>
            <p:cNvSpPr/>
            <p:nvPr/>
          </p:nvSpPr>
          <p:spPr>
            <a:xfrm>
              <a:off x="3268800" y="1341360"/>
              <a:ext cx="2605680" cy="10544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Листова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ластин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_s5128"/>
            <p:cNvSpPr/>
            <p:nvPr/>
          </p:nvSpPr>
          <p:spPr>
            <a:xfrm>
              <a:off x="228600" y="2923200"/>
              <a:ext cx="2605680" cy="10544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Округл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5129"/>
            <p:cNvSpPr/>
            <p:nvPr/>
          </p:nvSpPr>
          <p:spPr>
            <a:xfrm>
              <a:off x="3268800" y="2923200"/>
              <a:ext cx="2605680" cy="10544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Линей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5130"/>
            <p:cNvSpPr/>
            <p:nvPr/>
          </p:nvSpPr>
          <p:spPr>
            <a:xfrm>
              <a:off x="6309000" y="2923200"/>
              <a:ext cx="2605680" cy="10544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Широколанцет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Group 19"/>
          <p:cNvGrpSpPr/>
          <p:nvPr/>
        </p:nvGrpSpPr>
        <p:grpSpPr>
          <a:xfrm>
            <a:off x="324000" y="4076640"/>
            <a:ext cx="2340000" cy="2698920"/>
            <a:chOff x="324000" y="4076640"/>
            <a:chExt cx="2340000" cy="2698920"/>
          </a:xfrm>
        </p:grpSpPr>
        <p:sp>
          <p:nvSpPr>
            <p:cNvPr id="159" name="Rectangle 16"/>
            <p:cNvSpPr/>
            <p:nvPr/>
          </p:nvSpPr>
          <p:spPr>
            <a:xfrm>
              <a:off x="324000" y="4076640"/>
              <a:ext cx="2340000" cy="2698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Picture 12" descr="Кувшинка"/>
            <p:cNvPicPr/>
            <p:nvPr/>
          </p:nvPicPr>
          <p:blipFill>
            <a:blip r:embed="rId1"/>
            <a:stretch/>
          </p:blipFill>
          <p:spPr>
            <a:xfrm>
              <a:off x="395280" y="4292640"/>
              <a:ext cx="2158920" cy="230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Group 20"/>
          <p:cNvGrpSpPr/>
          <p:nvPr/>
        </p:nvGrpSpPr>
        <p:grpSpPr>
          <a:xfrm>
            <a:off x="3348000" y="3875760"/>
            <a:ext cx="2340000" cy="3086640"/>
            <a:chOff x="3348000" y="3875760"/>
            <a:chExt cx="2340000" cy="3086640"/>
          </a:xfrm>
        </p:grpSpPr>
        <p:sp>
          <p:nvSpPr>
            <p:cNvPr id="162" name="Rectangle 17"/>
            <p:cNvSpPr/>
            <p:nvPr/>
          </p:nvSpPr>
          <p:spPr>
            <a:xfrm>
              <a:off x="3348000" y="4076640"/>
              <a:ext cx="2340000" cy="2698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3" name="Picture 13" descr="Гладиолус"/>
            <p:cNvPicPr/>
            <p:nvPr/>
          </p:nvPicPr>
          <p:blipFill>
            <a:blip r:embed="rId2"/>
            <a:stretch/>
          </p:blipFill>
          <p:spPr>
            <a:xfrm rot="886800">
              <a:off x="3850920" y="4005360"/>
              <a:ext cx="1384200" cy="282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Group 21"/>
          <p:cNvGrpSpPr/>
          <p:nvPr/>
        </p:nvGrpSpPr>
        <p:grpSpPr>
          <a:xfrm>
            <a:off x="6443640" y="3953520"/>
            <a:ext cx="2340000" cy="2875680"/>
            <a:chOff x="6443640" y="3953520"/>
            <a:chExt cx="2340000" cy="2875680"/>
          </a:xfrm>
        </p:grpSpPr>
        <p:sp>
          <p:nvSpPr>
            <p:cNvPr id="165" name="Rectangle 18"/>
            <p:cNvSpPr/>
            <p:nvPr/>
          </p:nvSpPr>
          <p:spPr>
            <a:xfrm>
              <a:off x="6443640" y="4076640"/>
              <a:ext cx="2340000" cy="2698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6" name="Picture 14" descr="Ландыш"/>
            <p:cNvPicPr/>
            <p:nvPr/>
          </p:nvPicPr>
          <p:blipFill>
            <a:blip r:embed="rId3"/>
            <a:stretch/>
          </p:blipFill>
          <p:spPr>
            <a:xfrm rot="325800">
              <a:off x="6660720" y="4040280"/>
              <a:ext cx="1965240" cy="270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4:50:01Z</dcterms:created>
  <dc:creator>Lebedev SN</dc:creator>
  <dc:description/>
  <dc:language>en-US</dc:language>
  <cp:lastModifiedBy>Admin</cp:lastModifiedBy>
  <dcterms:modified xsi:type="dcterms:W3CDTF">2013-09-29T14:49:44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