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FB7-EAEF-4F13-94E2-B0388AF9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4B1-7639-4878-A150-084CD62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7F7-2550-4478-BDBF-A0C15E4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0BE-1B45-4F35-932F-5E254008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96E-27B6-4E33-9611-B008E5F9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3DCE-E8B4-4696-A1C7-2A469D8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34C-6D6B-4A73-B851-635B15EF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881-1E78-4ED0-96B6-91FC32CF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8C74-BDCB-449A-B819-26F07F9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A3E-44EB-4EDC-BFD2-5DA23934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3AC0-AD7E-4194-92B6-AAE874D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FFC-07C1-4F2B-A5F5-3E0A73D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816-E3ED-4AC5-B9CC-12E9CFD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EC27-B2E7-4F8D-A532-4190D14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1B82-D9AF-4729-9B0C-A4958774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6495-BB15-409E-A7BC-F2845E42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BD36-9376-4FA5-BAF5-342FA2A6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A1E-2946-47C4-B449-6B1554BD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5B8-B6B3-407E-90F0-E382DBA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82A-F479-46AC-BD42-1E9F809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F70-4365-48C2-8593-7D8060D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C31-AB17-402E-9CAB-CEE69A28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DAE-8F90-456E-8EEE-9C0063C8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758-8B28-4DE2-AE67-1135798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1A1-1527-4A17-A735-879913C1C2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B017-A040-438C-AE53-F3C9BFF974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5%25D0%25BC%25D0%25BB%25D1%258F" TargetMode="External"/><Relationship Id="rId2" Type="http://schemas.openxmlformats.org/officeDocument/2006/relationships/hyperlink" Target="file:///F:/wiki/%25D0%2595%25D0%25B2%25D1%2580%25D0%25B0%25D0%25B7%25D0%25B8%25D1%258F" TargetMode="External"/><Relationship Id="rId3" Type="http://schemas.openxmlformats.org/officeDocument/2006/relationships/hyperlink" Target="file:///F:/wiki/%25D0%25A1%25D0%25B5%25D0%25B2%25D0%25B5%25D1%2580%25D0%25BD%25D0%25B0%25D1%258F_%25D0%2590%25D0%25BC%25D0%25B5%25D1%2580%25D0%25B8%25D0%25BA%25D0%25B0" TargetMode="External"/><Relationship Id="rId4" Type="http://schemas.openxmlformats.org/officeDocument/2006/relationships/hyperlink" Target="file:///F:/wiki/%25D0%25A1%25D0%25B5%25D0%25B2%25D0%25B5%25D1%2580%25D0%25BD%25D1%258B%25D0%25B9_%25D0%259B%25D0%25B5%25D0%25B4%25D0%25BE%25D0%25B2%25D0%25B8%25D1%2582%25D1%258B%25D0%25B9_%25D0%25BE%25D0%25BA%25D0%25B5%25D0%25B0%25D0%25BD" TargetMode="External"/><Relationship Id="rId5" Type="http://schemas.openxmlformats.org/officeDocument/2006/relationships/hyperlink" Target="file:///F:/wiki/%25D0%259D%25D0%25BE%25D1%2580%25D0%25B2%25D0%25B5%25D0%25B3%25D0%25B8%25D1%258F" TargetMode="External"/><Relationship Id="rId6" Type="http://schemas.openxmlformats.org/officeDocument/2006/relationships/hyperlink" Target="file:///F:/wiki/%25D0%2590%25D1%2582%25D0%25BB%25D0%25B0%25D0%25BD%25D1%2582%25D0%25B8%25D1%2587%25D0%25B5%25D1%2581%25D0%25BA%25D0%25B8%25D0%25B9_%25D0%25BE%25D0%25BA%25D0%25B5%25D0%25B0%25D0%25BD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A2%25D1%2583%25D0%25BD%25D0%25B4%25D1%2580%25D0%25B0" TargetMode="External"/><Relationship Id="rId9" Type="http://schemas.openxmlformats.org/officeDocument/2006/relationships/hyperlink" Target="file:///F:/wiki/%25D0%25A1%25D0%25B5%25D0%25B2%25D0%25B5%25D1%2580%25D0%25BD%25D1%258B%25D0%25B9_%25D0%25BF%25D0%25BE%25D0%25BB%25D1%258F%25D1%2580%25D0%25BD%25D1%258B%25D0%25B9_%25D0%25BA%25D1%2580%25D1%2583%25D0%25B3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Зона арктических пустын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Шелестюк С.Г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нача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сшей квалификационной категори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 «средняя школа № 80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. Владивос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012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Лемминг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2010-3.jpg"/>
          <p:cNvPicPr/>
          <p:nvPr/>
        </p:nvPicPr>
        <p:blipFill>
          <a:blip r:embed="rId1"/>
          <a:stretch/>
        </p:blipFill>
        <p:spPr>
          <a:xfrm>
            <a:off x="611280" y="1387440"/>
            <a:ext cx="8532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сец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5" descr="2010-2.jpg"/>
          <p:cNvPicPr/>
          <p:nvPr/>
        </p:nvPicPr>
        <p:blipFill>
          <a:blip r:embed="rId1"/>
          <a:stretch/>
        </p:blipFill>
        <p:spPr>
          <a:xfrm>
            <a:off x="250920" y="1814400"/>
            <a:ext cx="785016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ипе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ндекс кар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рк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кти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еверный.,  — единый физико-географический район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Земл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мыкающий к Северному полюсу и включающий окраины материков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Евраз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Северной Амер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чти весь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Северный Ледовитый оке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 островами (кроме прибрежных островов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Норвег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, а также прилегающие части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Атлантическ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Тих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кеанов.  Южная граница Арктики совпадает с южной границей зоны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тунд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  Площадь около 27 млн. кв. км; иногда Арктику ограничивают с юга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Северным полярным круг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66° 33′ с. ш.), в этом случае её площадь составит 21 млн. кв. к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17"/>
          <p:cNvPicPr/>
          <p:nvPr/>
        </p:nvPicPr>
        <p:blipFill>
          <a:blip r:embed="rId10"/>
          <a:stretch/>
        </p:blipFill>
        <p:spPr>
          <a:xfrm>
            <a:off x="250920" y="2205000"/>
            <a:ext cx="4213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Особенности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природы: низкий радиационный баланс, близкие к 0 °C средние температуры воздуха летних месяцев при отрицательной среднегодовой температуре, существование ледников и многолетнемерзлых пород, преобладание тундровой растительности и арктических пусты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довитость морских акваторий около 11 млн. кв. км зимой и около 8 млн. кв. км ле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7" descr="2145692"/>
          <p:cNvPicPr/>
          <p:nvPr/>
        </p:nvPicPr>
        <p:blipFill>
          <a:blip r:embed="rId1"/>
          <a:stretch/>
        </p:blipFill>
        <p:spPr>
          <a:xfrm>
            <a:off x="4572000" y="1557360"/>
            <a:ext cx="4248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Аркт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солнце в Заполярье подолгу вовсе не показывается над горизонтом. Заснеженную сушу и льды лишь временами освещает луна или разноцветные вспышки полярных сияний. Те из животных, которые отваживаются зимовать здесь, вынуждены использовать для добывания корма сумерки или приспосабливаться к поискам добычи в темн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7" descr="2010-1.jpg"/>
          <p:cNvPicPr/>
          <p:nvPr/>
        </p:nvPicPr>
        <p:blipFill>
          <a:blip r:embed="rId1"/>
          <a:stretch/>
        </p:blipFill>
        <p:spPr>
          <a:xfrm>
            <a:off x="4572000" y="2030400"/>
            <a:ext cx="4248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 суровым условиям арктических пустынь приспособились немногие живые организм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324000" y="1658880"/>
            <a:ext cx="88200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5003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йры — самые распространенные обитатели птичьих базаров — шумных колоний морских птиц на обрывистых скалистых берегах северных морей. Они откладывают всего лишь одно крупное зеленое или голубое яйцо. И насиживают его почти беспрерывно. Перед тем как покинуть карниз скалы и улететь в море, птица передает яйцо «супругу» (или «супруге»), уже ожидающему своей очереди насиживать. Поэтому в верхней, обогреваемой кайрой части яйца поддерживается температура около 38—39°. Однако нижняя часть яйца, хотя и лежит на лапах птицы, сильно охлаждается, и температура ее может опускаться до 5 и да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1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8" descr="2010-7.jpg"/>
          <p:cNvPicPr/>
          <p:nvPr/>
        </p:nvPicPr>
        <p:blipFill>
          <a:blip r:embed="rId1"/>
          <a:stretch/>
        </p:blipFill>
        <p:spPr>
          <a:xfrm>
            <a:off x="5148360" y="189000"/>
            <a:ext cx="34797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Гага обыкновенна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8" descr="2010-6.jpg"/>
          <p:cNvPicPr/>
          <p:nvPr/>
        </p:nvPicPr>
        <p:blipFill>
          <a:blip r:embed="rId1"/>
          <a:stretch/>
        </p:blipFill>
        <p:spPr>
          <a:xfrm>
            <a:off x="900000" y="1743120"/>
            <a:ext cx="74170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Гренландский тюлень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9" descr="2010-5.jpg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Морж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Picture 4" descr="003-20081228-211656-600x399"/>
          <p:cNvPicPr/>
          <p:nvPr/>
        </p:nvPicPr>
        <p:blipFill>
          <a:blip r:embed="rId1"/>
          <a:stretch/>
        </p:blipFill>
        <p:spPr>
          <a:xfrm>
            <a:off x="179280" y="1446120"/>
            <a:ext cx="87854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8:06:21Z</dcterms:created>
  <dc:creator>Света</dc:creator>
  <dc:description/>
  <dc:language>en-US</dc:language>
  <cp:lastModifiedBy>Asus</cp:lastModifiedBy>
  <dcterms:modified xsi:type="dcterms:W3CDTF">2013-09-15T05:36:18Z</dcterms:modified>
  <cp:revision>6</cp:revision>
  <dc:subject/>
  <dc:title>Зона арктических пустынь</dc:title>
</cp:coreProperties>
</file>