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8EA0-5FF3-4E95-9854-78BF3798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6384-F65E-400B-A699-14E92D49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C813-4C86-4EE2-8709-7F25669D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972-9231-4945-BCDC-F8BD5721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DA7D-D3C6-4149-BD84-E9C8318F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439D-E677-481C-9045-C5020018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EAF2-C19C-4B0B-8A17-598E4CEE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E168-74D6-47CD-B449-255DA608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096A-B6DC-4F18-ADC3-C7417EF7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2A9F-82C1-4C7D-8FA9-BA58BC8A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CB6A-BC37-47A3-959F-89B6C567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D18B-7F8C-45F5-864C-D300A9B4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E2A1-EEA0-4F2A-A663-3DC436BE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9BF0-E0ED-4289-8772-7E88BD38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B5D3-1827-4996-8475-33A084F5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6CCF-5647-404F-A49C-DDDDE54E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A5C7-A7AD-4B9B-9B1E-0CE72D65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C24-A125-4977-BC9D-C691E7C6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95D7-798E-4678-B88D-6ABDC42D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3BE-D681-4316-A0A9-3583C1E1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EEA3-358B-4F02-A118-F80A987A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300-112F-4990-AC0F-69B1CE8C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2C79-E1FA-42F3-87AB-32ED5E67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6CE-D925-49B4-9842-02FF4C74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E2D4-A7C0-420C-A0A7-D3DBA831955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AB7D-AED8-469A-A0DB-364F0679018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262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03280" y="2205000"/>
            <a:ext cx="705636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ГНИТНЫЕ ЯВЛЕ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КОНТРОЛЬНЫЕ ВОПРОСЫ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42920" y="2708280"/>
          <a:ext cx="102888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708280"/>
                    <a:ext cx="102888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234440" y="250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88200" y="33004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256536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33577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2120" y="1835280"/>
            <a:ext cx="8925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РИС. ПРЕДСТАВЛЕНЫ НАПРАВЛЕНИЯ ВЕКТОРА СКОР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ЛОЖИТЕЛЬНО ЗАРЯЖЕННОЙ ЧАСТИЦЫ И ВЕКТОРА ИНДУК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ЦИИ МАГНИТНОГО ПОЛЯ. КАКОВО НАПРАВЛ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ЕКТОРА СИЛЫ, ДЕЙСТВУЮЩЕЙ НА ЗАРЯД С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ОРОНЫ МАГНИТНОГО ПО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8600" y="4067280"/>
            <a:ext cx="88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ЧАСТИЦА С ЭЛЕКТРИЧЕСКИМ ЗАРЯДОМ 8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·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-19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Л  ДВИЖ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 СКОРОСТЬЮ 1000 КМ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В МАГНИТНОМ ПОЛЕ 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ДУКЦИЕЙ 5 ТЛ. УГОЛ МЕЖДУ ВЕКТОРАМИ СКОРОСТИ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ДУКЦИИ 30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˚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КАКОВО ЗНАЧЕНИЕ СИЛЫ ЛОРЕНЦ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АГНИТНЫЙ ПОТОК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КОЙ БУКВОЙ ОБОЗНАЧАЕТСЯ МАГНИТНЫЙ ПОТОК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КАКИХ ЕДИНИЦАХ ОН ИЗМЕРЯЕТС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Т ЧЕГО ЗАВИСИТ МАГНИТНЫЙ ПОТОК, ПРОНИЗЫВАЮЩИЙ ПЛОЩАДЬ ПЛОСКОГО КОНТУРА, ПОМЕЩЕННОГО В ОДНОРОДНОЕ МАГНИТНОЕ ПОЛ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ПИШИТЕ ФОРМУЛУ ДЛЯ ОПРЕДЕЛЕНИЯ МАГНИТНОГО ПОТО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 КАКОЙ ОРИЕНТАЦИИ КОНТУРА ПО ОТНОШЕНИЮ К ЛИНИЯМ МАГНИТНОЙ ИНДУКЦИИ МАГНИТНЫЙ ПОТОК, ПРОНИЗЫВАЮЩИЙ КОНТУР, МАКСИМАЛЕН? МИНИМАЛЕН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ЧЕМ ЗАКЛЮЧАЕТСЯ ЯВЛЕНИЕ ЭЛЕКТРОМАГНИТНОЙ ИНДУКЦИ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ЭЛЕКТРОМАГНИТНОЕ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ПОЛ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КОЙ ЭЛЕКТРИЧЕСКИЙ ТОК НАЗЫВАЕТСЯ ПЕРЕМЕННЫ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ДЕ ИСПОЛЬЗУЕТСЯ ПЕРЕМЕННЫЙ ТОК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КОВА СТАНДАРТНАЯ ЧАСТОТА ПРОМЫШЛЕННОГО ТОКА, ПРИМЕНЯЕМОГО В РОССИИ И МНОГИХ ДРУГИХ СТРАНАХ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ЕМ И КОГДА БЫЛА СОЗДАНА ТЕОРИЯ ЭЛЕКТРОМАГНИТНОГО ТОК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ТО СЛУЖИТ ИСТОЧНИКОМ ЭЛЕКТРОМАГНИТНОГО ПОЛ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ТО ПРЕДСТАВЛЯЕТ СОБОЙ ЭЛЕКТРОМАГНИТНАЯ ВОЛН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КИЕ ФИЗИЧЕСКИЕ ВЕЛИЧИНЫ ПЕРИОДИЧЕСКИ МЕНЯЮТСЯ В ЭЛЕКТРОМАГНИТНОЙ ВОЛН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ГДА И КЕМ БЫЛИ ПОЛУЧЕНЫ ВПЕРВЫЕ ЭЛЕКТРОМАГНИТНЫЕ ВОЛНЫ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000"/>
                            </p:stCondLst>
                            <p:childTnLst>
                              <p:par>
                                <p:cTn id="3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СОДЕРЖАНИЕ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ГНИТНОЕ ПОЛЕ И ЕГО СВОЙ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РАФИЧЕСКОЕ ИЗОБРАЖЕНИЕ МАГНИТНОГО ПО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КТОР МАГНИТНОЙ ИНДУ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ЙСТВИЯ МАГНИТНОГО ПО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ГНИТНЫЙ ПОТОК. ЯВЛЕНИЕ ЭЛЕКТРОМАГНИТНОЙ ИНДУ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ЛЕКТРОМАГНИТНОЕ ПО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АГНИТНОЕ ПОЛЕ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И ЕГО СВОЙСТВ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М СОЗДАЕТСЯ МАГНИТНО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Е ПОСТОЯННОГО МАГНИТ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ИЕ ДВА ВИДА МАГНИТНОГО ПОЛЯ ВЫ ЗНАЕТ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ОЕ МАГНИТНОЕ ПОЛЕ ОБРАЗУЕТСЯ ВОКРУГ ПОЛОСОВОГО МАГНИТА? ВОКРУГ ПРЯМОЛИНЕЙНО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076720" y="2060640"/>
          <a:ext cx="369576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2060640"/>
                    <a:ext cx="36957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353480" y="4859280"/>
            <a:ext cx="462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 ПРОВОДНИКА СТОКОМ? ВНУТР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11120" y="5075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11120" y="5075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63600" y="521820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ЛЕНОИД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68560" y="514656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7800" y="5578560"/>
            <a:ext cx="8324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ТО ВПЕРВЫЕ ОБНАРУЖИЛ ВЗАИМОДЕЙСТВИЕ ПРОВОДНИ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ТОКОМ И МАГНИТНОЙ СТРЕЛК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042560" y="476280"/>
            <a:ext cx="36464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 ПРОПУСКАНИИ ПОСТОЯННОГО ТОКА ЧЕРЕЗ ПРОВОДНИК ВОКРУГ НЕГО ВОЗНИКЛО МАГНИТНОЕ ПОЛЕ. ОНО ОБНАРУЖИВАЕТСЯ ПО РАСПОЛОЖЕНИЮ СТАЛЬНЫХ ОПИЛОК НА ЛИСТЕ БУМАГИ, ПО ПОВОРОТУ МАГНИТНОЙ СТРЕЛКИ. В КАКОМ СЛУЧАЕ ЭТО МАГНИТНОЕ ПОЛЕ ИСЧЕЗНЕТ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ТО ВПЕРВЫЕ ОБНАРУЖИЛ ВЗАИМОДЕЙСТВИЕ ПРОВОДНИКА С ТОКОМ И МАГНИТНОЙ СТРЕЛК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88000" y="836640"/>
          <a:ext cx="415440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836640"/>
                    <a:ext cx="415440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ГРАФИЧЕСКОЕ ИЗОБРАЖЕНИЕ МАГНИТНОГО ПОЛЯ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78264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КИЕ ЛИНИИ НАЗЫВАЮТ МАГНИТНЫМИ ЛИНИЯМИ 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ЛЯ ЧЕГО ВВОДЯТ ПОНЯТИЕ МАГНИТНОЙ ЛИНИИ ПОЛ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 ЧЕМ МОЖНО СУДИТЬ ПО КАРТИНЕ ЛИНИЙ МАГНИТНОГО ПОЛ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ОБРАЗИТЕ МАГНИТНОЕ ПОЛЕ ПРОВОДНИКА СТОК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ОБРАЗИТЕ МАГНИТНОЕ ПОЛЕ ПОСТОЯННОГО МАГНИ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К ИЗОБРАЖАЮТ ЛИНИИ МАГНИТНОГО ПОЛЯ, НАПРАВЛЕННЫЕ ПЕРПЕНДИКУЛЯРНО ПЛОСКОСТИ ЧЕРТЕЖ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ЕРЕЧИСЛИТЕ ОСНОВНЫЕ СВОЙСТВА МАГНИТНЫХ ЛИ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56756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КОНТРОЛЬНЫЕ ВОПРОСЫ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95480" y="1981080"/>
          <a:ext cx="3636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1981080"/>
                    <a:ext cx="3636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236000" y="2133720"/>
          <a:ext cx="1101600" cy="40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2133720"/>
                    <a:ext cx="1101600" cy="40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098720" y="19321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59440" y="18604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5120" y="1835280"/>
            <a:ext cx="1857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образи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агнит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стоян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агни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ЕКТОР МАГНИТНОЙ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ИНДУКЦ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6089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К ОБОЗНАЧАЕТСЯ И В КАКИХ ЕДИНИЦАХ ИЗМЕРЯЕТСЯ ВЕКТОР МАГНИТНОЙ ИНДУКЦИ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 КАКОЙ ФОРМУЛЕ ОПРЕДЕЛЯЕТСЯ МОДУЛЬ ВЕКТОРА МАГНИТНОЙ ИНДУКЦИИ ОДНОРОДНОГО МАГНИТНОГО ПОЛ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ТО ПРИНЯТО ЗА НАПРАВЛЕНИЕ ВЕКТОРА МАГНИТНОЙ ИНДУКЦИ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ФОРМУЛИРУЙТЕ ПРАВИЛА ОПРЕДЕЛЕНИЯ НАПРАВЛЕНИЯ ВЕКТОРА МАГНИТНОЙ ИНДУКЦИ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) ПРАВИЛО БУРАВЧ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) ПРАВИЛО ПРАВОЙ РУ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ТО МОЖНО ОПРЕДЕЛИТЬ, ИСПОЛЬЗУЯ ПРАВИЛО БУРАВЧИКА? ПРАВИЛО ПРАВОЙ РУКИ?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ДЕЙСТВИЯ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МАГНИТНОГО ПОЛ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2560" y="2276280"/>
            <a:ext cx="7682040" cy="41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К ОБНАРУЖИВАЕТСЯ МАГНИТНОЕ ПОЛ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К НАЗЫВАЕТСЯ СИЛА, ДЕЙСТВУЮЩАЯ НА ПРОВОДНИК С ТОКОМ СО СТОРОНЫ МАГНИТНОГО ПОЛ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ФОРМУЛИРУЙТЕ ПРАВИЛО ЛЕВОЙ РУКИ ДЛЯ ОБНАРУЖЕНИЯ ЕЕ НАПРАВ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К НАЗЫВАЕТСЯ СИЛА, ДЕЙСТВУЮЩАЯ НА ДВИЖУЩИЙСЯ ЗАРЯД В МАГНИТНОМ ПОЛ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ФОРМУЛИРУЙТЕ ПРАВИЛО ЛЕВОЙ РУКИ ДЛЯ ОБНАРУЖЕНИЯ ЕЕ НАПРАВ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ТО МОЖНО ОПРЕДЕЛИТЬ ПОЛЬЗУЯСЬ ПРАВИЛОМ ЛЕВОЙ РУКИ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8000" y="692280"/>
          <a:ext cx="9036000" cy="49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692280"/>
                    <a:ext cx="903600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08:07:19Z</dcterms:created>
  <dc:creator>1</dc:creator>
  <dc:description/>
  <dc:language>en-US</dc:language>
  <cp:lastModifiedBy>!Maxi - M!</cp:lastModifiedBy>
  <dcterms:modified xsi:type="dcterms:W3CDTF">2007-03-15T10:40:36Z</dcterms:modified>
  <cp:revision>38</cp:revision>
  <dc:subject/>
  <dc:title>  Магнитные явления</dc:title>
</cp:coreProperties>
</file>