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37.jpeg" ContentType="image/jpeg"/>
  <Override PartName="/ppt/media/image27.wmf" ContentType="image/x-wmf"/>
  <Override PartName="/ppt/media/image25.gif" ContentType="image/gif"/>
  <Override PartName="/ppt/media/image21.wmf" ContentType="image/x-wmf"/>
  <Override PartName="/ppt/media/image19.wmf" ContentType="image/x-wmf"/>
  <Override PartName="/ppt/media/image17.wmf" ContentType="image/x-wmf"/>
  <Override PartName="/ppt/media/image16.gif" ContentType="image/gif"/>
  <Override PartName="/ppt/media/image15.gif" ContentType="image/gif"/>
  <Override PartName="/ppt/media/image5.jpeg" ContentType="image/jpeg"/>
  <Override PartName="/ppt/media/image26.gif" ContentType="image/gif"/>
  <Override PartName="/ppt/media/image22.wmf" ContentType="image/x-wmf"/>
  <Override PartName="/ppt/media/image14.wmf" ContentType="image/x-wmf"/>
  <Override PartName="/ppt/media/image1.jpeg" ContentType="image/jpeg"/>
  <Override PartName="/ppt/media/image44.jpeg" ContentType="image/jpeg"/>
  <Override PartName="/ppt/media/image30.wmf" ContentType="image/x-wmf"/>
  <Override PartName="/ppt/media/image33.jpeg" ContentType="image/jpeg"/>
  <Override PartName="/ppt/media/image39.jpeg" ContentType="image/jpeg"/>
  <Override PartName="/ppt/media/image41.jpeg" ContentType="image/jpeg"/>
  <Override PartName="/ppt/media/image45.jpeg" ContentType="image/jpeg"/>
  <Override PartName="/ppt/media/image6.wmf" ContentType="image/x-wmf"/>
  <Override PartName="/ppt/media/image29.wmf" ContentType="image/x-wmf"/>
  <Override PartName="/ppt/media/image42.jpeg" ContentType="image/jpeg"/>
  <Override PartName="/ppt/media/image34.wmf" ContentType="image/x-wmf"/>
  <Override PartName="/ppt/media/image38.jpeg" ContentType="image/jpeg"/>
  <Override PartName="/ppt/media/image31.wmf" ContentType="image/x-wmf"/>
  <Override PartName="/ppt/media/image35.gif" ContentType="image/gif"/>
  <Override PartName="/ppt/media/image11.jpeg" ContentType="image/jpeg"/>
  <Override PartName="/ppt/media/image23.wmf" ContentType="image/x-wmf"/>
  <Override PartName="/ppt/media/image43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10.wmf" ContentType="image/x-wmf"/>
  <Override PartName="/ppt/media/image8.wmf" ContentType="image/x-wmf"/>
  <Override PartName="/ppt/media/image4.jpeg" ContentType="image/jpeg"/>
  <Override PartName="/ppt/media/image9.gif" ContentType="image/gif"/>
  <Override PartName="/ppt/media/image7.wmf" ContentType="image/x-wmf"/>
  <Override PartName="/ppt/media/image2.wmf" ContentType="image/x-wmf"/>
  <Override PartName="/ppt/media/image32.wmf" ContentType="image/x-wmf"/>
  <Override PartName="/ppt/media/image36.jpeg" ContentType="image/jpeg"/>
  <Override PartName="/ppt/media/image18.wmf" ContentType="image/x-wmf"/>
  <Override PartName="/ppt/media/image20.wmf" ContentType="image/x-wmf"/>
  <Override PartName="/ppt/media/image2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679A-8B68-4E84-B452-95AB8CCA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734-C7D8-4486-81FA-903A098D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D1A4-D189-4463-BDC2-AF363CC2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8335-8688-4FD9-821E-33BE5431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00E9-9A4A-4F78-B262-DC082D91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3E16-0896-44BD-BDC7-F8519638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0444-6482-427A-9B85-C0155BC4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181A-AEF9-4877-BFC8-ABD89D34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FCB2-F819-458E-A83B-09C7B2AA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BDF5-B2EE-4E84-A3FB-6383B3D8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2352-18C4-481E-BD20-0B50094A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6F38-0EB5-4EF2-98B7-DE861E14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C8D5-B080-445E-84E9-5578E095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5CDD-C7A9-4261-8EF6-2E9631C0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BEBD-0D70-43B2-BE97-C73C2D28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2224-CF9E-42F8-B589-2784777B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D385-B22C-498B-8494-9E43511F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EA5B6-8813-4CF3-9DEE-A84957D7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E304C-87B8-45F2-AE9D-85FBB375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752A5-C596-4645-A08C-7A10FB96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F4513-A80A-484D-A27F-D090733B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11830-5827-4617-A17A-95401641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641B-664E-46EE-AFC4-C891D04D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69162-AFBF-4838-8059-388F1A83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450C8-C12A-489A-B6AF-58126D50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8D957-546F-4EB0-8BAF-37160558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20D11-A49A-4EA7-87A0-D3599581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B7606-311D-4C24-81EA-F5E3B381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87DC6-DEC7-478F-8012-9AE86066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64256-001A-4A96-A06A-AB9FABAC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70AA9-F5FB-4E7C-A769-D606C02F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463EC-6A68-4574-AE7D-70AB1593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28730-6CAE-460D-B992-7C3D1396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7D42-7DDC-4398-B9E4-391BC03B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99BF1-55FB-4516-A63F-6D06B18E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1709B-5C67-4607-B9F9-F64E887E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0B67F-86FA-4A84-BEF6-B99D5B2E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05B73-0511-4694-9C94-0431C3A9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BDD79-5E11-45DE-AD3B-B3047779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3BEEF-B077-4EB7-89FE-F768DF8E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83FA7-A076-43FA-BC56-C99FBCCD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332F6-FBE2-4C9B-B96C-D69A85B4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18F12-2ABC-41C7-852A-F10ACC83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731-CCD2-4B33-B2A9-91985721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2504-3423-438C-85A6-BE82AFE2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116F-8CE1-4628-B15C-25AB43B6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FD72-A1CC-4639-B840-07B370C8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70CB-653C-462B-8B09-FBF31BC2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BD07-680E-45E1-A8B4-FDE2188575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D273-10F6-43A5-89E5-5414BEFB8F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89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0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93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4BAE-BD25-4EC8-82A1-6C7BD8C624C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7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0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AF88-B8EF-40E5-B9F0-732129015AA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gi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cc"/>
                </a:solidFill>
                <a:latin typeface="Tahoma"/>
              </a:rPr>
              <a:t>Агрессия</a:t>
            </a: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…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627280" y="2276640"/>
            <a:ext cx="417672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клонность к раздражению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отовность к проявлению при малейшем возбуждении, вспыльчивости, резкости, груб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276720" y="3429000"/>
            <a:ext cx="266364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егативиз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озиционная манера поведения, обычно направленная против авторитета или руководства. Может нарастать от пассивного сопротивления до активной борьб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940360" y="4437000"/>
            <a:ext cx="1317600" cy="1924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851280" y="4437000"/>
            <a:ext cx="1738440" cy="1773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1979640" y="4292640"/>
            <a:ext cx="1098360" cy="224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бид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висть и ненависть к окружающим, обусловленные чувством горечи, гнева на весь мир за действительные или мнимые страд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619280" y="3933720"/>
            <a:ext cx="2665440" cy="2232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19640" y="3860640"/>
            <a:ext cx="208908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одозрительност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доверие и осторожность по отношению к людям, основанные на убеждении, что окружающие намерены причинить вре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572000" y="3284640"/>
            <a:ext cx="244800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Ведущие признаки агрессивного поведения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5257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раженное стремление к доминированию над людьми и использованию их в своих целя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енденция к разрушен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правленность на причинение вреда окружающим , оскорбление (ругань, дерзость, грубость и др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клонность к насилию (причинение бол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156360" y="2781360"/>
            <a:ext cx="1727280" cy="1295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084720" y="4076640"/>
            <a:ext cx="1725840" cy="1368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6084720" y="5464080"/>
            <a:ext cx="1713240" cy="13939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5867280" y="981000"/>
            <a:ext cx="2233800" cy="1656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Эмоциональный фон агрессивного повед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грессор (злость, ярость, гнев, безразличие, садистическое удовольстви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Жертва (страх, унижение, обида, страд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574640" y="1695600"/>
            <a:ext cx="1803600" cy="1981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492200" y="4097160"/>
            <a:ext cx="1968480" cy="1825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Агрессивност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обенная характерная черта человека -  склонность к агрессивному поведен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способность к контролированию своих реакц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явление враждебной установки по отношению к окружающей сре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847880" y="1268280"/>
            <a:ext cx="2003400" cy="25210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364000" y="1197000"/>
            <a:ext cx="2448000" cy="26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Факторы агрессивного повед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2636640"/>
            <a:ext cx="75502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Условия окружающей среды (социально-экономические, политические с преобладанием атмосферы конкуренции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Условия микросреды (семья, окружение сверстников и знакомых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Характер и система воспита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озрастные и индивидуальные особенности (от них зависит специфика восприятия, оценки, переживаний, эмоциональных реакций, мотивации поступков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Физически условия окружения, ведущие к вспышкам гнева, нервозности (как естественная защита организма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пецифическое влияние алкоголя и наркотико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МИ и компьютерные игр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пасность 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е, кто слишком агрессивен, окажутся, скорее всего отверженными большинством в классе. Но, с другой стороны, они могут найти друзей среди других агрессивных сверстник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076720" y="4581360"/>
            <a:ext cx="35290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Как справиться с собственной агрессией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старайтесь быть  терпимее к окружающи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учитесь понимать мотивы других люд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ходите способ избавиться от чувства гнева и раздраж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940360" y="4869000"/>
            <a:ext cx="2303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Агрессия «+»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403280" y="1412640"/>
            <a:ext cx="6400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билизующая внутренняя сила для достижения успеха в деятельности (учёбе, спорте, работе), овладения знаниями, познания мира, самосохранен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давление своей агрессивности ведёт к блокированию  в большей или меньшей степени активности чело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419640" y="4076640"/>
            <a:ext cx="259236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900000" y="407664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516720" y="3933720"/>
            <a:ext cx="180036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4000" y="765000"/>
            <a:ext cx="777852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авила подавления агрессивного повед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есколько раз глубоко вздохнуть, если почувствовал гне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е давать волю своим действиям, пока медленно не сосчитаешь до 1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редставить последствия своего поведе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аждое утро давать себе установку не вступать в конфликт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ечером подводить итоги: хвалить себя за спокойствие, штрафовать за срыв настроения и поведе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Закаливание организма (умываться холодной водой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Тренировка вол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732720" y="4581360"/>
            <a:ext cx="2087280" cy="2016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755640" y="5013360"/>
            <a:ext cx="1295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Ничего не начинай в гневе! Глуп тот, кто во время бури садится на корабль.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66"/>
                </a:solidFill>
                <a:latin typeface="Arial"/>
              </a:rPr>
              <a:t>М. Гауг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В войнах, революциях, восстаниях, мятежах, бунтах гибнут миллионы, очень вероятно, что среди них будешь и ты. Подумай, прежде чем поддержать любую агрессию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35640" y="3213000"/>
            <a:ext cx="22478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Агресс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Экстремизм в Росс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835280" y="2852640"/>
            <a:ext cx="5905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Агресс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Экстремизм в Росс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61196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Агресс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Гнев и ярость – плохие советчи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692360" y="2771640"/>
            <a:ext cx="6095880" cy="36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Агресс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гроза Мир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835280" y="2781360"/>
            <a:ext cx="59054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тветственност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авосуд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5759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тветственност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авосуд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3333960" cy="23907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32400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аршировать в ногу вовсе не то же самое, что идти рука об руку.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148360" y="2637000"/>
            <a:ext cx="3240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Агрессия «-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537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ведение, ориентированное на нанесение вреда объектам (живым существам или неодушевлённым предметам), приносящее физический ущерб людям или вызывающее у них психологический дискомфорт (отрицательные переживания, состояние напряженности, страха, подавлен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48320" y="1916280"/>
            <a:ext cx="4027320" cy="3673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иды агресс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зическая             Эмоциональ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рбаль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метная                  Самоагресс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1807920" cy="15350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763640" y="5025960"/>
            <a:ext cx="1816200" cy="1832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148360" y="2997360"/>
            <a:ext cx="1584360" cy="15825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804000" y="5084640"/>
            <a:ext cx="1871640" cy="1584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7524720" y="1989000"/>
            <a:ext cx="1150920" cy="1079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Агрессивное поведе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а отреагирования физического и психического дискомфорта, стресс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едство достижения какой-либо значимой цели, в том числе повышения собственного статуса за счёт самоутвержд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219640" y="1600200"/>
            <a:ext cx="2952720" cy="1900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238720" y="4071960"/>
            <a:ext cx="2857680" cy="1876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Формы агрессивных реакц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340000" y="1773360"/>
            <a:ext cx="48243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Физическая агрессия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(нападение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Использование физической силы против другого л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627280" y="2781360"/>
            <a:ext cx="352908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освенная агресс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Действия, как окольными путями направленные на другое лицо (сплетни, злобные шутки), так и ни на кого не направленные взрывы ярости (крик, топанье ногами, битьё по столу, хлопанье дверьми и др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908000" y="4005360"/>
            <a:ext cx="2232360" cy="2376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932360" y="3860640"/>
            <a:ext cx="223200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ербальная агресс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ражение негативных чувств как через форму (крик, визг, ссора) так и через словесные ответы (угрозы, проклятия, руган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411280" y="3573360"/>
            <a:ext cx="432144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12:22:53Z</dcterms:created>
  <dc:creator>User</dc:creator>
  <dc:description/>
  <dc:language>en-US</dc:language>
  <cp:lastModifiedBy>канцелярия</cp:lastModifiedBy>
  <dcterms:modified xsi:type="dcterms:W3CDTF">2011-04-20T09:09:34Z</dcterms:modified>
  <cp:revision>6</cp:revision>
  <dc:subject/>
  <dc:title>Слайд 1</dc:title>
</cp:coreProperties>
</file>