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FE0-1DC5-45D1-9105-6AFA2DDD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035-3B88-4CE7-9F88-BE2069D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599-B88A-4927-B0AB-F9F6F82E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E29-9EE7-4C72-8137-F1EC353D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2D5-0B96-4A4E-AF31-FCAD366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2F2-0081-447D-BD48-FD709D66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1B96-B1BE-4B7A-BA8A-2151DC7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E03-B251-435C-AC58-DD8FE4D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C9B-E3BB-4769-BBA5-D7F1B025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F03-B0FF-4BF3-80AF-0A36CA5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4C96-DDCF-4959-94E7-C4B4AAFA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B8E-86E8-41BD-9B85-53E5F0A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AB6-953C-474E-BCD0-C10E3F1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91D-3743-4BB8-87A9-ECE7C49D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07AB-3756-4498-AFDD-DC02C58D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F97-1C79-4F04-9D5F-516D13BD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EDB-9766-498F-9AF7-13747C23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5DA2-3F9F-40E6-8459-DB0E3C91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1A97-7F6C-4770-AB69-60BB27E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6851-E126-48E4-BEB8-701FED58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5AC9-2888-4FE6-8F42-FB72964F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E2D0-6566-4062-933D-B459F269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1BB-48B8-4BB4-AD27-60D9C252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BBA3-869D-442A-960C-6DB61029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EBC3-E0E9-44FB-BAB0-16D11E8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518C-C190-4E92-8DD0-F45AE2A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DBA7-AB1F-4456-910C-1396A73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4810-9071-40E3-83DE-AC587BE1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75B1-0A45-42E1-8927-33C281A5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C57F-2202-4166-803D-45085DE6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F51A-4F3A-4BFE-AE7A-9D64C9FE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2896-501F-4110-AD8C-CAFE90F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D474-39A8-4F97-AE99-3E26D8BD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4B5-7559-4C01-AA90-D1201DA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72F2-2196-4F3F-9A52-F6325D5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9715-E478-4EC2-8EAD-70550B2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5084-571C-4BD1-AED4-7B6947B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4333-C4C1-40C6-85B9-EE815D4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A2C6-0911-4632-B8E8-F164F4E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01F3-7CDF-47FC-95F1-4365692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5BFC-C7CB-4F72-A321-D12157B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B7B9-752A-4690-84A8-941EFC02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F38E-93CE-435E-86E1-CEBBE82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426E-BF4A-4D41-B1EA-D797637A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34F-CCD8-47EE-80CC-9AD679A8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6EB9-BF09-45FC-B466-D18282EE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4B780-DE80-4427-8F2D-B1559E69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A8E0-1A75-486E-90C6-A6D75ED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939F7-CE9D-4969-A075-87A0058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19B2B-D9D5-4016-908B-2F7CB23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749BC-EB54-4DBB-A913-2574C9C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0E292-E43D-435B-BEB1-4F8540C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8F619-935B-4B2E-A31B-0726BCF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5699-57C7-43EF-B0F5-6A3DA112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13A9-7DE4-4C31-A4E0-2DF03761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004-426E-454A-977A-F6C7A564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856D-A1FA-492B-8E81-8A9CC593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2B3F-3DDE-44FA-A2EC-AA3E5D8D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B1E3-CC46-4413-B1BD-31311AA8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8541-5DEB-4F15-9520-708710C0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C032-059E-4F5D-8C26-E28E2AF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3D112-6493-495C-BFCC-2307567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01FA-4318-4D52-8E7E-68FA64C6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247D-A6AE-4E40-B1EB-2D0A0BC5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A191-9810-4F06-93ED-B9B81FF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F372B-9E66-454B-AFDB-0CFAA37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8DE-921F-4AB3-88D9-E42EF18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FD52-1AB6-4495-9CC9-919C0C0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E231-C1A9-4A15-B14C-0B84B0F0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ADE82-8F87-457F-B448-91C7FCDD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3FBAA-517A-4DBF-BA4B-3A5C701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19D2-FE34-40F8-AF86-A851696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4C16-C69A-40F7-9427-D7292FA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203D-C423-4507-A524-37E9B3E7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696A-1025-4521-8D83-ED253356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9687B-2183-4047-B244-D834A744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5DD6-3A55-475D-B3DB-B2AC652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984-5F39-48D2-B179-830E4C4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3E25-F960-48A4-A46A-6064E36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CCA1-A657-4D85-BC36-592D03A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40A8C-42AB-4D48-98DA-7D6C0D0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A25C-1448-4F2D-BB8B-2F687DDF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C3B2C-78C9-4565-A91B-D30A0DA8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F1D-35AA-4FE2-B857-2027F8D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EFE9-8EC4-4E9F-BFDA-2F333B7436E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07BA-3D33-4BD0-A22C-4DACC964F00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936A-9E14-42F0-9AE4-E6368603CB4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8D32-2239-4D93-AF14-F4A813CA61E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36D-5BDE-4E16-9F98-5C04A98D32D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3178-AF28-412F-98B6-A870301783D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89CF-F2A6-4B26-BD19-6FE0F418AA9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628560"/>
            <a:ext cx="8223480" cy="162108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57480"/>
            <a:ext cx="8174160" cy="1841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x_a3b91972"/>
          <p:cNvPicPr/>
          <p:nvPr/>
        </p:nvPicPr>
        <p:blipFill>
          <a:blip r:embed="rId3"/>
          <a:stretch/>
        </p:blipFill>
        <p:spPr>
          <a:xfrm>
            <a:off x="468360" y="2997360"/>
            <a:ext cx="4522680" cy="3606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Unsere Kinder werden Musikinstrumente lernen</a:t>
            </a:r>
            <a:r>
              <a:rPr b="0" lang="ru-RU" sz="3000" spc="-1" strike="noStrike">
                <a:solidFill>
                  <a:srgbClr val="dbe7b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zu spielen. Oder wird im Sport engagieren. Vielleicht ist das eine und ande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5" descr="s3574_1251319440_1"/>
          <p:cNvPicPr/>
          <p:nvPr/>
        </p:nvPicPr>
        <p:blipFill>
          <a:blip r:embed="rId1"/>
          <a:stretch/>
        </p:blipFill>
        <p:spPr>
          <a:xfrm>
            <a:off x="4067280" y="3643200"/>
            <a:ext cx="3506760" cy="2338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Wir haben ein vereintes Familie</a:t>
            </a:r>
            <a:r>
              <a:rPr b="0" lang="de-DE" sz="3000" spc="-1" strike="noStrike">
                <a:solidFill>
                  <a:srgbClr val="dbe7b6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3" name="Picture 5" descr="13958"/>
          <p:cNvPicPr/>
          <p:nvPr/>
        </p:nvPicPr>
        <p:blipFill>
          <a:blip r:embed="rId1"/>
          <a:stretch/>
        </p:blipFill>
        <p:spPr>
          <a:xfrm>
            <a:off x="-10972800" y="-6829560"/>
            <a:ext cx="5452920" cy="3598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406624_obschestvo_semya_lideryi_test"/>
          <p:cNvPicPr/>
          <p:nvPr/>
        </p:nvPicPr>
        <p:blipFill>
          <a:blip r:embed="rId2"/>
          <a:stretch/>
        </p:blipFill>
        <p:spPr>
          <a:xfrm>
            <a:off x="1571760" y="3143160"/>
            <a:ext cx="2852640" cy="185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Und wir werden lange leben, glückliches Leben und sterben an einem Ta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5" descr="0_1e355_33a18bb_XL"/>
          <p:cNvPicPr/>
          <p:nvPr/>
        </p:nvPicPr>
        <p:blipFill>
          <a:blip r:embed="rId1"/>
          <a:stretch/>
        </p:blipFill>
        <p:spPr>
          <a:xfrm>
            <a:off x="2700360" y="2852640"/>
            <a:ext cx="5465880" cy="3648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c8fe9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e7b6"/>
                </a:solidFill>
                <a:latin typeface="Tekton Pro Cond"/>
              </a:rPr>
              <a:t>Mein Idealbild von einer Familie ist modern. </a:t>
            </a: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Meine Mutter wurde von mir allein erzogen, und ich will nicht in ihr Schicksal zu wiederholen. Und ich möchte eine normale Famili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5" descr="S7305548"/>
          <p:cNvPicPr/>
          <p:nvPr/>
        </p:nvPicPr>
        <p:blipFill>
          <a:blip r:embed="rId1"/>
          <a:stretch/>
        </p:blipFill>
        <p:spPr>
          <a:xfrm>
            <a:off x="4427640" y="386064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Zunächst schloss ich aus der Universität. Dann informieren Sie sich einen Job. Und nur dann werden wir mit meinem jungen Mann heirat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5" descr="куколки"/>
          <p:cNvPicPr/>
          <p:nvPr/>
        </p:nvPicPr>
        <p:blipFill>
          <a:blip r:embed="rId1"/>
          <a:stretch/>
        </p:blipFill>
        <p:spPr>
          <a:xfrm>
            <a:off x="3876840" y="4149720"/>
            <a:ext cx="1431720" cy="171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Wir leben in einem großen Haus auf dem Se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5" descr="u3031_7690_zimniy_peizaj"/>
          <p:cNvPicPr/>
          <p:nvPr/>
        </p:nvPicPr>
        <p:blipFill>
          <a:blip r:embed="rId1"/>
          <a:stretch/>
        </p:blipFill>
        <p:spPr>
          <a:xfrm>
            <a:off x="363528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e7b6"/>
                </a:solidFill>
                <a:latin typeface="Tekton Pro Cond"/>
              </a:rPr>
              <a:t>Wir haben zwei Kin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5" descr="000001_758"/>
          <p:cNvPicPr/>
          <p:nvPr/>
        </p:nvPicPr>
        <p:blipFill>
          <a:blip r:embed="rId1"/>
          <a:stretch/>
        </p:blipFill>
        <p:spPr>
          <a:xfrm>
            <a:off x="3635280" y="3049560"/>
            <a:ext cx="4314960" cy="323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Wir haben eine Katze und einen Hund. Das ist ein Muss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sobaki4_20070924_1613091220"/>
          <p:cNvPicPr/>
          <p:nvPr/>
        </p:nvPicPr>
        <p:blipFill>
          <a:blip r:embed="rId1"/>
          <a:stretch/>
        </p:blipFill>
        <p:spPr>
          <a:xfrm>
            <a:off x="4067280" y="3429000"/>
            <a:ext cx="4201920" cy="281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Mein Mann wird arbeiten Programmierer, und ich werde als Journalist zu arbeit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5" descr="1212660702653845_1"/>
          <p:cNvPicPr/>
          <p:nvPr/>
        </p:nvPicPr>
        <p:blipFill>
          <a:blip r:embed="rId1"/>
          <a:stretch/>
        </p:blipFill>
        <p:spPr>
          <a:xfrm>
            <a:off x="1979640" y="2997360"/>
            <a:ext cx="4896000" cy="346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Am Wochenende werden wir mit der ganzen Familie zu einem Snowboard fahr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17076"/>
          <p:cNvPicPr/>
          <p:nvPr/>
        </p:nvPicPr>
        <p:blipFill>
          <a:blip r:embed="rId1"/>
          <a:stretch/>
        </p:blipFill>
        <p:spPr>
          <a:xfrm>
            <a:off x="755640" y="3573360"/>
            <a:ext cx="4248000" cy="285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be7b6"/>
                </a:solidFill>
                <a:latin typeface="Tekton Pro Cond"/>
              </a:rPr>
              <a:t>Mein Mann und ich werden auch weiterhin Musik mach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5" descr="bc3c39f5c0afa6cc78"/>
          <p:cNvPicPr/>
          <p:nvPr/>
        </p:nvPicPr>
        <p:blipFill>
          <a:blip r:embed="rId1"/>
          <a:stretch/>
        </p:blipFill>
        <p:spPr>
          <a:xfrm>
            <a:off x="6588000" y="2492280"/>
            <a:ext cx="1370160" cy="4010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9:29:38Z</dcterms:created>
  <dc:creator>Admin</dc:creator>
  <dc:description/>
  <dc:language>en-US</dc:language>
  <cp:lastModifiedBy>кабинет 27</cp:lastModifiedBy>
  <dcterms:modified xsi:type="dcterms:W3CDTF">2013-10-01T06:47:10Z</dcterms:modified>
  <cp:revision>18</cp:revision>
  <dc:subject/>
  <dc:title>«»»»»» «Das Idealbild von meiner Familie»</dc:title>
</cp:coreProperties>
</file>