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08C-2654-439E-89A6-C1CA796F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525-204D-466F-A8B7-4D0724C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50D-588E-48DE-A5D8-F3EAAA2E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C21-707D-45DA-B469-95634BC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7CDB-D7A8-4A61-A1FD-88B26201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65F1-3147-459F-87E4-0FFE37A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CC9A-618D-4FD2-800A-C5B59E3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7879D-EAC3-410C-965A-3E659C75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4880-6CD8-47A8-99EC-CC52D714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7D9E-387D-4EAD-886E-B2A124B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68A8A-D4EB-4F1E-B39B-2C4EE8C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00F-D15B-48AC-AA89-3272656F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9E438-94CC-45CF-AA09-00F1A66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1E75A-D492-4350-95FF-1F4CB89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53CE-4864-4E1F-ABB0-C278089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5398B-5303-4A1F-9DAD-8EA4B889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8F5A-775A-4434-AB8E-D9A02DA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BE7-B339-4438-B2E2-A735285E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F6B-80E2-42FA-AB5D-D090C80E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11D-2D0E-452A-8104-AAF23D72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F63-46F8-4EED-AD5C-9B7F65C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9E9-799B-4214-89E6-39A4CE5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823-C6C8-4320-B4BD-40A49A2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1FE-B5D3-4512-9672-78497D6B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9E1B-7F82-43F1-B82B-BD0525C7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ECB-C637-4360-A2B6-7DCC73ABD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оклад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Диагностика уровня адаптации как одно из направлений психолого-педагогического сопровождения первоклассник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40000" y="3789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МБОУ «Лицей» г. Протви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едагог-психо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охман Елена Олег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февраля 2013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ровни школьной трево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Содержимое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ровни адаптации к школьному обуч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Содержимое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сравнении полученных данных за два учебных года можно говорить о том, что организация психолого-педагогического процесса адаптации является эффективной и результативн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Содержимое 5" descr="тт.jpeg"/>
          <p:cNvPicPr/>
          <p:nvPr/>
        </p:nvPicPr>
        <p:blipFill>
          <a:blip r:embed="rId2"/>
          <a:stretch/>
        </p:blipFill>
        <p:spPr>
          <a:xfrm>
            <a:off x="2857680" y="3143160"/>
            <a:ext cx="3924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Содержимое 6" descr="юю.jpeg"/>
          <p:cNvPicPr/>
          <p:nvPr/>
        </p:nvPicPr>
        <p:blipFill>
          <a:blip r:embed="rId2"/>
          <a:stretch/>
        </p:blipFill>
        <p:spPr>
          <a:xfrm>
            <a:off x="5565600" y="3841920"/>
            <a:ext cx="3578400" cy="3016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7043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даптация к школе – «перестройка познавательной, мотивационной и эмоционально-волевой сфер ребенка при переходе к систематическому организованному школьному обучению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сихолого-педагогическое сопровождение процесса адаптации к школьному обучению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7440" indent="-577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ельный. Основная работа педагогического коллектива и родителей направлена на будущих первоклассников по подготовке к обучению в лиц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7440" indent="-577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аптивный. Непосредственный процесс адаптации к школьному обучению, который длиться в течение первого полугод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7440" indent="-577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екционный. Организация психолого-педагогической поддержки школьников, у которых выявлена та или иная степень дезадапт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етодик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ределение сформированности «внутренней позиции школьника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ест на отношение к школе и учению  (Т.А. Нежнова)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ка помогает выяснить, осознает ли ребенок цели и важность учения, как воспринимает учебный процесс, для чего он ходит в шк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ределение мотивов учебной деятельности (М.Р. Гинзбург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тодика направлена на изучение сформированности мотивов учения, выявление ведущего мот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3. Перспективная  методика «Школа зверей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ает возможность выявить общее эмоциональное состояние ребенка, наличие тревож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нутренняя позиция школьни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можно определить как систему потребностей и стремлений ребенка, связанных со школой, т. е. такое отношение к школе, когда причастность к ней переживается ребенком как его собствен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ровень сформированности внутренней позиции школь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038480" cy="49417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иды школьных мотив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6143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нешний - собственного желания ходить в школу ребенок не проявляет, школу он посещает только по принужд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ебный - ребенку нравится учиться, нравится посещать шк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гровой - в школе ребенку нравится только играть, гулять, общаться с деть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зиционный - ребенок ходит в школу не для того, чтобы овладевать учебной деятельностью, а для того, чтобы почувствовать себя взрослым, повысить свой статус в глазах детей и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циальный - ребенок ходит в школу не для того, чтобы быть образованным, узнавать что-то новое, а потому, что знает: учиться надо, чтобы в будущем получить профессию, - так говорят родит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метка - ребенок ходит в школу, чтобы зарабатывать пятерки, за которые хвалят родители и уч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4" descr="жжжжж.jpeg"/>
          <p:cNvPicPr/>
          <p:nvPr/>
        </p:nvPicPr>
        <p:blipFill>
          <a:blip r:embed="rId2"/>
          <a:stretch/>
        </p:blipFill>
        <p:spPr>
          <a:xfrm>
            <a:off x="6072120" y="3929040"/>
            <a:ext cx="3071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ровни школьной мотив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Содержимое 5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ипичные причины школьн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ревожности в 1 класс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69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менение уровня и содержания требований со стороны взрослы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обходимость придерживаться правил школьной жизн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Сверхценность» позиции школьника и атрибутов школьной жизн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менение режима дня и возрастание психофизиологических нагрузок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обходимость освоения ролевого взаимодействия со значимыми другими (учителями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лкновение с системой школьных оценок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1" descr="2"/>
          <p:cNvPicPr/>
          <p:nvPr/>
        </p:nvPicPr>
        <p:blipFill>
          <a:blip r:embed="rId2"/>
          <a:stretch/>
        </p:blipFill>
        <p:spPr>
          <a:xfrm>
            <a:off x="6227640" y="3860640"/>
            <a:ext cx="27100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3:35:41Z</dcterms:created>
  <dc:creator>компот</dc:creator>
  <dc:description/>
  <dc:language>en-US</dc:language>
  <cp:lastModifiedBy>компот</cp:lastModifiedBy>
  <dcterms:modified xsi:type="dcterms:W3CDTF">2013-02-12T12:09:46Z</dcterms:modified>
  <cp:revision>30</cp:revision>
  <dc:subject/>
  <dc:title>Доклад  «Диагностика уровня адаптации как одно из направлений психолого-педагогического сопровождения первоклассников»</dc:title>
</cp:coreProperties>
</file>