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CBC-07FE-42F2-99DF-77B389CB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685-F230-4CAB-9FC2-A9F231F1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CD8-18E9-4943-A8C1-AFCDA13C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517-EEA5-4C7C-B240-962CB700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9457-46D9-489E-A1FD-3D76EE27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425-05FE-422B-9329-9A20BF2B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D8E-EE90-4BD4-9814-50750E44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ACD-F516-49FF-B241-012F2FF6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344-FF4D-481D-969F-BFAEA5A6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1D3-908A-4822-843B-3F134701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87D-D038-446E-AB5F-FE2D4D4E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D276-937C-4B4C-A3B0-9864C92D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ce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A443-3879-4A00-8C9B-2661B6DC53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352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Достопримечательности Москвы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Собор Василия Блажен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0040" y="32860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 подготови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ник 1 «А» клас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БОУ СОШ № 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умов Ив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28760" y="21384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ольше узнать о строительстве и  истории одного из               самых известных храмов Мос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проект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йти источники информации и интересные фак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елать модель соб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обор Василия Блаженного или Храм Покрова Божией Матери, что на Рву, один из сам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знаменитых храмов Москв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н был построен в середине 16 века по указу Ивана Грозного в честь взятия Казанског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ханства. Штурм Казани начался в праздник Покрова Божией Матери, отсюда название хра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храм Покрова Божией Матери. А «на рву» - потому что через всю Красную площадь, вдол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ремлевской стены шёл оборонительный ров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обор состоит из восьми церквей, по количеству значимых сражений. В центре девятая –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центральная, символизирующая победу. Позже к собору была пристроена десятая церковь, 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честь Василия Блаженного, чьи мощи находились на месте постройки собора. Отсюда второ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азвание – Собор Василия Блаженного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 Покровском соборе на Красной площади в Москве существует множество легенд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дна из них гласит, что Василий Блаженный сам собирал деньги на будущий собор, приноси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х на Красную площадь и бросал через правое плечо. Эти монеты так и лежали на земле, по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юродивый перед смертью не отдал их Ивану Грозному на строительство собор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летописях говорится, что Собор был построен двумя зодчими,  Бармой и Постником. Хот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ногие историки считают, что на самом деле это фамилия и прозвище одного мастер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звестна легенда, будто увидев великолепный храм, Иван Грозный повелел ослепит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астеров, чтобы они не могли построить в другом месте церковь красивее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Ещё одна легенда рассказывает о том, что Наполеону так понравился собор, что он захоте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еревезти его в Париж, но когда понял, что это невозможно, приказал взорвать собор вместе с Кремлем. Когда уже были зажжены фитили у взрывчатки, будто бы пошел дождь и погасил их, собор был спасен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Храм Василия Блаженного неоднократно горел, восстанавливался и реставрировался. В годы советско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ласти его  хотели снести, чтобы здание не мешало парадам и демонстрация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 начале 20 века собор стал музеем, а в конце 20 века в нем возобновили богослужения. Сегодня в Собор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асилия Блаженного можно узнать об истории памятника, увидеть образцы холодного и огнестрельного оружия и доспехи русских воинов, древнерусские иконы, художественное шитье, ткани и  металлические изделия древнерусских мастеро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подготовки проекта была использована информация официального сайта Собора Васи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лаженного: http://www.saintbasil.ru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также информация с сайт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http://www.moscow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http://www.hramy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sobor-vasiliya-blazhennogo-01"/>
          <p:cNvPicPr/>
          <p:nvPr/>
        </p:nvPicPr>
        <p:blipFill>
          <a:blip r:embed="rId1"/>
          <a:stretch/>
        </p:blipFill>
        <p:spPr>
          <a:xfrm>
            <a:off x="250920" y="2276640"/>
            <a:ext cx="4038480" cy="3173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IMG_7060"/>
          <p:cNvPicPr/>
          <p:nvPr/>
        </p:nvPicPr>
        <p:blipFill>
          <a:blip r:embed="rId2"/>
          <a:stretch/>
        </p:blipFill>
        <p:spPr>
          <a:xfrm>
            <a:off x="4643280" y="2276640"/>
            <a:ext cx="4105440" cy="318276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1599120" y="500040"/>
            <a:ext cx="629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родукт проект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13:26:23Z</dcterms:created>
  <dc:creator>User</dc:creator>
  <dc:description/>
  <dc:language>en-US</dc:language>
  <cp:lastModifiedBy>Admin</cp:lastModifiedBy>
  <dcterms:modified xsi:type="dcterms:W3CDTF">2013-10-02T17:07:18Z</dcterms:modified>
  <cp:revision>5</cp:revision>
  <dc:subject/>
  <dc:title>Слайд 1</dc:title>
</cp:coreProperties>
</file>