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685-3E49-40A1-A06F-1BCC4871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57D-88F1-44A5-BCDF-5227DD2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14A-0980-407A-A0AA-16BECCA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C2A-D5A9-43EA-84DF-16E6AF1D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23BF-5F18-45F7-87C5-3F0A49FF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6AF-27C6-4398-9173-77D57329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FFBE-5275-4F77-BD19-4442E0EB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9AFD-1782-48BE-8568-1B24100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FE50-E1FB-4CAE-8D3E-0D7CCCB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A88-D714-42AA-A03B-6B2E5895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A2E-FB09-4DDC-A82B-3317167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7B1-8C18-4014-93A5-84C0164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28AD-908E-4DAA-B38A-0C790F4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67C7-0A2D-477A-9742-4B8EC3E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C306-A05C-4B8E-8562-5BC75794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A319-1559-449A-9560-08A45412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A85-995A-4D36-B5A3-61B67AFA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216A0-FD51-4A54-B50C-AFFEB7D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51703-8153-407A-B1FD-CC8ED59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03FEB-6630-4933-A97A-2515515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D214-EA91-42D3-9EB6-32E23F2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ABC32-2940-424B-8025-CB8A55AE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3CE-3935-4D72-AE5E-CC6325EB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59170-4E33-4DDD-883B-9175916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E47DF-1892-4305-9118-1794362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12A30-C7EC-4E9F-98F8-6A886DE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19EF7-26F7-4B4F-B0E5-72208D4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D69C3-B0E7-4E76-B7C3-6150C31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196DD-1152-41F9-8BDA-E0DCA87C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FA7BD-3CC3-4811-B57E-D0878ABC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DB59-A413-41C9-9B3F-5DB758F1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2806-C64E-4EAB-B678-A6CF2966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390F-24B4-499D-889F-F99FB19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2DC-4DA8-43F6-A007-06482F6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AFE4-C8EF-4D14-BA6C-FED18D2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501E-1F5C-4396-AA28-3333DF5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6D17-25D5-43C7-9D5D-EFE6A214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02F1-51A1-4BFA-8006-2E23DC3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0429-CB76-4518-9083-4651CF0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B30F-E161-42C3-80C5-5A26563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8953-84A3-4C84-955E-F8083B3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74CA-A8A6-4C12-BD9D-75683AF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F646-EEEA-4A25-80D7-3F319894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009EC-12A8-400E-BF38-94CE5501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C2B-6FA4-432E-A89F-3B3A195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6F160-2BD5-45BA-A219-C717818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C2E62-F29E-42A9-88D5-241AADB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79F6D-3E4B-474E-927B-2E837B4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C7CE9-A7CB-4370-9835-EAA4B2A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1AE51-D070-4E05-A5E9-BDAF145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00579-D65F-4E26-AE6F-1DB2509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807B3-73CC-47D8-B2B5-44F5741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40189-F0BA-45A1-A915-4E8F173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A7D46-DAB9-4A21-8FE3-2EFDC52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2E285-FA46-4DFA-8BD5-C3966A32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A32-6CE3-49E0-8603-8BAF32F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85103-EDAF-4019-AF16-6D09DF76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E4559-4CB0-43FA-B554-9A83FE7A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81897-8FEB-453A-8D9D-678D98F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250B8-9F65-4EFC-A1E7-C74EE33E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4FAD9-A653-451C-BCF9-B32CA591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EAAFF-BF99-4D21-8DC8-488F1936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6F1E4-60BF-41A2-B350-D1B08137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3633D-3C5C-400F-BBD0-CFBFC44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06B50-973F-4FE1-A481-D356D72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8AD9E-7400-45B0-885F-BFB9D47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322-5BF5-4DCF-9592-8F8D95D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64310-0C33-4564-9773-C70688C8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EAF7A-D986-4F2E-80AF-2385A5E8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B256D-4809-4C15-8EAA-8AAD4F15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DED56-8F24-405C-8240-BFBD232C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9853C-0E65-4DF2-A0D8-A7E833B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3D316-DDFA-4003-9716-7C27B9E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DEE2B-EFF0-4C6C-942B-A8E9C8BE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A13AF-C696-4630-85AD-C2EE12CA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D9337-BF9C-45E7-99FE-E7FCB0F8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0676F-BB3A-4BAB-B2F5-2D5711B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34D-9840-438A-9DA6-3AD3EC9A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B0729-D48C-4FF2-A975-25270D7F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B49EB-DEBC-4F36-BB07-A4A5B4B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94A66-CBFF-42F1-812F-FDF6169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141C7-0D18-44C4-A5F4-AD5A05C8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07718-9D7C-4FE8-9C0A-6C73F4B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04D-1840-430E-9850-63B6A4D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2488-2EC2-4AA7-9D7E-F7528A3BA3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546-BCB9-457E-A7F1-5A3B900779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5E4F-9E87-4E1B-A542-BA9C8AAB01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373-44DC-4FBC-A50D-D35938EEAE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993-B33F-469D-B841-11F2ECA0ED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38F-86D1-47C7-89F1-EE6A8936CE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997-1912-44A2-965A-2234E6221F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42720" y="2500200"/>
            <a:ext cx="635796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Arno Pro"/>
              </a:rPr>
              <a:t>ГАЗИРОВАННЫЕ НАПИТКИ:</a:t>
            </a:r>
            <a:br>
              <a:rPr sz="5400"/>
            </a:br>
            <a:r>
              <a:rPr b="1" lang="ru-RU" sz="5400" spc="-1" strike="noStrike">
                <a:solidFill>
                  <a:srgbClr val="575f6d"/>
                </a:solidFill>
                <a:latin typeface="Arno Pro"/>
              </a:rPr>
              <a:t>ВРЕД ИЛИ ПОЛЬЗА?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52149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ащийся 4 класса «Б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утузов Саш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65807.jpg"/>
          <p:cNvPicPr/>
          <p:nvPr/>
        </p:nvPicPr>
        <p:blipFill>
          <a:blip r:embed="rId1"/>
          <a:stretch/>
        </p:blipFill>
        <p:spPr>
          <a:xfrm>
            <a:off x="5000760" y="214200"/>
            <a:ext cx="3929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МЕТОДЫ ИССЛЕДОВ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с информационным источнико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блюдение, фото-фиксац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циальный опро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нализ и обобщение информац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СОСТАВ ГАЗИРОВАННОЙ ВОД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ислот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ензоат натр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Рисунок 3" descr="e020580f4112b3f4f8d8526bb7a.jpg"/>
          <p:cNvPicPr/>
          <p:nvPr/>
        </p:nvPicPr>
        <p:blipFill>
          <a:blip r:embed="rId1"/>
          <a:stretch/>
        </p:blipFill>
        <p:spPr>
          <a:xfrm>
            <a:off x="3929040" y="1311120"/>
            <a:ext cx="4862520" cy="53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Рисунок 3" descr="b451e42c-3f7d-47bb-9427-0c26f119fe1c.jpg"/>
          <p:cNvPicPr/>
          <p:nvPr/>
        </p:nvPicPr>
        <p:blipFill>
          <a:blip r:embed="rId1"/>
          <a:stretch/>
        </p:blipFill>
        <p:spPr>
          <a:xfrm>
            <a:off x="127080" y="152280"/>
            <a:ext cx="8889840" cy="65534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happy_tooth.jpg"/>
          <p:cNvPicPr/>
          <p:nvPr/>
        </p:nvPicPr>
        <p:blipFill>
          <a:blip r:embed="rId2"/>
          <a:stretch/>
        </p:blipFill>
        <p:spPr>
          <a:xfrm>
            <a:off x="214200" y="214200"/>
            <a:ext cx="3695760" cy="3810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497a.jpg"/>
          <p:cNvPicPr/>
          <p:nvPr/>
        </p:nvPicPr>
        <p:blipFill>
          <a:blip r:embed="rId3"/>
          <a:stretch/>
        </p:blipFill>
        <p:spPr>
          <a:xfrm>
            <a:off x="1571760" y="2857680"/>
            <a:ext cx="5690880" cy="3798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symptoms-of-heart-attack.jpg"/>
          <p:cNvPicPr/>
          <p:nvPr/>
        </p:nvPicPr>
        <p:blipFill>
          <a:blip r:embed="rId4"/>
          <a:stretch/>
        </p:blipFill>
        <p:spPr>
          <a:xfrm>
            <a:off x="5572080" y="214200"/>
            <a:ext cx="33339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САХАРОЗАМЕНИТЕЛ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силит и сорбито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ахарин и циклама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спартам (Е951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Рисунок 4" descr="7.jpg"/>
          <p:cNvPicPr/>
          <p:nvPr/>
        </p:nvPicPr>
        <p:blipFill>
          <a:blip r:embed="rId1"/>
          <a:stretch/>
        </p:blipFill>
        <p:spPr>
          <a:xfrm>
            <a:off x="4714920" y="3494160"/>
            <a:ext cx="3419280" cy="31464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rcbkbn.jpeg"/>
          <p:cNvPicPr/>
          <p:nvPr/>
        </p:nvPicPr>
        <p:blipFill>
          <a:blip r:embed="rId2"/>
          <a:stretch/>
        </p:blipFill>
        <p:spPr>
          <a:xfrm>
            <a:off x="5357880" y="0"/>
            <a:ext cx="3357360" cy="33577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6" descr="NoSign.gif"/>
          <p:cNvPicPr/>
          <p:nvPr/>
        </p:nvPicPr>
        <p:blipFill>
          <a:blip r:embed="rId3"/>
          <a:stretch/>
        </p:blipFill>
        <p:spPr>
          <a:xfrm>
            <a:off x="714240" y="35002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КИСЛОТ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Рисунок 5" descr="zub.png"/>
          <p:cNvPicPr/>
          <p:nvPr/>
        </p:nvPicPr>
        <p:blipFill>
          <a:blip r:embed="rId1"/>
          <a:stretch/>
        </p:blipFill>
        <p:spPr>
          <a:xfrm>
            <a:off x="857160" y="4357800"/>
            <a:ext cx="2714760" cy="20365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465578_3.jpg"/>
          <p:cNvPicPr/>
          <p:nvPr/>
        </p:nvPicPr>
        <p:blipFill>
          <a:blip r:embed="rId2"/>
          <a:stretch/>
        </p:blipFill>
        <p:spPr>
          <a:xfrm>
            <a:off x="4929120" y="4286160"/>
            <a:ext cx="3029040" cy="20574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1232348517_bfoto_0003331.jpg"/>
          <p:cNvPicPr/>
          <p:nvPr/>
        </p:nvPicPr>
        <p:blipFill>
          <a:blip r:embed="rId3"/>
          <a:stretch/>
        </p:blipFill>
        <p:spPr>
          <a:xfrm>
            <a:off x="214200" y="357120"/>
            <a:ext cx="2967120" cy="36385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6523.jpg"/>
          <p:cNvPicPr/>
          <p:nvPr/>
        </p:nvPicPr>
        <p:blipFill>
          <a:blip r:embed="rId4"/>
          <a:stretch/>
        </p:blipFill>
        <p:spPr>
          <a:xfrm>
            <a:off x="5572080" y="285840"/>
            <a:ext cx="2895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БЕНЗОАТ НАТРИЯ (Е211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Содержимое 6" descr="127217-vitamin-c.jpg"/>
          <p:cNvPicPr/>
          <p:nvPr/>
        </p:nvPicPr>
        <p:blipFill>
          <a:blip r:embed="rId1"/>
          <a:stretch/>
        </p:blipFill>
        <p:spPr>
          <a:xfrm>
            <a:off x="2714760" y="1928880"/>
            <a:ext cx="3511440" cy="26337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4" descr="7.jpg"/>
          <p:cNvPicPr/>
          <p:nvPr/>
        </p:nvPicPr>
        <p:blipFill>
          <a:blip r:embed="rId2"/>
          <a:stretch/>
        </p:blipFill>
        <p:spPr>
          <a:xfrm>
            <a:off x="5786280" y="428760"/>
            <a:ext cx="3146760" cy="31464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Benzol.JPG"/>
          <p:cNvPicPr/>
          <p:nvPr/>
        </p:nvPicPr>
        <p:blipFill>
          <a:blip r:embed="rId3"/>
          <a:stretch/>
        </p:blipFill>
        <p:spPr>
          <a:xfrm>
            <a:off x="214200" y="2928960"/>
            <a:ext cx="26607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КОФЕИН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Содержимое 8" descr="122312-600x399-Say-no-to-caffeine.jpg"/>
          <p:cNvPicPr/>
          <p:nvPr/>
        </p:nvPicPr>
        <p:blipFill>
          <a:blip r:embed="rId1"/>
          <a:stretch/>
        </p:blipFill>
        <p:spPr>
          <a:xfrm>
            <a:off x="214200" y="1571760"/>
            <a:ext cx="79502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УГЛЕКИСЛЫЙ ГАЗ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Содержимое 5" descr="126014-c3379355b1098b44a9a57ef23ad79404.jpg"/>
          <p:cNvPicPr/>
          <p:nvPr/>
        </p:nvPicPr>
        <p:blipFill>
          <a:blip r:embed="rId1"/>
          <a:stretch/>
        </p:blipFill>
        <p:spPr>
          <a:xfrm>
            <a:off x="500040" y="1689120"/>
            <a:ext cx="6715080" cy="44766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00588827.jpg"/>
          <p:cNvPicPr/>
          <p:nvPr/>
        </p:nvPicPr>
        <p:blipFill>
          <a:blip r:embed="rId2"/>
          <a:stretch/>
        </p:blipFill>
        <p:spPr>
          <a:xfrm>
            <a:off x="4554360" y="285840"/>
            <a:ext cx="4018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ЭКСПЕРИМЕНТ№1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Содержимое 6" descr="album_pic.jpeg"/>
          <p:cNvPicPr/>
          <p:nvPr/>
        </p:nvPicPr>
        <p:blipFill>
          <a:blip r:embed="rId1"/>
          <a:stretch/>
        </p:blipFill>
        <p:spPr>
          <a:xfrm>
            <a:off x="4929120" y="285840"/>
            <a:ext cx="3857760" cy="28922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фотки 251.jpg"/>
          <p:cNvPicPr/>
          <p:nvPr/>
        </p:nvPicPr>
        <p:blipFill>
          <a:blip r:embed="rId2"/>
          <a:stretch/>
        </p:blipFill>
        <p:spPr>
          <a:xfrm>
            <a:off x="3143160" y="14288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фотки 252.jpg"/>
          <p:cNvPicPr/>
          <p:nvPr/>
        </p:nvPicPr>
        <p:blipFill>
          <a:blip r:embed="rId3"/>
          <a:stretch/>
        </p:blipFill>
        <p:spPr>
          <a:xfrm>
            <a:off x="1571760" y="257184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фотки 255.jpg"/>
          <p:cNvPicPr/>
          <p:nvPr/>
        </p:nvPicPr>
        <p:blipFill>
          <a:blip r:embed="rId4"/>
          <a:stretch/>
        </p:blipFill>
        <p:spPr>
          <a:xfrm>
            <a:off x="214200" y="3786120"/>
            <a:ext cx="3786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ЭКСПЕРИМЕНТ№2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Содержимое 6" descr="album_pic.jpeg"/>
          <p:cNvPicPr/>
          <p:nvPr/>
        </p:nvPicPr>
        <p:blipFill>
          <a:blip r:embed="rId1"/>
          <a:stretch/>
        </p:blipFill>
        <p:spPr>
          <a:xfrm>
            <a:off x="4548240" y="285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4_0.jpg"/>
          <p:cNvPicPr/>
          <p:nvPr/>
        </p:nvPicPr>
        <p:blipFill>
          <a:blip r:embed="rId2"/>
          <a:stretch/>
        </p:blipFill>
        <p:spPr>
          <a:xfrm>
            <a:off x="428760" y="3000240"/>
            <a:ext cx="4714920" cy="35355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4" descr="sprite_sub_20ozc.jpg"/>
          <p:cNvPicPr/>
          <p:nvPr/>
        </p:nvPicPr>
        <p:blipFill>
          <a:blip r:embed="rId3"/>
          <a:stretch/>
        </p:blipFill>
        <p:spPr>
          <a:xfrm>
            <a:off x="6215040" y="3675240"/>
            <a:ext cx="1071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1. ЗНАЕШЬ ЛИ ТЫ О ВРЕДЕ ГАЗИРОВАННОЙ ВОДЫ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5" descr=""/>
          <p:cNvPicPr/>
          <p:nvPr/>
        </p:nvPicPr>
        <p:blipFill>
          <a:blip r:embed="rId1"/>
          <a:stretch/>
        </p:blipFill>
        <p:spPr>
          <a:xfrm>
            <a:off x="204840" y="141912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ВЫВОД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ходе исследования выяснили, что в состав газированной воды входят вредные для здоровья веществ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Газированные напитки могут стать причиной ожирен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ведённые опыты наглядно показали агрессивность газированных напитков, наличие в их составе опасных веществ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двинутая гипотеза подтвердилась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2. ПЬЁШЬ ЛИ ТЫ ГАЗИРОВАННУЮ ВОДУ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5" descr=""/>
          <p:cNvPicPr/>
          <p:nvPr/>
        </p:nvPicPr>
        <p:blipFill>
          <a:blip r:embed="rId1"/>
          <a:stretch/>
        </p:blipFill>
        <p:spPr>
          <a:xfrm>
            <a:off x="204840" y="141912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3. КАК ЧАСТО ПЬЁШЬ ГАЗИРОВКУ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5" descr=""/>
          <p:cNvPicPr/>
          <p:nvPr/>
        </p:nvPicPr>
        <p:blipFill>
          <a:blip r:embed="rId1"/>
          <a:stretch/>
        </p:blipFill>
        <p:spPr>
          <a:xfrm>
            <a:off x="204840" y="141912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4. ПОЧЕМУ ТЫ ЕЁ ПЬЁШЬ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Содержимое 5" descr=""/>
          <p:cNvPicPr/>
          <p:nvPr/>
        </p:nvPicPr>
        <p:blipFill>
          <a:blip r:embed="rId1"/>
          <a:stretch/>
        </p:blipFill>
        <p:spPr>
          <a:xfrm>
            <a:off x="204840" y="141912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5. КАКУЮ ГАЗИРОВКУ ВЫБИРАЕШЬ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5" descr=""/>
          <p:cNvPicPr/>
          <p:nvPr/>
        </p:nvPicPr>
        <p:blipFill>
          <a:blip r:embed="rId1"/>
          <a:stretch/>
        </p:blipFill>
        <p:spPr>
          <a:xfrm>
            <a:off x="204840" y="141912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ГИПОТЕЗ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Частое употребл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газированных напитко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носит вред здоровью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Рисунок 11" descr="stk75790cor_XS.jpg"/>
          <p:cNvPicPr/>
          <p:nvPr/>
        </p:nvPicPr>
        <p:blipFill>
          <a:blip r:embed="rId1"/>
          <a:stretch/>
        </p:blipFill>
        <p:spPr>
          <a:xfrm>
            <a:off x="5214960" y="893880"/>
            <a:ext cx="35002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ЦЕЛЬ ИССЛЕДОВ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зучить состав и влияние газированных напитков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Рисунок 11" descr="stk75790cor_XS.jpg"/>
          <p:cNvPicPr/>
          <p:nvPr/>
        </p:nvPicPr>
        <p:blipFill>
          <a:blip r:embed="rId1"/>
          <a:stretch/>
        </p:blipFill>
        <p:spPr>
          <a:xfrm>
            <a:off x="4143240" y="2786040"/>
            <a:ext cx="3786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ЗАДАЧИ ИССЛЕДОВ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Изучить научную литературу по данному вопросу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Исследовать химический состав газированных напитков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пытным путём установить наличие вредных веществ в составе газированной вод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ветить на вопрос: почему употребление сладкой газированной воды вредно для организма челове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3:09:40Z</dcterms:created>
  <dc:creator>Admin</dc:creator>
  <dc:description/>
  <dc:language>en-US</dc:language>
  <cp:lastModifiedBy>1</cp:lastModifiedBy>
  <dcterms:modified xsi:type="dcterms:W3CDTF">2013-10-02T02:05:12Z</dcterms:modified>
  <cp:revision>43</cp:revision>
  <dc:subject/>
  <dc:title>Газированные напитки: вред или польза</dc:title>
</cp:coreProperties>
</file>