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99CD-98DF-4B2B-A934-14ECD0780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8FC0-F6ED-4D80-8383-7F95859A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A2CB-8704-427D-A5CC-8B8C79372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1067-45B7-4CD4-997D-34D5DD72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33BB-FCB6-40E7-9CDA-67D1BE05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3227-CB8F-4CAD-B505-1FED3CAA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9909-E7B6-4253-8A4F-38B79429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B778-38AA-4CB5-9D36-1A603EA1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1AE7-4240-4D96-B934-484F1B6C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E83C-BE98-4EDF-ADEE-537312D8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D157-9665-4234-93E5-DB29D7B5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B11B-B9D2-4A82-A87A-79246583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9C8A-5AFC-4065-B740-8085656694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Архитектурные ансамбли Петербург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ысшее церковное учреждение православной церкви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4357800"/>
            <a:ext cx="8229600" cy="17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инод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руглая постройка или круглый зал с куполом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4143240"/>
            <a:ext cx="8229600" cy="19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отонд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Доска со священным тексто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3786120"/>
            <a:ext cx="8229600" cy="23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крижал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единение различных сти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1547640" y="4149720"/>
            <a:ext cx="61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эклектик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ысший законодательный орган в царской Росси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71680" y="4857840"/>
            <a:ext cx="8229600" cy="15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ена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ошлина за ввоз и вывоз товар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400068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ыт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72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сокая платформа, возвышение, в древнегреческой архитектуре – основание храма со ступен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45716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тилоба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ечное божество, нимфа вод, рек, ручье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4429080"/>
            <a:ext cx="8229600" cy="16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аяд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II</a:t>
            </a:r>
            <a:r>
              <a:rPr b="1" lang="ru-RU" sz="8000" spc="-1" strike="noStrike">
                <a:solidFill>
                  <a:srgbClr val="000000"/>
                </a:solidFill>
                <a:latin typeface="Comic Sans MS"/>
              </a:rPr>
              <a:t> этап</a:t>
            </a: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Comic Sans MS"/>
              </a:rPr>
              <a:t>Персоны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одержимое 2"/>
          <p:cNvSpPr/>
          <p:nvPr/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Каждый правильный отв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10 бал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лександр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ександровская колон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линную завершенность площадь приобрела, когда в центре ее установили … - еще один величественный памятник победы России над войсками Наполеона. Этот объект назван в честь императора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ru-RU" sz="8000" spc="-1" strike="noStrike">
                <a:solidFill>
                  <a:srgbClr val="000000"/>
                </a:solidFill>
                <a:latin typeface="Comic Sans MS"/>
              </a:rPr>
              <a:t> этап</a:t>
            </a: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Comic Sans MS"/>
              </a:rPr>
              <a:t>Определения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Каждый правильный отве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5 балл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авел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Инженерный (Михайловский) зам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не любил жить в Зимнем дворце, всюду мерещились заговоры, и он очень торопил со строительством. Строили круглосуточно, без выходных, силами шести тысяч мастеров. Здание со всех сторон было окружено водо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ще не просохли стены, а члены царственной фамилии уже переселились в него. Через несколько недель он был убит заговорщи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иколай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–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амятник на Исаакиевской площад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монумент – уникальный образец конного памятника. Тяжелый всадник имеет всего две точки опоры (задние копыта коня). Для равновесия и устойчивости в круп коня пришлось засыпать пуды дроби, а под копыт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го ног установить металлические столбы, идущие сквозь пьедестал до его основания. Высота монумента шесть метров. … изображен в парадном мундире, на голове – каска с орл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лизавета – Зимний дворе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ынешнее здание, шестое по счету, строилось с 1754 по 1762 год по проекту Ф.Б.Растрелли. Он  был создан по приказанию … «для единой славы всероссийской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ликолепное по тем временам трехэтажное каменное здание в стиле барокко отличалось невероятными по тем временам размерами, пышной наружной отделкой и роскошным убранством внутр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тр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памятник на площади Декабрис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т памятник воздвигнут по велению Екатерин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Царица поручила эту работу Этьену Фальконе, французскому скульптору. На созданной им фигуре всадника – одеяние с элементами античной и русской одежды, голова увенчана лавровым вен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рия Николаевна – Мариинский дворе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хитектор А.И.Штакеншнейдер построил это здание в 1839 – 1844 года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ой хозяйкой была дочь императора Никола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ликая княжна … . Отсюда и название зд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84 году здание было куплено в казну. В нем разместились государственные учреждения. Ныне здание занимает Законодательное собрание Санкт-Петербур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Заголовок 1"/>
          <p:cNvSpPr/>
          <p:nvPr/>
        </p:nvSpPr>
        <p:spPr>
          <a:xfrm>
            <a:off x="457200" y="274680"/>
            <a:ext cx="8229600" cy="35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III</a:t>
            </a:r>
            <a:r>
              <a:rPr b="1" lang="ru-RU" sz="8000" spc="-1" strike="noStrike">
                <a:solidFill>
                  <a:srgbClr val="000000"/>
                </a:solidFill>
                <a:latin typeface="Comic Sans MS"/>
              </a:rPr>
              <a:t> этап</a:t>
            </a: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Comic Sans MS"/>
              </a:rPr>
              <a:t>Интересные факт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одержимое 2"/>
          <p:cNvSpPr/>
          <p:nvPr/>
        </p:nvSpPr>
        <p:spPr>
          <a:xfrm>
            <a:off x="457200" y="4357800"/>
            <a:ext cx="8229600" cy="17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Каждый правильный отв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15 бал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натская –Петровская – площадь Декабрис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 площадь трижды меняла свое наз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ихайловский (Инженерный) зам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5280" y="1773000"/>
            <a:ext cx="8748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этим зданием связано много легенд. По одной из них, солдат-часовой сообщил Павл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 явлении ему архангела Михаила, который велел на месте Летнего дворца построить храм. Император считал святого Михаила своим покровителем. Он ответил: «Воля его будет исполнена». И тогда был возведен каменный дворец с церковью св.Михаила, получивший название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жный пакгауз (Стрелка Васильевского острова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строительстве одного из этих закрытых складских помещений был частично использован материал из стен дворца царицы Прасковьи Федоровны. Сейчас в нем находится Зоологический музей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Заголовок 1"/>
          <p:cNvSpPr/>
          <p:nvPr/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IV</a:t>
            </a:r>
            <a:r>
              <a:rPr b="1" lang="ru-RU" sz="8000" spc="-1" strike="noStrike">
                <a:solidFill>
                  <a:srgbClr val="000000"/>
                </a:solidFill>
                <a:latin typeface="Comic Sans MS"/>
              </a:rPr>
              <a:t> этап</a:t>
            </a: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Comic Sans MS"/>
              </a:rPr>
              <a:t>Како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8000" spc="-1" strike="noStrike">
                <a:solidFill>
                  <a:srgbClr val="000000"/>
                </a:solidFill>
                <a:latin typeface="Comic Sans MS"/>
              </a:rPr>
              <a:t> это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здание</a:t>
            </a:r>
            <a:r>
              <a:rPr b="1" lang="ru-RU" sz="8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457200" y="4286160"/>
            <a:ext cx="822960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Каждый правильный отв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20 бал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иль еврейской архитектуры второй половины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в., основанный на нормах античной архитект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4429080"/>
            <a:ext cx="8229600" cy="16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лассициз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дание Бирж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величественное сооружение построено по типу храмов Древней Греции. Прямоугольное в плане, оно расположено на стилобате. К зданию ведут широкие торжественные лестницы и пологие пандус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тик фасада украшен скульптурной группой «Нептун с двумя рекам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аакиевский со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57120" y="1600200"/>
            <a:ext cx="842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четырех сторон здание окружено 8 и 16-колонными портиками с фронтонами, украшенными статуями по углам и барельефами. Для его сооружения и убранства использовали 43 породы минералов. Цоколь здания облицован гранитом, а стены покрыты серым мрамором. Внутри стены и пол выложены плитами русских, итальянских и французских мрамо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дание Главного штаб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грандиозное здание состоит из двух корпусов, соединенных величественной триумфальной ар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ено оно в строгом классическом стиле. Корпуса его, похожие на крылья, обрамляют площадь. Фасады их украшены величественными портиками. Общая длина фасада здания – 530 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457200" y="274680"/>
            <a:ext cx="8229600" cy="35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1" lang="ru-RU" sz="8000" spc="-1" strike="noStrike">
                <a:solidFill>
                  <a:srgbClr val="000000"/>
                </a:solidFill>
                <a:latin typeface="Comic Sans MS"/>
              </a:rPr>
              <a:t> эта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omic Sans MS"/>
              </a:rPr>
              <a:t>Фотодокумент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одержимое 2"/>
          <p:cNvSpPr/>
          <p:nvPr/>
        </p:nvSpPr>
        <p:spPr>
          <a:xfrm>
            <a:off x="457200" y="4357800"/>
            <a:ext cx="8229600" cy="17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Каждый правильный отв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10 бал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имний дворе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IMG_6790"/>
          <p:cNvPicPr/>
          <p:nvPr/>
        </p:nvPicPr>
        <p:blipFill>
          <a:blip r:embed="rId1"/>
          <a:stretch/>
        </p:blipFill>
        <p:spPr>
          <a:xfrm>
            <a:off x="900000" y="233280"/>
            <a:ext cx="441504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IMG_7960"/>
          <p:cNvPicPr/>
          <p:nvPr/>
        </p:nvPicPr>
        <p:blipFill>
          <a:blip r:embed="rId1"/>
          <a:stretch/>
        </p:blipFill>
        <p:spPr>
          <a:xfrm>
            <a:off x="-2773440" y="-1324080"/>
            <a:ext cx="15605280" cy="104014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232920" y="5867280"/>
            <a:ext cx="30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дание Бир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SPb1_24"/>
          <p:cNvPicPr/>
          <p:nvPr/>
        </p:nvPicPr>
        <p:blipFill>
          <a:blip r:embed="rId1"/>
          <a:stretch/>
        </p:blipFill>
        <p:spPr>
          <a:xfrm>
            <a:off x="-492120" y="-4065480"/>
            <a:ext cx="10128240" cy="149889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590040" y="-36360"/>
            <a:ext cx="361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дмиралтей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2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IMG_8886"/>
          <p:cNvPicPr/>
          <p:nvPr/>
        </p:nvPicPr>
        <p:blipFill>
          <a:blip r:embed="rId1"/>
          <a:stretch/>
        </p:blipFill>
        <p:spPr>
          <a:xfrm>
            <a:off x="-684360" y="-1251000"/>
            <a:ext cx="13716000" cy="9144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-720" y="260280"/>
            <a:ext cx="47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ание Главного шта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IMG_6781"/>
          <p:cNvPicPr/>
          <p:nvPr/>
        </p:nvPicPr>
        <p:blipFill>
          <a:blip r:embed="rId1"/>
          <a:stretch/>
        </p:blipFill>
        <p:spPr>
          <a:xfrm>
            <a:off x="-630360" y="-25560"/>
            <a:ext cx="10404720" cy="6909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950040" y="684360"/>
            <a:ext cx="275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унсткам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SPb1_15"/>
          <p:cNvPicPr/>
          <p:nvPr/>
        </p:nvPicPr>
        <p:blipFill>
          <a:blip r:embed="rId1"/>
          <a:stretch/>
        </p:blipFill>
        <p:spPr>
          <a:xfrm>
            <a:off x="971640" y="333360"/>
            <a:ext cx="7345440" cy="4730760"/>
          </a:xfrm>
          <a:prstGeom prst="rect">
            <a:avLst/>
          </a:prstGeom>
          <a:ln w="0">
            <a:noFill/>
          </a:ln>
        </p:spPr>
      </p:pic>
      <p:sp>
        <p:nvSpPr>
          <p:cNvPr id="126" name="Заголовок 1"/>
          <p:cNvSpPr/>
          <p:nvPr/>
        </p:nvSpPr>
        <p:spPr>
          <a:xfrm>
            <a:off x="611280" y="537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дание Двенадцати колег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рхитектурно-декоративная деталь в виде носовой части кораб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3143160"/>
            <a:ext cx="822960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остр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40096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чреждение, где заключают финансовые и торговые сдел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4214520"/>
            <a:ext cx="8229600" cy="19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Биржа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клонный спуск для въезд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350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анду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удожественный стиль, отличающийся декоративностью, сложными украшени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3571560"/>
            <a:ext cx="822960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Барокк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кульптурное изображение, выступающее над плоскостью фона менее чем на половину своего объ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4429080"/>
            <a:ext cx="8229600" cy="16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барельеф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огласованность, стройность часте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4642920"/>
            <a:ext cx="8229600" cy="14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нсамбл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14:18:18Z</dcterms:created>
  <dc:creator>Пердопупки</dc:creator>
  <dc:description/>
  <dc:language>en-US</dc:language>
  <cp:lastModifiedBy>Английский язык</cp:lastModifiedBy>
  <dcterms:modified xsi:type="dcterms:W3CDTF">2013-10-02T12:52:25Z</dcterms:modified>
  <cp:revision>29</cp:revision>
  <dc:subject/>
  <dc:title>Храмы Санкт-Петербурга</dc:title>
</cp:coreProperties>
</file>