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E60D-BAFF-45F8-B909-DC1922D3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4214-6CF6-4B1A-BF0B-30E3C9B8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2941-B148-4DA6-BCE8-5B00D11C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19DE-A9F8-439E-AEB5-F822B82C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7EC1-5CDB-40FB-A95B-0727D150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B835-4ABD-446E-8AB0-4AA7729E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D675-ACAF-4596-9B12-63BB71ED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48E6-40A2-4237-996C-8E263DAD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379D-2D49-41FA-824D-F1FA09D5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CCB3-3236-4530-8473-386CDC35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7B08-E80C-43DE-B15B-2CCA44C5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53F1-D6B2-405C-BE46-0322A83B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4D44-8C3B-4BC1-8F9D-BCE70B56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7047-531F-4E55-9112-29B60CD4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AB37-C8CF-4ACC-BD8F-BB18B1B3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BE8F-8D4A-4CAB-838F-249BEB24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5586-2BFF-485C-8655-D4E4EE65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B9CE3-BB28-4B51-AEA3-BBDB0DC9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3A6AF-17B8-49C5-BCEF-C2882428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B5FA6-735C-4FFD-8702-F07F193B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D6C73-48B0-4C89-917C-FEBF435F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7266B-E90E-4A54-B465-C01B263D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400C-68DE-4F86-98AE-4E119F9D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EE287-D5F0-4350-9D83-65C77B67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EECA0-69EC-4E72-883B-3BD494A2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52BFD-6364-471C-A213-254D3090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1DA6C-F622-42B6-997C-819BBFDF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C6491-3122-4A55-9FF3-E5568FD9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7ECD7-E175-4CD2-8679-2904538B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EE076-99F1-4116-AF6E-D33163A2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0E06A-0496-4217-82BC-EE7585C2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8EA9C-6EAF-489B-8300-96BAE4A8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9F7B2-20A9-4EEA-9C94-88305496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45AF-1786-4804-8AF1-1BFA1A66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A90CF-22E7-476E-99D4-4B5FB79D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8FEF3-771A-45EB-96DB-08CFF980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E3577-41E0-47A5-BAB0-054011EB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B77F4-64F0-4AFD-9B2A-E836C83B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2326E-2872-45D8-8EC0-EDF92703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98379-9ED3-4974-907B-90610507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C8640-9352-4DC9-8454-F7E7FA5F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078A8-9A37-4D1E-B329-15715F01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BA54D-A32A-4014-98D8-0CFE3AF2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649EE-26C4-4C5E-BE5F-66F7CAAF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601D-3808-48E1-BBC5-2269C5C2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F760E-7087-4E7F-91A1-49FEFE69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B6371-7B18-4811-B7B0-B70A5925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92E80-1DB4-48C7-95F1-876A29C5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DE41D-B040-43F6-84EF-F3997A5C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4C027-A87F-46E2-9F85-721624DB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1D0B6-FDD1-4F6D-B3C2-580E538B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4AB4B-1C9A-4830-936E-EBA46EC3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7C7F2-E1C9-4BE2-9447-A945EAEB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8EAE3-0EAE-49F8-A2EA-F3FD870A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50AE0-247C-418F-AB05-FE89211F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5056-0777-496B-A15B-2051EE53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ADDA3-39BE-4037-8AE8-1002468C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8E99-4AD8-41E4-A01F-5B4E9BA4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9B2E-F939-4D1E-AEA5-1FFD3D22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ADE5-B90A-4A0C-B2EE-8D052D82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2D71-72F2-4268-A1BD-D16FE67145D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3550-8831-4036-A3F6-2C693CF7FBE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F75F-4266-4B38-9EEE-5F9B058661F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8001-B8BB-498A-A755-CA653BF18EB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283F-CD3C-4FE9-B802-DAFAF12720D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487440" y="1457280"/>
            <a:ext cx="8218440" cy="13827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УРОК - ЗАЧЕТ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074160" y="-9922680"/>
            <a:ext cx="69840" cy="9922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71680" y="1428840"/>
            <a:ext cx="8146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В ШКАФУ ВИСЯТ ДВЕ КУРТКИ. ОДНА КУРТКА СИНЕГО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ЦВЕТА, А ДРУГАЯ – ЖЕЛТОГО. РАЗНЫЕ ЦВЕТА КУРТОК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ГОВОРЯТ О ТОМ, ЧТ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1) СИНЯЯ КУРТКА ХОЛОДНЕЕ НА ОЩУПЬ, ЧЕМ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ЖЕЛТАЯ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2) СИНЯЯ КУРТКА ЛУЧШЕ ГРЕЕТ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3) КРАСКИ, КОТОРЫМИ ПОКРАШЕНЫ КУРТКИ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ПОГЛОЩАЮТ СВЕТ РАЗНЫХ ДЛИН ВОЛН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4) ЖЕЛТАЯ КУРТКА ПРОЧНЕЕ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С ПОМОЩЬЮ КАКОГО ЭЛЕМЕНТА СПЕКТРОГРАФА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ПРОИСХОДИТ РАЗЛОЖЕНИЕ БЕЛОГО СВЕТА В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СПЕКТР?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С ПОМОЩЬЮ КАКОГО ЭЛЕМЕНТА СПЕКТРОГРАФА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СОЗДАЕТСЯ ПАРАЛЛЕЛЬНЫЙ ПУЧОК СВЕТА?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600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532360" y="-10384560"/>
            <a:ext cx="133560" cy="9922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79280" y="928440"/>
            <a:ext cx="8964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ЗБУЖДЕННЫЕ АТОМЫ РАЗРЕЖЕННОГО ГАЗА, СЛАБО ВЗАИМОДЕЙСТВУЮЩИЕ ДРУГ С ДРУГОМ, ДАЮТ В ОСНОВНОМ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) ЛИНЕЙЧАТЫЙ СПЕКТР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) ПОЛОСАТЫЙ СПЕКТР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 СПЛОШНОЙ СПЕКТР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ИССЛЕДОВАНИЯ РЕНТГЕНОВСКИХ СПЕКТРОВ ИСПОЛЬЗУЕТСЯ ЯВЛЕНИЕ а) ДИСПЕРСИИ; б) ДИФРАКЦ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) ТОЛЬКО 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) ТОЛЬКО б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 И а И б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) НИ а НИ б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600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ИДЫ ИЗЛУЧЕНИЙ.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   ИСТОЧНИКИ СВЕТ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88640"/>
            <a:ext cx="86868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ЗОВИТЕ УСЛОВИЕ НЕОБХОДИМОЕ ДЛЯ ИЗЛУЧЕНИЯ АТО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ОЕ ИЗЛУЧЕНИЕ НАЗЫВАЕТСЯ ТЕПЛОВЫМ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ЕМ ОТЛИЧАЕТСЯ ЛЮМИНЕСЦЕНТНОЕ ИЗЛУЧЕНИЕ ОТ ТЕПЛОВОГО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ИЕ ВИДЫ ИЗЛУЧЕНИЙ ВЫ ЗНАЕТЕ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ЧЕМУ СВЕТЯТСЯ В ТЕМНОТЕ КУСОЧКИ ГНИЮЩЕГО ДЕРЕВА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 ПРЕДСТАВЛЯЕТ СОБОЙ ЭЛЕКТРОЛЮМИНЕСЦЕНЦИЯ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600000">
    <p:blinds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68360" y="1130400"/>
            <a:ext cx="8229600" cy="57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 НАЗЫВАЕТСЯ ИЗЛУЧЕНИЕ ВЫЗВАННОЕ БОМБАРДИРОВКОЙ ЭЛЕКТРОНАМИ ТВЕРДЫХ ТЕЛ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ИЕ ИСТОЧНИКИ ИЗЛУЧЕНИЯ ЯВЛЯЮТСЯ САМЫМИ РАСПРОСТРАНЕНЫМИ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ЕЧИСЛИТЕ ВИДЫ ИЗЛУЧЕНИЙ И ИХ ИСТОЧНИК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 КАКОМУ ВИДУ ВОЛН ОТНОСИТСЯ СВЕТ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600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СПЕКТРЫ. ВИДЫ СПЕКТРОВ.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   СПЕКТРАЛЬНЫЕ АППАРАТЫ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ОЙ СВЕТ НАЗЫВАЕТС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НОХРОМАТИЧЕСКИМ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ЛУЧЕНИЕ ИСТОЧНИКОВ СВЕТА НОСЯТ МОНОХРОМАТИЧЕСКИЙ ИЛИ НЕМОНОХРОМАТИЧЕСКИЙ ХАРАКТЕР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 ТАКОЕ СПЕКТР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ИЕ ВИДЫ СПЕКТРОВ ВЫ ЗНАЕТЕ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ИЕ ПРИБОРЫ ИСПОЛЬЗУЮТ ДЛЯ ТОЧНОГО ИССЛЕДОВАНИЯ СПЕКТРОВ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 ЯВЛЯЕТСЯ ИХ ОСНОВНОЙ ЧАСТЬЮ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95280" y="-387360"/>
            <a:ext cx="8229600" cy="57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ЧЕМ ОТЛИЧИЕ МЕЖДУ СПЕКТРОГРАФОМ И СПЕКТРОСКОПОМ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АЯ ЧАСТЬ ПРИБОРА НАЗЫВАЕТСЯ КОЛЛИМАТОРОМ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КАЖИТЕ И НАЗОВИТЕ ОСНОВНЫЕ СОСТАВЛЯЮЩИЕ СПЕКТРАЛЬНЫХ АППАРАТ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ЧЕМ СУЩНОСТЬ СПЕКТРАЛЬНОГО АНАЛИЗА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ИЕ ВЕЩЕСТВА В НАГРЕТОМ СОСТОЯНИИ ДАЮТ ЛИНЕЙЧАТЫЙ СПЕКТР? СПЛОШНОЙ? ПОЛОСАТЫЙ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УЮ ЛАМПУ НАКАЛИВАЮТ ПОСТЕПЕННО. КАКИЕ ИЗМЕНЕНИЯ В СПЕКТРЕ ЛАМПЫ ПРИ ЭТОМ НАБЛЮДАЮТСЯ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НА РИСУНКЕ ПРИВЕДЕНЫ СПЕКТРЫ ПОГЛОЩЕНИЯ НЕИЗВЕСТНОГО ГАЗА, АТОМОВ ВОДОРОДА И ГЕЛИЯ. ЧТО МОЖНО СКАЗАТЬ О ХИМИЧЕСКОМ СОСТАВЕ ГАЗА?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54" name="Object 3"/>
          <p:cNvGraphicFramePr/>
          <p:nvPr/>
        </p:nvGraphicFramePr>
        <p:xfrm>
          <a:off x="1332000" y="2276640"/>
          <a:ext cx="544500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276640"/>
                    <a:ext cx="544500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600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358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ИНФРАКРАСНОЕ И УЛЬТРАФИОЛЕТОВОЕ ИЗЛУЧЕН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77720" y="1844280"/>
            <a:ext cx="818856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ЧТО ПОНИМАЮТ ПОД ИНФРАКРАСНЫМ ИЗЛУЧЕНИЕМ?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ПРИ КАКИХ УСЛОВИЯХ ОНО ВОЗНИКАЕТ?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ГДЕ ПРИМЕНЯЕТСЯ ИНФРАКРАСНОЕ ИЗЛУЧЕНИЕ?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ЧТО ПОНИМАЮТ ПОД УЛЬТРАФИОЛЕТОВЫМ ИЗЛУЧЕНИЕМ?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ПРИ КАКИХ УСЛОВИЯХ ОНО ВОЗНИКАЕТ? КАКИЕ ЕГО СВОЙСТВА?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ГДЕ НАХОДИТ ПРАКТИЧЕСКОЕ ПРИМЕНЕНИЕ УЛЬТРАФИОЛЕТОВОЕ ИЗЛУЧЕНИЕ?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600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НТГЕНОВСКОЕ ИЗЛУЧ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50920" y="1915920"/>
            <a:ext cx="86421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 ПОНИМАЮТ ПОД РЕНТГЕНОВСКИМ ИЗЛУЧЕНИЕМ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ЕМ И КОГДА БЫЛИ ОТКРЫТЫ РЕНТГЕНОВСКИЕ ЛУЧИ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ЕЧИСЛИТЕ СВОЙСТВА РЕНТГЕНОВСКИХ ЛУЧЕ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 УСТПРОЕНА РЕНТГЕНОВСКАЯ ТРУБКА? ПОКАЗАТЬ И РАССКАЗА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ДЕ НАШЛИ ПРАКТИЧЕСКОЕ ПРИМЕНЕНИЕ РЕНТГЕНОВСКИЕ ЛУЧИ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ЕЧИСЛИТЕ ОСНОВНЫЕ ВИДЫ ИЗЛУЧЕНИЙ В ПОРЯДКЕ УБЫВАНИЯ ДЛИНЫ ВОЛ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600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КОНТРОЛЬНАЯ ПРОВЕРКА ЗНАНИЙ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8000" y="1484280"/>
            <a:ext cx="867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 ИНФРАКРАСНОЕ ИЗЛУЧЕНИЕ ДЕЙСТВУЕТ НА ЖИВОЙ ОРГАНИЗМ?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) ОХЛАЖДАЕТ ОБЛУЧАЕМУЮ ПОВЕРХ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) НАГРЕВАЕТ ОБЛУЧАЕМУЮ ПОВЕРХ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 СПОСОБСТВУЕТ ЗАГАР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ОЕ ИЗ ПРИРОДНЫХ ЯВЛЕНИЙ НЕ МОЖЕТ СЛУЖИТЬ ПРИМЕРОМ ИЗЛУЧЕНИЯ ЭЛЕКТРОМАГНИТНЫХ ВОЛН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) МОЛ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) ГРО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 ИЗЛУЧЕНИЕ ЗВЕЗ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) ПОЛЯРНОЕ СИЯ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600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08:48:23Z</dcterms:created>
  <dc:creator>1</dc:creator>
  <dc:description/>
  <dc:language>en-US</dc:language>
  <cp:lastModifiedBy>наталия</cp:lastModifiedBy>
  <dcterms:modified xsi:type="dcterms:W3CDTF">2013-10-02T10:10:35Z</dcterms:modified>
  <cp:revision>22</cp:revision>
  <dc:subject/>
  <dc:title>ИЗЛУЧЕНИЕ И СПЕКТРЫ</dc:title>
</cp:coreProperties>
</file>