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2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4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png" ContentType="image/png"/>
  <Override PartName="/ppt/media/image2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C554-DF73-42D3-9DC4-1061435F4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stellar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F9C9-CC38-40CA-9E8E-DC514463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stellar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7A5F-DC38-4625-94AE-A2D8CB044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stellar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BD20-B24A-4ED4-AF06-286E92EB2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7B473-A6A5-4507-A097-A826CCE0C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stellar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B71A3-8BAF-449C-BE39-ED7C36C7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stella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F03EB-B74B-4A06-BE55-089A9F6C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stellar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8D206-EA9D-4676-9135-C8FF379A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stel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F5D75-F7D5-43E1-9385-9B18E7ED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C519A6-992C-4356-9097-40759E32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stellar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C3FAC9-7A8F-4F7D-B008-0762FDEA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stellar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274B-CC3C-4621-B5FE-2389BA97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stellar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72E3E-B431-41BC-852D-6BA45648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stella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06884-13E9-4033-86DA-67DF8DF9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stellar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21507-1DAF-43C8-BEC0-7C9B2CD0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stellar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6406E-7A73-4028-A552-28F4FA8AA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stellar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2E239-8B5C-46E2-92CC-D1E7FDDC0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9D4C0-878F-4B08-B5BF-6968F66C0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stellar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24D6A-8BDD-4AD9-877F-F94B8CD2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stellar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C449C-3486-4182-AF93-CFC21F5A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stella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2AE6F-E82A-4B84-9834-0C165F6E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stel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57844-0AF7-4807-81F4-8C4B8A54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stella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DF32-EE37-4D72-ABFD-D44A1931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06591-B5CD-432F-9983-1B434B1B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stellar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463BE-BE74-4CEA-8978-66D6DC57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stellar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44FBA-AFB1-4A6A-A9F8-419D0C39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stellar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4191C-8ECF-4548-A31C-CC548EB6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stellar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A11AA-7FCC-4A28-B534-383451B1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stellar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B804D-2892-4F8C-B370-32C0C1A16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stellar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E144B-5054-444F-AC6C-F587F27CF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A52280-0A3B-44E9-AE99-7BCF2F3E2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stella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936321-6913-4D6B-A1A2-A277262C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stellar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143807-EDFE-44E4-89C7-AF3109E7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stella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BF21-E386-422E-B574-F364ED7E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stellar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62D7DD-DFB2-440C-B81F-4161A11E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stel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CE9CE6-EA0B-4149-9598-5F2500EC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5BC074-0929-4D45-A7D3-6188C5DE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stellar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08EE3A-FEA0-4C29-A8B5-6F5A90EB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stellar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99C3C1-7CB9-4457-AA98-152E2FA6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stellar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8B3311-5EF0-4DAD-BA30-95772324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stellar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BD5DED-B24F-4362-A26F-CC19B3B0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stellar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8B81EF-0D76-4F51-8955-09210B275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stellar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1DECCF-70AC-4A9A-AC71-32CB9A3C0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stel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A737-7211-47AD-9998-A7EB5111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61C1-996C-4070-BE7E-1D2395AE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stellar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C1D8-8899-489A-8539-D15FE764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stellar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6796-D7D1-48D3-99C4-D0F8739C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stellar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E67C-CB10-433E-AF26-5FA17618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9bb39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80958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601"/>
              </a:spcBef>
              <a:buClr>
                <a:srgbClr val="9bb39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601"/>
              </a:spcBef>
              <a:buClr>
                <a:srgbClr val="9bb39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676a5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4ACD-8AA2-41F8-BC59-47E2E48B905B}" type="slidenum">
              <a:rPr b="0" lang="ru-RU" sz="1600" spc="-1" strike="noStrike">
                <a:solidFill>
                  <a:srgbClr val="676a55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astellar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astel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bf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bf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b0ccb0"/>
          </a:solidFill>
          <a:ln w="38160">
            <a:solidFill>
              <a:srgbClr val="b0ccb0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9bb39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80958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601"/>
              </a:spcBef>
              <a:buClr>
                <a:srgbClr val="9bb39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601"/>
              </a:spcBef>
              <a:buClr>
                <a:srgbClr val="9bb39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astellar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astellar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676a5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B9AE-CAB0-429F-8FE6-F05FD1FE205D}" type="slidenum">
              <a:rPr b="0" lang="ru-RU" sz="1600" spc="-1" strike="noStrike">
                <a:solidFill>
                  <a:srgbClr val="676a55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9bb39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80958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601"/>
              </a:spcBef>
              <a:buClr>
                <a:srgbClr val="9bb39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601"/>
              </a:spcBef>
              <a:buClr>
                <a:srgbClr val="9bb39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astellar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astellar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676a5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C129-F3DB-4920-BE66-0A29A3914726}" type="slidenum">
              <a:rPr b="0" lang="ru-RU" sz="1600" spc="-1" strike="noStrike">
                <a:solidFill>
                  <a:srgbClr val="676a55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bf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bf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9bb39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80958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601"/>
              </a:spcBef>
              <a:buClr>
                <a:srgbClr val="9bb39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601"/>
              </a:spcBef>
              <a:buClr>
                <a:srgbClr val="9bb39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astellar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astellar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676a5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2589-EFB8-421C-98FA-211BD9F58BE7}" type="slidenum">
              <a:rPr b="0" lang="ru-RU" sz="1600" spc="-1" strike="noStrike">
                <a:solidFill>
                  <a:srgbClr val="676a55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WordArt 4" descr=""/>
          <p:cNvPicPr/>
          <p:nvPr/>
        </p:nvPicPr>
        <p:blipFill>
          <a:blip r:embed="rId1"/>
          <a:stretch/>
        </p:blipFill>
        <p:spPr>
          <a:xfrm>
            <a:off x="420840" y="396720"/>
            <a:ext cx="8442000" cy="3175200"/>
          </a:xfrm>
          <a:prstGeom prst="rect">
            <a:avLst/>
          </a:prstGeom>
          <a:ln w="0">
            <a:noFill/>
          </a:ln>
        </p:spPr>
      </p:pic>
      <p:pic>
        <p:nvPicPr>
          <p:cNvPr id="171" name="03_Trezvon_k_liturgii.mp3" descr=""/>
          <p:cNvPicPr/>
          <p:nvPr/>
        </p:nvPicPr>
        <p:blipFill>
          <a:blip r:embed="rId2"/>
          <a:stretch/>
        </p:blipFill>
        <p:spPr>
          <a:xfrm>
            <a:off x="179280" y="7316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C:\Documents and Settings\Учитель\Рабочий стол\Колокола рисунки\1.jpg"/>
          <p:cNvPicPr/>
          <p:nvPr/>
        </p:nvPicPr>
        <p:blipFill>
          <a:blip r:embed="rId3"/>
          <a:stretch/>
        </p:blipFill>
        <p:spPr>
          <a:xfrm>
            <a:off x="1928880" y="2643120"/>
            <a:ext cx="5226120" cy="3867120"/>
          </a:xfrm>
          <a:prstGeom prst="rect">
            <a:avLst/>
          </a:prstGeom>
          <a:ln w="0">
            <a:noFill/>
          </a:ln>
        </p:spPr>
      </p:pic>
      <p:pic>
        <p:nvPicPr>
          <p:cNvPr id="173" name="звон.mp3" descr=""/>
          <p:cNvPicPr/>
          <p:nvPr/>
        </p:nvPicPr>
        <p:blipFill>
          <a:blip r:embed="rId4"/>
          <a:stretch/>
        </p:blipFill>
        <p:spPr>
          <a:xfrm>
            <a:off x="8429760" y="6215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929040" y="1499760"/>
            <a:ext cx="49687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Создатели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Иван и Михаил   Мотори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1735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вес – 201 т. 924 к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высота- 6 м. 14 с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диаметр- 6 м. 60 с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2084400" y="208080"/>
            <a:ext cx="4724280" cy="12301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C:\Documents and Settings\Учитель\Рабочий стол\Колокола рисунки\11.jpg"/>
          <p:cNvPicPr/>
          <p:nvPr/>
        </p:nvPicPr>
        <p:blipFill>
          <a:blip r:embed="rId2"/>
          <a:stretch/>
        </p:blipFill>
        <p:spPr>
          <a:xfrm>
            <a:off x="306360" y="1428840"/>
            <a:ext cx="3551400" cy="485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90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70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90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11"/>
          <p:cNvSpPr/>
          <p:nvPr/>
        </p:nvSpPr>
        <p:spPr>
          <a:xfrm>
            <a:off x="250920" y="376920"/>
            <a:ext cx="8035920" cy="41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 Black"/>
              </a:rPr>
              <a:t>В и д ы    з в о н о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595959"/>
                </a:solidFill>
                <a:latin typeface="Arial"/>
              </a:rPr>
              <a:t>Благовест</a:t>
            </a:r>
            <a:br>
              <a:rPr sz="3200"/>
            </a:br>
            <a:r>
              <a:rPr b="1" lang="ru-RU" sz="32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595959"/>
                </a:solidFill>
                <a:latin typeface="Arial"/>
              </a:rPr>
              <a:t>Перезв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595959"/>
                </a:solidFill>
                <a:latin typeface="Arial"/>
              </a:rPr>
              <a:t>Собственно звон</a:t>
            </a:r>
            <a:br>
              <a:rPr sz="3200"/>
            </a:b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2" descr="C:\Documents and Settings\Учитель\Рабочий стол\Колокола рисунки\13-1.jpg"/>
          <p:cNvPicPr/>
          <p:nvPr/>
        </p:nvPicPr>
        <p:blipFill>
          <a:blip r:embed="rId1"/>
          <a:stretch/>
        </p:blipFill>
        <p:spPr>
          <a:xfrm>
            <a:off x="3857760" y="2860560"/>
            <a:ext cx="4786200" cy="356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3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250920" y="592920"/>
            <a:ext cx="525780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lang="ru-RU" sz="4400" spc="-1" strike="noStrike">
                <a:solidFill>
                  <a:srgbClr val="0070c0"/>
                </a:solidFill>
                <a:latin typeface="Arial Black"/>
              </a:rPr>
              <a:t>Благовес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95959"/>
                </a:solidFill>
                <a:latin typeface="Arial"/>
              </a:rPr>
              <a:t>Размеренные удары в один большой колокол. Этим звоном верующим возвещается благая весть о начале богослужения в храм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95959"/>
                </a:solidFill>
                <a:latin typeface="Arial"/>
              </a:rPr>
              <a:t>Благовест бывает праздничный, будничный и постный</a:t>
            </a:r>
            <a:r>
              <a:rPr b="0" lang="ru-RU" sz="2400" spc="-1" strike="noStrike">
                <a:solidFill>
                  <a:srgbClr val="59595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6" descr="C:\Documents and Settings\Учитель\Рабочий стол\Колокола рисунки\14.jpg"/>
          <p:cNvPicPr/>
          <p:nvPr/>
        </p:nvPicPr>
        <p:blipFill>
          <a:blip r:embed="rId1"/>
          <a:stretch/>
        </p:blipFill>
        <p:spPr>
          <a:xfrm>
            <a:off x="5357880" y="1285920"/>
            <a:ext cx="3513240" cy="421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2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000"/>
                            </p:stCondLst>
                            <p:childTnLst>
                              <p:par>
                                <p:cTn id="3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2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6000"/>
                            </p:stCondLst>
                            <p:childTnLst>
                              <p:par>
                                <p:cTn id="36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4"/>
          <p:cNvSpPr/>
          <p:nvPr/>
        </p:nvSpPr>
        <p:spPr>
          <a:xfrm>
            <a:off x="357120" y="858240"/>
            <a:ext cx="432108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Перезвон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95959"/>
                </a:solidFill>
                <a:latin typeface="Arial"/>
              </a:rPr>
              <a:t>Перебор колоколов от самого большого колокола до самого маленького или наоборот с различным количеством ударов в каждый колокол.</a:t>
            </a:r>
            <a:r>
              <a:rPr b="0" lang="ru-RU" sz="2800" spc="-1" strike="noStrike">
                <a:solidFill>
                  <a:srgbClr val="595959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10_Perezvon.mp3" descr=""/>
          <p:cNvPicPr/>
          <p:nvPr/>
        </p:nvPicPr>
        <p:blipFill>
          <a:blip r:embed="rId1"/>
          <a:stretch/>
        </p:blipFill>
        <p:spPr>
          <a:xfrm>
            <a:off x="0" y="71740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C:\Documents and Settings\Учитель\Рабочий стол\Колокола рисунки\15-1.jpg"/>
          <p:cNvPicPr/>
          <p:nvPr/>
        </p:nvPicPr>
        <p:blipFill>
          <a:blip r:embed="rId2"/>
          <a:stretch/>
        </p:blipFill>
        <p:spPr>
          <a:xfrm>
            <a:off x="4857840" y="642960"/>
            <a:ext cx="3809880" cy="2819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1" descr="C:\Documents and Settings\Учитель\Рабочий стол\Колокола рисунки\15-3.jpg"/>
          <p:cNvPicPr/>
          <p:nvPr/>
        </p:nvPicPr>
        <p:blipFill>
          <a:blip r:embed="rId3"/>
          <a:stretch/>
        </p:blipFill>
        <p:spPr>
          <a:xfrm>
            <a:off x="4857840" y="3786120"/>
            <a:ext cx="3857400" cy="248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3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3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0"/>
                            </p:stCondLst>
                            <p:childTnLst>
                              <p:par>
                                <p:cTn id="3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7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90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285840" y="-289800"/>
            <a:ext cx="4500360" cy="60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              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Звон</a:t>
            </a:r>
            <a:r>
              <a:rPr b="0" lang="ru-RU" sz="44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5959"/>
                </a:solidFill>
                <a:latin typeface="Arial"/>
              </a:rPr>
              <a:t>Характерный ритмический звон с использованием всех основных групп колоко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5959"/>
                </a:solidFill>
                <a:latin typeface="Arial"/>
              </a:rPr>
              <a:t>К звонам данной группы относятся: праздничный звон /трезвон, двузвон/, будничный звон, а также звоны составленные самим звонарем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8n.mp3" descr=""/>
          <p:cNvPicPr/>
          <p:nvPr/>
        </p:nvPicPr>
        <p:blipFill>
          <a:blip r:embed="rId1"/>
          <a:stretch/>
        </p:blipFill>
        <p:spPr>
          <a:xfrm>
            <a:off x="0" y="702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5" name="03_Trezvon_k_liturgii.mp3" descr=""/>
          <p:cNvPicPr/>
          <p:nvPr/>
        </p:nvPicPr>
        <p:blipFill>
          <a:blip r:embed="rId2"/>
          <a:stretch/>
        </p:blipFill>
        <p:spPr>
          <a:xfrm>
            <a:off x="0" y="753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C:\Documents and Settings\Учитель\Рабочий стол\Колокола рисунки\16-2.jpg"/>
          <p:cNvPicPr/>
          <p:nvPr/>
        </p:nvPicPr>
        <p:blipFill>
          <a:blip r:embed="rId3"/>
          <a:stretch/>
        </p:blipFill>
        <p:spPr>
          <a:xfrm>
            <a:off x="5500800" y="214200"/>
            <a:ext cx="3357360" cy="31482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1" descr="C:\Documents and Settings\Учитель\Рабочий стол\Колокола рисунки\16-3.jpg"/>
          <p:cNvPicPr/>
          <p:nvPr/>
        </p:nvPicPr>
        <p:blipFill>
          <a:blip r:embed="rId4"/>
          <a:stretch/>
        </p:blipFill>
        <p:spPr>
          <a:xfrm>
            <a:off x="4786200" y="3589200"/>
            <a:ext cx="4087800" cy="307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4000"/>
                            </p:stCondLst>
                            <p:childTnLst>
                              <p:par>
                                <p:cTn id="4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9280" y="571320"/>
            <a:ext cx="814716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Есть красота несказанная, светлая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а, что святою не зря называется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ихо раскроется тайна заветна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усь белой лебедью в сердце останетс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ном благодатным, радостью сбывшейся 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Час созерцания, Богом подаренный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удто бы чудом с Небес опустившийся -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есней беззвучною – Храм белокаменный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11" descr="Покрова на нерли"/>
          <p:cNvPicPr/>
          <p:nvPr/>
        </p:nvPicPr>
        <p:blipFill>
          <a:blip r:embed="rId1"/>
          <a:stretch/>
        </p:blipFill>
        <p:spPr>
          <a:xfrm>
            <a:off x="4572000" y="3214800"/>
            <a:ext cx="4094280" cy="3214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софия новг"/>
          <p:cNvPicPr/>
          <p:nvPr/>
        </p:nvPicPr>
        <p:blipFill>
          <a:blip r:embed="rId2"/>
          <a:stretch/>
        </p:blipFill>
        <p:spPr>
          <a:xfrm>
            <a:off x="500040" y="2500200"/>
            <a:ext cx="3546360" cy="39290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394920" y="620280"/>
            <a:ext cx="53910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обычайным, притягивающим, красивым и непривычным является сам облик храма; но как прекрасен его «голос»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ногда, еще не видя храма, находясь от него в дали, мы слышим звон его колоколо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14" descr="C:\Documents and Settings\Учитель\Рабочий стол\Колокола рисунки\3-1.jpg"/>
          <p:cNvPicPr/>
          <p:nvPr/>
        </p:nvPicPr>
        <p:blipFill>
          <a:blip r:embed="rId2"/>
          <a:stretch/>
        </p:blipFill>
        <p:spPr>
          <a:xfrm>
            <a:off x="5500800" y="285840"/>
            <a:ext cx="3429000" cy="4593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5" descr="C:\Documents and Settings\Учитель\Рабочий стол\Колокола рисунки\3-2.jpg"/>
          <p:cNvPicPr/>
          <p:nvPr/>
        </p:nvPicPr>
        <p:blipFill>
          <a:blip r:embed="rId3"/>
          <a:stretch/>
        </p:blipFill>
        <p:spPr>
          <a:xfrm>
            <a:off x="1785960" y="4000680"/>
            <a:ext cx="1928880" cy="256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432108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усская земля была наполнена храмами, с колоколен которых доносились дивные зво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локола были главным украшением земли русской, сотворенным руками челове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7" descr="The_Trinity_Catherdal_Troitse_Sergiyeva_Lavra1"/>
          <p:cNvPicPr/>
          <p:nvPr/>
        </p:nvPicPr>
        <p:blipFill>
          <a:blip r:embed="rId1"/>
          <a:stretch/>
        </p:blipFill>
        <p:spPr>
          <a:xfrm>
            <a:off x="785880" y="2928960"/>
            <a:ext cx="3429000" cy="37148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Рисунок8"/>
          <p:cNvPicPr/>
          <p:nvPr/>
        </p:nvPicPr>
        <p:blipFill>
          <a:blip r:embed="rId2"/>
          <a:stretch/>
        </p:blipFill>
        <p:spPr>
          <a:xfrm>
            <a:off x="4786200" y="428760"/>
            <a:ext cx="3872160" cy="580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Rectangle 4" descr=""/>
          <p:cNvPicPr/>
          <p:nvPr/>
        </p:nvPicPr>
        <p:blipFill>
          <a:blip r:embed="rId1"/>
          <a:stretch/>
        </p:blipFill>
        <p:spPr>
          <a:xfrm>
            <a:off x="938160" y="353880"/>
            <a:ext cx="7096320" cy="115092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- созывают верующих к богослужению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- колокол является единственным музыкальным инструментом в православном храм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- возвещает о времени совершения особенно важных частей богослужен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9" descr="C:\Documents and Settings\Учитель\Рабочий стол\Колокола рисунки\5.jpg"/>
          <p:cNvPicPr/>
          <p:nvPr/>
        </p:nvPicPr>
        <p:blipFill>
          <a:blip r:embed="rId2"/>
          <a:stretch/>
        </p:blipFill>
        <p:spPr>
          <a:xfrm>
            <a:off x="5178600" y="1600200"/>
            <a:ext cx="2977920" cy="45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7000"/>
                            </p:stCondLst>
                            <p:childTnLst>
                              <p:par>
                                <p:cTn id="1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7" descr="C:\Documents and Settings\Учитель\Рабочий стол\Колокола рисунки\6-3.jpg"/>
          <p:cNvPicPr/>
          <p:nvPr/>
        </p:nvPicPr>
        <p:blipFill>
          <a:blip r:embed="rId1"/>
          <a:stretch/>
        </p:blipFill>
        <p:spPr>
          <a:xfrm>
            <a:off x="428760" y="4000680"/>
            <a:ext cx="3174840" cy="2387520"/>
          </a:xfrm>
          <a:prstGeom prst="rect">
            <a:avLst/>
          </a:prstGeom>
          <a:ln w="0">
            <a:noFill/>
          </a:ln>
        </p:spPr>
      </p:pic>
      <p:pic>
        <p:nvPicPr>
          <p:cNvPr id="189" name="Rectangle 2" descr=""/>
          <p:cNvPicPr/>
          <p:nvPr/>
        </p:nvPicPr>
        <p:blipFill>
          <a:blip r:embed="rId2"/>
          <a:stretch/>
        </p:blipFill>
        <p:spPr>
          <a:xfrm>
            <a:off x="360360" y="274680"/>
            <a:ext cx="3784680" cy="3163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C:\Documents and Settings\Учитель\Рабочий стол\Колокола рисунки\6-2.jpg"/>
          <p:cNvPicPr/>
          <p:nvPr/>
        </p:nvPicPr>
        <p:blipFill>
          <a:blip r:embed="rId3"/>
          <a:stretch/>
        </p:blipFill>
        <p:spPr>
          <a:xfrm>
            <a:off x="3857760" y="2286000"/>
            <a:ext cx="2357280" cy="3591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C:\Documents and Settings\Учитель\Рабочий стол\Колокола рисунки\6-1.jpg"/>
          <p:cNvPicPr/>
          <p:nvPr/>
        </p:nvPicPr>
        <p:blipFill>
          <a:blip r:embed="rId4"/>
          <a:stretch/>
        </p:blipFill>
        <p:spPr>
          <a:xfrm>
            <a:off x="6286680" y="428760"/>
            <a:ext cx="2539800" cy="33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95280" y="260280"/>
            <a:ext cx="40384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 звуком колокола в России проходили многие событ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- народные собр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- праздн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- обря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- бедствия - наба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- возвращение воин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- указывали путь    странник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- встреча высоких гос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14_Nabat.mp3" descr=""/>
          <p:cNvPicPr/>
          <p:nvPr/>
        </p:nvPicPr>
        <p:blipFill>
          <a:blip r:embed="rId1"/>
          <a:stretch/>
        </p:blipFill>
        <p:spPr>
          <a:xfrm>
            <a:off x="0" y="702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" descr="C:\Documents and Settings\Учитель\Рабочий стол\Колокола рисунки\7-1.jpg"/>
          <p:cNvPicPr/>
          <p:nvPr/>
        </p:nvPicPr>
        <p:blipFill>
          <a:blip r:embed="rId2"/>
          <a:stretch/>
        </p:blipFill>
        <p:spPr>
          <a:xfrm>
            <a:off x="4357800" y="214200"/>
            <a:ext cx="4444920" cy="3340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6" descr="C:\Documents and Settings\Учитель\Рабочий стол\Колокола рисунки\7-2.jpg"/>
          <p:cNvPicPr/>
          <p:nvPr/>
        </p:nvPicPr>
        <p:blipFill>
          <a:blip r:embed="rId3"/>
          <a:stretch/>
        </p:blipFill>
        <p:spPr>
          <a:xfrm>
            <a:off x="4357800" y="3714840"/>
            <a:ext cx="4444920" cy="280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80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187" dur="1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Rectangle 2" descr=""/>
          <p:cNvPicPr/>
          <p:nvPr/>
        </p:nvPicPr>
        <p:blipFill>
          <a:blip r:embed="rId1"/>
          <a:stretch/>
        </p:blipFill>
        <p:spPr>
          <a:xfrm>
            <a:off x="255600" y="274680"/>
            <a:ext cx="8437680" cy="115236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b0ccb0"/>
              </a:buClr>
              <a:buSzPct val="8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гол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b0ccb0"/>
              </a:buClr>
              <a:buSzPct val="8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ояс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b0ccb0"/>
              </a:buClr>
              <a:buSzPct val="8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тал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b0ccb0"/>
              </a:buClr>
              <a:buSzPct val="8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вуковое кольц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b0ccb0"/>
              </a:buClr>
              <a:buSzPct val="8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губ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b0ccb0"/>
              </a:buClr>
              <a:buSzPct val="8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усть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b0ccb0"/>
              </a:buClr>
              <a:buSzPct val="8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язы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b0ccb0"/>
              </a:buClr>
              <a:buSzPct val="8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аплеч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b0ccb0"/>
              </a:buClr>
              <a:buSzPct val="8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кор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b0ccb0"/>
              </a:buClr>
              <a:buSzPct val="8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хому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7" descr="C:\Documents and Settings\Учитель\Рабочий стол\Колокола рисунки\8.jpg"/>
          <p:cNvPicPr/>
          <p:nvPr/>
        </p:nvPicPr>
        <p:blipFill>
          <a:blip r:embed="rId2"/>
          <a:stretch/>
        </p:blipFill>
        <p:spPr>
          <a:xfrm>
            <a:off x="4071960" y="1960560"/>
            <a:ext cx="478620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60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80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2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08000" y="691920"/>
            <a:ext cx="505152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70c0"/>
                </a:solidFill>
                <a:latin typeface="Arial Black"/>
              </a:rPr>
              <a:t>Колокольн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 Black"/>
              </a:rPr>
              <a:t>          </a:t>
            </a:r>
            <a:r>
              <a:rPr b="1" lang="ru-RU" sz="2800" spc="-1" strike="noStrike">
                <a:solidFill>
                  <a:srgbClr val="0070c0"/>
                </a:solidFill>
                <a:latin typeface="Arial Black"/>
              </a:rPr>
              <a:t>Ивана Великог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"Вседневный", весит 1017 пуд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колокол "Реут", весит около 2000 пуд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самый большой колокол называется "Успенский" или "Праздничный", весит около 4000 пуд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7" descr="C:\Documents and Settings\Учитель\Рабочий стол\Колокола рисунки\10.jpg"/>
          <p:cNvPicPr/>
          <p:nvPr/>
        </p:nvPicPr>
        <p:blipFill>
          <a:blip r:embed="rId1"/>
          <a:stretch/>
        </p:blipFill>
        <p:spPr>
          <a:xfrm>
            <a:off x="5143680" y="1000080"/>
            <a:ext cx="3809880" cy="507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0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600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8000"/>
                            </p:stCondLst>
                            <p:childTnLst>
                              <p:par>
                                <p:cTn id="2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16:11:30Z</dcterms:created>
  <dc:creator>WindowsXP</dc:creator>
  <dc:description/>
  <dc:language>en-US</dc:language>
  <cp:lastModifiedBy>Вецель Наталья Васильевна</cp:lastModifiedBy>
  <dcterms:modified xsi:type="dcterms:W3CDTF">2010-10-17T14:53:27Z</dcterms:modified>
  <cp:revision>23</cp:revision>
  <dc:subject/>
  <dc:title>Слайд 1</dc:title>
</cp:coreProperties>
</file>