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FD3-190A-4513-ABFA-2F5ED9CE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41D-A60F-4A60-B7F5-DE43F650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E75-3953-4C0E-9C1C-F6070B88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4D9-6CFA-4668-90D8-57C8349C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A65-C326-45CF-B906-04CD23BA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22B-0439-4D1C-9368-1E681BFC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6B6-1701-4589-9B94-63F4B48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9F7D-C828-464D-87F6-289571C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09C-9B60-4BD7-B65A-C984C97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42720" y="401400"/>
            <a:ext cx="6172200" cy="76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0385-52B2-41BF-8F55-297A2CA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D7A9-4AFE-4279-B47F-A0BED29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BDD-D5F2-45FE-90D8-61E31D8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B98-0175-42CF-905F-9FA42E7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EB08-6D2A-4472-8627-CBBF83C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7192-AF30-4CAF-94B5-095415DD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F659-B01D-486A-A15B-B5D881E0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FF6-B2F2-428A-8998-F5DB966C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8C9-09DC-42C5-BD56-E7B4DF4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9EA-BCD4-49FE-8734-36BD9F6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612-D3AA-4E9E-ABFA-38DD316D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42720" y="401400"/>
            <a:ext cx="6172200" cy="76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C33-0622-4303-9EC7-D0006BB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BF0-9402-4DDA-A091-F7CECE4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C6D-3736-4ABD-A051-11D1BF9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9AB-1E59-4D7D-AEBD-77A2436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97920" y="1100160"/>
            <a:ext cx="6405120" cy="8706960"/>
            <a:chOff x="-997920" y="1100160"/>
            <a:chExt cx="6405120" cy="8706960"/>
          </a:xfrm>
        </p:grpSpPr>
        <p:grpSp>
          <p:nvGrpSpPr>
            <p:cNvPr id="1" name=""/>
            <p:cNvGrpSpPr/>
            <p:nvPr/>
          </p:nvGrpSpPr>
          <p:grpSpPr>
            <a:xfrm>
              <a:off x="-997920" y="1100160"/>
              <a:ext cx="6405120" cy="8706960"/>
              <a:chOff x="-997920" y="1100160"/>
              <a:chExt cx="6405120" cy="87069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997920" y="1100160"/>
                <a:ext cx="6405120" cy="8698680"/>
                <a:chOff x="-997920" y="1100160"/>
                <a:chExt cx="6405120" cy="869868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90160" y="2748240"/>
                  <a:ext cx="3906360" cy="7050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fc1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997920" y="1100160"/>
                  <a:ext cx="6405120" cy="8698320"/>
                  <a:chOff x="-997920" y="1100160"/>
                  <a:chExt cx="6405120" cy="86983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18720" y="1771560"/>
                    <a:ext cx="4719240" cy="802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25920" y="2088000"/>
                    <a:ext cx="4527720" cy="771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154800" y="2404440"/>
                    <a:ext cx="4212000" cy="73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997920" y="1100160"/>
                    <a:ext cx="6405120" cy="8697960"/>
                    <a:chOff x="-997920" y="1100160"/>
                    <a:chExt cx="6405120" cy="869796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18720" y="1100160"/>
                      <a:ext cx="5076360" cy="869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fc1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997920" y="1414080"/>
                      <a:ext cx="6405120" cy="8383680"/>
                      <a:chOff x="-997920" y="1414080"/>
                      <a:chExt cx="6405120" cy="838368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18720" y="1414080"/>
                        <a:ext cx="4906080" cy="838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fc11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997920" y="1567800"/>
                        <a:ext cx="6405120" cy="8229240"/>
                        <a:chOff x="-997920" y="1567800"/>
                        <a:chExt cx="6405120" cy="82292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V="1">
                          <a:off x="1426680" y="1665720"/>
                          <a:ext cx="747720" cy="456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6560" y="4270320"/>
                          <a:ext cx="1612080" cy="184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172080" y="3739680"/>
                          <a:ext cx="1497600" cy="232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9040" y="3074760"/>
                          <a:ext cx="1370880" cy="2939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31200" y="2293560"/>
                          <a:ext cx="1201680" cy="366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266840" y="1598760"/>
                          <a:ext cx="180720" cy="445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70920" y="4763880"/>
                          <a:ext cx="1689840" cy="1401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5200" y="5189760"/>
                          <a:ext cx="1776240" cy="1020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295200" y="6631920"/>
                          <a:ext cx="1755000" cy="114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>
                          <a:off x="7920" y="6458400"/>
                          <a:ext cx="1963440" cy="41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-43560" y="5924520"/>
                          <a:ext cx="1920600" cy="38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898560" y="6924960"/>
                          <a:ext cx="1267920" cy="202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991080" y="6964560"/>
                          <a:ext cx="1187280" cy="211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074960" y="6990120"/>
                          <a:ext cx="1112760" cy="221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166760" y="7022160"/>
                          <a:ext cx="1031400" cy="231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1271520" y="7066080"/>
                          <a:ext cx="941040" cy="241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1378080" y="7099560"/>
                          <a:ext cx="844920" cy="251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1668960" y="7180560"/>
                          <a:ext cx="558000" cy="248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 flipH="1">
                          <a:off x="1826280" y="7210800"/>
                          <a:ext cx="398160" cy="243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 flipH="1">
                          <a:off x="1976400" y="7246080"/>
                          <a:ext cx="245520" cy="235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 flipH="1">
                          <a:off x="2139840" y="7274880"/>
                          <a:ext cx="84960" cy="2314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225880" y="7301520"/>
                          <a:ext cx="78480" cy="2263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217240" y="7327080"/>
                          <a:ext cx="262800" cy="218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219760" y="7366320"/>
                          <a:ext cx="451800" cy="2126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216880" y="7391880"/>
                          <a:ext cx="667440" cy="2080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212920" y="7425000"/>
                          <a:ext cx="915840" cy="200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198520" y="7450200"/>
                          <a:ext cx="1201320" cy="1922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173320" y="7492320"/>
                          <a:ext cx="1573200" cy="182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146320" y="7550640"/>
                          <a:ext cx="2021040" cy="1696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104200" y="7618680"/>
                          <a:ext cx="2593800" cy="153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043720" y="7647480"/>
                          <a:ext cx="3060000" cy="116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1987560" y="7596720"/>
                          <a:ext cx="3204720" cy="65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 flipV="1">
                          <a:off x="1881360" y="7192440"/>
                          <a:ext cx="333972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1682640" y="5090040"/>
                          <a:ext cx="3160440" cy="2066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1625400" y="4420800"/>
                          <a:ext cx="3033360" cy="261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18720" y="5744160"/>
                          <a:ext cx="1835640" cy="405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c115"/>
                        </a:solidFill>
                        <a:ln w="9360">
                          <a:solidFill>
                            <a:srgbClr val="5fc11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997920" y="3196800"/>
                          <a:ext cx="6405120" cy="6415920"/>
                          <a:chOff x="-997920" y="3196800"/>
                          <a:chExt cx="6405120" cy="64159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1762200" y="6629400"/>
                            <a:ext cx="369000" cy="333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1631520" y="6473880"/>
                            <a:ext cx="644040" cy="598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437840" y="6216120"/>
                            <a:ext cx="1079640" cy="96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284840" y="6017040"/>
                            <a:ext cx="1427760" cy="13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120680" y="5745600"/>
                            <a:ext cx="1801440" cy="1746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950040" y="5551200"/>
                            <a:ext cx="2228400" cy="2117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745200" y="5328360"/>
                            <a:ext cx="2674800" cy="2492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563040" y="5106240"/>
                            <a:ext cx="3085560" cy="2854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40200" y="4905000"/>
                            <a:ext cx="3583080" cy="320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080" y="4671000"/>
                            <a:ext cx="3921840" cy="35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20160" y="4458240"/>
                            <a:ext cx="4309200" cy="3981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-143640" y="4218840"/>
                            <a:ext cx="4696920" cy="4371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1990440" y="2571120"/>
                          <a:ext cx="988920" cy="405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1830240" y="2999160"/>
                          <a:ext cx="1664640" cy="371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1661040" y="2727000"/>
                          <a:ext cx="1845360" cy="395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1711800" y="3186720"/>
                          <a:ext cx="2073600" cy="35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1381320" y="3461400"/>
                          <a:ext cx="2923920" cy="330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1582560" y="3934800"/>
                          <a:ext cx="2792880" cy="298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1608480" y="4199040"/>
                          <a:ext cx="2889000" cy="277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1661400" y="4785480"/>
                          <a:ext cx="3056760" cy="231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1711800" y="5403600"/>
                          <a:ext cx="3230640" cy="180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1749600" y="5834880"/>
                          <a:ext cx="3293640" cy="1429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1781280" y="6259680"/>
                          <a:ext cx="334440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 flipV="1">
                          <a:off x="1829880" y="6704280"/>
                          <a:ext cx="3366000" cy="69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1932120" y="7536240"/>
                          <a:ext cx="3309480" cy="1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1522080" y="7142760"/>
                          <a:ext cx="708120" cy="253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824040" y="6887880"/>
                          <a:ext cx="1319400" cy="192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747000" y="6849000"/>
                          <a:ext cx="1383840" cy="183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663120" y="6814080"/>
                          <a:ext cx="1458360" cy="174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592920" y="6776640"/>
                          <a:ext cx="1516320" cy="164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521640" y="6744960"/>
                          <a:ext cx="1568520" cy="152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445680" y="6705000"/>
                          <a:ext cx="1634040" cy="141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369720" y="6667200"/>
                          <a:ext cx="1695960" cy="128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230760" y="6590160"/>
                          <a:ext cx="1802160" cy="99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153000" y="6547320"/>
                          <a:ext cx="1860480" cy="81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74160" y="6498720"/>
                          <a:ext cx="1918080" cy="63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>
                          <a:off x="-74520" y="6400440"/>
                          <a:ext cx="2021760" cy="174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-77040" y="6257160"/>
                          <a:ext cx="1989720" cy="9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-9360" y="5565240"/>
                          <a:ext cx="1847520" cy="70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624600" y="1976400"/>
                          <a:ext cx="866880" cy="400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939960" y="1736280"/>
                          <a:ext cx="520920" cy="427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V="1">
                          <a:off x="1433520" y="1567800"/>
                          <a:ext cx="155880" cy="453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V="1">
                          <a:off x="1428840" y="1591920"/>
                          <a:ext cx="442800" cy="4571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1430280" y="1771560"/>
                          <a:ext cx="1008000" cy="4512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1438560" y="1899720"/>
                          <a:ext cx="1246680" cy="445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1445760" y="2056680"/>
                          <a:ext cx="1461240" cy="435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1455480" y="2224800"/>
                          <a:ext cx="1656720" cy="425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1469880" y="2414880"/>
                          <a:ext cx="1834920" cy="4118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1240" y="3679560"/>
                <a:ext cx="4222800" cy="6127560"/>
                <a:chOff x="21240" y="3679560"/>
                <a:chExt cx="4222800" cy="612756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1562400" y="3679560"/>
                  <a:ext cx="2681640" cy="3191040"/>
                </a:xfrm>
                <a:prstGeom prst="line">
                  <a:avLst/>
                </a:prstGeom>
                <a:ln w="9360">
                  <a:solidFill>
                    <a:srgbClr val="5fc1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053720" y="8739360"/>
                  <a:ext cx="265320" cy="1061640"/>
                </a:xfrm>
                <a:prstGeom prst="line">
                  <a:avLst/>
                </a:prstGeom>
                <a:ln w="19080">
                  <a:solidFill>
                    <a:srgbClr val="5fc1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1240" y="6180480"/>
                  <a:ext cx="1567440" cy="3626640"/>
                  <a:chOff x="21240" y="6180480"/>
                  <a:chExt cx="1567440" cy="3626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848160" y="8741160"/>
                    <a:ext cx="205560" cy="42876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1240" y="7280640"/>
                    <a:ext cx="1197360" cy="25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c1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497240" y="9603720"/>
                    <a:ext cx="91440" cy="2016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423000" y="8312760"/>
                    <a:ext cx="633240" cy="42408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00240" y="7013160"/>
                    <a:ext cx="119880" cy="12996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1240" y="6801840"/>
                    <a:ext cx="279360" cy="21096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82800" y="7013160"/>
                    <a:ext cx="216720" cy="44424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418320" y="7872480"/>
                    <a:ext cx="209160" cy="44028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1960" y="6180480"/>
                    <a:ext cx="16560" cy="522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18720" y="3039480"/>
              <a:ext cx="4469760" cy="6759360"/>
              <a:chOff x="18720" y="3039480"/>
              <a:chExt cx="4469760" cy="6759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8720" y="6089040"/>
                <a:ext cx="1714320" cy="37098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20" y="5181120"/>
                <a:ext cx="1991520" cy="461772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2365920" y="4398480"/>
                <a:ext cx="1610640" cy="3888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1115640" y="5999040"/>
                <a:ext cx="5082840" cy="2016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-263520" y="6186600"/>
                <a:ext cx="6140160" cy="2016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818280" y="4006800"/>
                <a:ext cx="2845440" cy="3888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3488760" y="3039480"/>
                <a:ext cx="444960" cy="670680"/>
                <a:chOff x="3488760" y="3039480"/>
                <a:chExt cx="444960" cy="67068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3465000" y="3429360"/>
                  <a:ext cx="456120" cy="13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649320" y="3215520"/>
                  <a:ext cx="190440" cy="3589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11600" y="3201120"/>
                  <a:ext cx="136800" cy="2505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760200" y="3050640"/>
                  <a:ext cx="170280" cy="3200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867480" y="3039480"/>
                  <a:ext cx="66240" cy="1198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FC1B-C92B-425D-B6C5-4D86A27E2726}" type="slidenum">
              <a:rPr b="0" lang="en-US" sz="1200" spc="-1" strike="noStrike">
                <a:solidFill>
                  <a:srgbClr val="0066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001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0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6001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015560" y="1154160"/>
            <a:ext cx="6405120" cy="8706960"/>
            <a:chOff x="-1015560" y="1154160"/>
            <a:chExt cx="6405120" cy="8706960"/>
          </a:xfrm>
        </p:grpSpPr>
        <p:grpSp>
          <p:nvGrpSpPr>
            <p:cNvPr id="166" name=""/>
            <p:cNvGrpSpPr/>
            <p:nvPr/>
          </p:nvGrpSpPr>
          <p:grpSpPr>
            <a:xfrm>
              <a:off x="-1015560" y="1154160"/>
              <a:ext cx="6405120" cy="8706960"/>
              <a:chOff x="-1015560" y="1154160"/>
              <a:chExt cx="6405120" cy="87069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015560" y="1154160"/>
                <a:ext cx="6405120" cy="8698680"/>
                <a:chOff x="-1015560" y="1154160"/>
                <a:chExt cx="6405120" cy="86986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72520" y="2802240"/>
                  <a:ext cx="3906360" cy="7050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fc1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015560" y="1154160"/>
                  <a:ext cx="6405120" cy="8698320"/>
                  <a:chOff x="-1015560" y="1154160"/>
                  <a:chExt cx="6405120" cy="86983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080" y="1825560"/>
                    <a:ext cx="4719240" cy="802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280" y="2142000"/>
                    <a:ext cx="4527720" cy="771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37160" y="2458440"/>
                    <a:ext cx="4212000" cy="73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fc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015560" y="1154160"/>
                    <a:ext cx="6405120" cy="8697960"/>
                    <a:chOff x="-1015560" y="1154160"/>
                    <a:chExt cx="6405120" cy="86979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1154160"/>
                      <a:ext cx="5076360" cy="869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fc1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015560" y="1468080"/>
                      <a:ext cx="6405120" cy="8383680"/>
                      <a:chOff x="-1015560" y="1468080"/>
                      <a:chExt cx="6405120" cy="838368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468080"/>
                        <a:ext cx="4906080" cy="838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fc11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015560" y="1621800"/>
                        <a:ext cx="6405120" cy="8229240"/>
                        <a:chOff x="-1015560" y="1621800"/>
                        <a:chExt cx="6405120" cy="82292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1409040" y="1719720"/>
                          <a:ext cx="747720" cy="456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88920" y="4324320"/>
                          <a:ext cx="1612080" cy="184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154440" y="3793680"/>
                          <a:ext cx="1497600" cy="232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221400" y="3128760"/>
                          <a:ext cx="1370880" cy="2939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313560" y="2347560"/>
                          <a:ext cx="1201680" cy="366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249200" y="1652760"/>
                          <a:ext cx="180720" cy="445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53280" y="4817880"/>
                          <a:ext cx="1689840" cy="1401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7560" y="5243760"/>
                          <a:ext cx="1776240" cy="1020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277560" y="6685920"/>
                          <a:ext cx="1755000" cy="114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>
                          <a:off x="-9720" y="6512400"/>
                          <a:ext cx="1963440" cy="41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61200" y="5978520"/>
                          <a:ext cx="1920600" cy="38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880920" y="6978960"/>
                          <a:ext cx="1267920" cy="202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973440" y="7018560"/>
                          <a:ext cx="1187280" cy="211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057320" y="7044120"/>
                          <a:ext cx="1112760" cy="221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149120" y="7076160"/>
                          <a:ext cx="1031400" cy="231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1253880" y="7120080"/>
                          <a:ext cx="941040" cy="241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1360440" y="7153560"/>
                          <a:ext cx="844920" cy="251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1651320" y="7234560"/>
                          <a:ext cx="558000" cy="248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>
                          <a:off x="1808640" y="7264800"/>
                          <a:ext cx="398160" cy="243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H="1">
                          <a:off x="1958760" y="7300080"/>
                          <a:ext cx="245520" cy="235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flipH="1">
                          <a:off x="2122200" y="7328880"/>
                          <a:ext cx="84960" cy="2314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208240" y="7355520"/>
                          <a:ext cx="78480" cy="2263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199600" y="7381080"/>
                          <a:ext cx="262800" cy="218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202120" y="7420320"/>
                          <a:ext cx="451800" cy="2126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199240" y="7445880"/>
                          <a:ext cx="667440" cy="2080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195280" y="7479000"/>
                          <a:ext cx="915840" cy="200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180880" y="7504200"/>
                          <a:ext cx="1201320" cy="1922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155680" y="7546320"/>
                          <a:ext cx="1573200" cy="182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128680" y="7604640"/>
                          <a:ext cx="2021040" cy="1696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086560" y="7672680"/>
                          <a:ext cx="2593800" cy="153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026080" y="7701480"/>
                          <a:ext cx="3060000" cy="116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1969920" y="7650720"/>
                          <a:ext cx="3204720" cy="65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 flipV="1">
                          <a:off x="1863720" y="7246440"/>
                          <a:ext cx="333972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1665000" y="5144040"/>
                          <a:ext cx="3160440" cy="2066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1607760" y="4474800"/>
                          <a:ext cx="3033360" cy="261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5798160"/>
                          <a:ext cx="1835640" cy="405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c115"/>
                        </a:solidFill>
                        <a:ln w="9360">
                          <a:solidFill>
                            <a:srgbClr val="5fc11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015560" y="3250800"/>
                          <a:ext cx="6405120" cy="6415920"/>
                          <a:chOff x="-1015560" y="3250800"/>
                          <a:chExt cx="6405120" cy="641592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1744560" y="6683400"/>
                            <a:ext cx="369000" cy="333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1613880" y="6527880"/>
                            <a:ext cx="644040" cy="598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420200" y="6270120"/>
                            <a:ext cx="1079640" cy="96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267200" y="6071040"/>
                            <a:ext cx="1427760" cy="13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103040" y="5799600"/>
                            <a:ext cx="1801440" cy="1746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932400" y="5605200"/>
                            <a:ext cx="2228400" cy="2117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727560" y="5382360"/>
                            <a:ext cx="2674800" cy="2492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545400" y="5160240"/>
                            <a:ext cx="3085560" cy="2854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22560" y="4959000"/>
                            <a:ext cx="3583080" cy="320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63440" y="4725000"/>
                            <a:ext cx="3921840" cy="35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2520" y="4512240"/>
                            <a:ext cx="4309200" cy="3981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-161280" y="4272840"/>
                            <a:ext cx="4696920" cy="4371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c11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1972800" y="2625120"/>
                          <a:ext cx="988920" cy="405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1812600" y="3053160"/>
                          <a:ext cx="1664640" cy="371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1643400" y="2781000"/>
                          <a:ext cx="1845360" cy="395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1694160" y="3240720"/>
                          <a:ext cx="2073600" cy="35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1363680" y="3515400"/>
                          <a:ext cx="2923920" cy="330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1564920" y="3988800"/>
                          <a:ext cx="2792880" cy="298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1590840" y="4253040"/>
                          <a:ext cx="2889000" cy="277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1643760" y="4839480"/>
                          <a:ext cx="3056760" cy="231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1694160" y="5457600"/>
                          <a:ext cx="3230640" cy="180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1731960" y="5888880"/>
                          <a:ext cx="3293640" cy="1429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1763640" y="6313680"/>
                          <a:ext cx="334440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flipV="1">
                          <a:off x="1812240" y="6758280"/>
                          <a:ext cx="3366000" cy="69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1914480" y="7590240"/>
                          <a:ext cx="3309480" cy="1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1504440" y="7196760"/>
                          <a:ext cx="708120" cy="253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806400" y="6941880"/>
                          <a:ext cx="1319400" cy="192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729360" y="6903000"/>
                          <a:ext cx="1383840" cy="183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645480" y="6868080"/>
                          <a:ext cx="1458360" cy="174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575280" y="6830640"/>
                          <a:ext cx="1516320" cy="164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504000" y="6798960"/>
                          <a:ext cx="1568520" cy="152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428040" y="6759000"/>
                          <a:ext cx="1634040" cy="141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352080" y="6721200"/>
                          <a:ext cx="1695960" cy="128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213120" y="6644160"/>
                          <a:ext cx="1802160" cy="99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135360" y="6601320"/>
                          <a:ext cx="1860480" cy="81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56520" y="6552720"/>
                          <a:ext cx="1918080" cy="63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>
                          <a:off x="-92160" y="6454440"/>
                          <a:ext cx="2021760" cy="174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94680" y="6311160"/>
                          <a:ext cx="1989720" cy="9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27000" y="5619240"/>
                          <a:ext cx="1847520" cy="70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606960" y="2030400"/>
                          <a:ext cx="866880" cy="400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922320" y="1790280"/>
                          <a:ext cx="520920" cy="427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V="1">
                          <a:off x="1415880" y="1621800"/>
                          <a:ext cx="155880" cy="453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1411200" y="1645920"/>
                          <a:ext cx="442800" cy="4571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1412640" y="1825560"/>
                          <a:ext cx="1008000" cy="4512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1420920" y="1953720"/>
                          <a:ext cx="1246680" cy="445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1428120" y="2110680"/>
                          <a:ext cx="1461240" cy="435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1437840" y="2278800"/>
                          <a:ext cx="1656720" cy="4254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1452240" y="2468880"/>
                          <a:ext cx="1834920" cy="4118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c11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3600" y="3733560"/>
                <a:ext cx="4222800" cy="6127560"/>
                <a:chOff x="3600" y="3733560"/>
                <a:chExt cx="4222800" cy="61275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1544760" y="3733560"/>
                  <a:ext cx="2681640" cy="3191040"/>
                </a:xfrm>
                <a:prstGeom prst="line">
                  <a:avLst/>
                </a:prstGeom>
                <a:ln w="9360">
                  <a:solidFill>
                    <a:srgbClr val="5fc1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036080" y="8793360"/>
                  <a:ext cx="265320" cy="1061640"/>
                </a:xfrm>
                <a:prstGeom prst="line">
                  <a:avLst/>
                </a:prstGeom>
                <a:ln w="19080">
                  <a:solidFill>
                    <a:srgbClr val="5fc1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3600" y="6234480"/>
                  <a:ext cx="1567440" cy="3626640"/>
                  <a:chOff x="3600" y="6234480"/>
                  <a:chExt cx="1567440" cy="36266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830520" y="8795160"/>
                    <a:ext cx="205560" cy="42876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600" y="7334640"/>
                    <a:ext cx="1197360" cy="25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c1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479600" y="9657720"/>
                    <a:ext cx="91440" cy="2016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405360" y="8366760"/>
                    <a:ext cx="633240" cy="42408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282600" y="7067160"/>
                    <a:ext cx="119880" cy="12996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3600" y="6855840"/>
                    <a:ext cx="279360" cy="21096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65160" y="7067160"/>
                    <a:ext cx="216720" cy="44424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400680" y="7926480"/>
                    <a:ext cx="209160" cy="44028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320" y="6234480"/>
                    <a:ext cx="16560" cy="52200"/>
                  </a:xfrm>
                  <a:prstGeom prst="line">
                    <a:avLst/>
                  </a:prstGeom>
                  <a:ln w="19080">
                    <a:solidFill>
                      <a:srgbClr val="5fc1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080" y="3093480"/>
              <a:ext cx="4469760" cy="6759360"/>
              <a:chOff x="1080" y="3093480"/>
              <a:chExt cx="4469760" cy="6759360"/>
            </a:xfrm>
          </p:grpSpPr>
          <p:sp>
            <p:nvSpPr>
              <p:cNvPr id="277" name=""/>
              <p:cNvSpPr/>
              <p:nvPr/>
            </p:nvSpPr>
            <p:spPr>
              <a:xfrm>
                <a:off x="1080" y="6143040"/>
                <a:ext cx="1714320" cy="37098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80" y="5235120"/>
                <a:ext cx="1991520" cy="461772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2348280" y="4452480"/>
                <a:ext cx="1610640" cy="3888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1098000" y="6053040"/>
                <a:ext cx="5082840" cy="2016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-281160" y="6240600"/>
                <a:ext cx="6140160" cy="2016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800640" y="4060800"/>
                <a:ext cx="2845440" cy="38880"/>
              </a:xfrm>
              <a:prstGeom prst="rect">
                <a:avLst/>
              </a:prstGeom>
              <a:solidFill>
                <a:srgbClr val="5fc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3471120" y="3093480"/>
                <a:ext cx="444960" cy="670680"/>
                <a:chOff x="3471120" y="3093480"/>
                <a:chExt cx="444960" cy="67068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3447360" y="3483360"/>
                  <a:ext cx="456120" cy="13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31680" y="3269520"/>
                  <a:ext cx="190440" cy="3589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93960" y="3255120"/>
                  <a:ext cx="136800" cy="2505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742560" y="3104640"/>
                  <a:ext cx="170280" cy="3200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849840" y="3093480"/>
                  <a:ext cx="66240" cy="1198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c115"/>
                    </a:gs>
                    <a:gs pos="100000">
                      <a:srgbClr val="77c9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2311200"/>
            <a:ext cx="58291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60016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6001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26B-7B46-4C7E-A697-EDEC2161CC1F}" type="slidenum">
              <a:rPr b="0" lang="en-US" sz="1200" spc="-1" strike="noStrike">
                <a:solidFill>
                  <a:srgbClr val="0066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01600" y="3529080"/>
            <a:ext cx="6453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Утесов Леонид Осипович</a:t>
            </a:r>
            <a:r>
              <a:rPr b="0" lang="ru-RU" sz="3600" spc="-1" strike="noStrike">
                <a:solidFill>
                  <a:srgbClr val="660033"/>
                </a:solidFill>
                <a:latin typeface="Garamond"/>
              </a:rPr>
              <a:t>                                        </a:t>
            </a:r>
            <a:r>
              <a:rPr b="0" lang="ru-RU" sz="2800" spc="-1" strike="noStrike">
                <a:solidFill>
                  <a:srgbClr val="660033"/>
                </a:solidFill>
                <a:latin typeface="Garamond"/>
              </a:rPr>
              <a:t>(настоящее имя </a:t>
            </a:r>
            <a:r>
              <a:rPr b="0" i="1" lang="ru-RU" sz="2800" spc="-1" strike="noStrike">
                <a:solidFill>
                  <a:srgbClr val="660033"/>
                </a:solidFill>
                <a:latin typeface="Garamond"/>
              </a:rPr>
              <a:t>Лазарь Иосифович</a:t>
            </a:r>
            <a:r>
              <a:rPr b="0" lang="ru-RU" sz="2800" spc="-1" strike="noStrike">
                <a:solidFill>
                  <a:srgbClr val="660033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660033"/>
                </a:solidFill>
                <a:latin typeface="Garamond"/>
              </a:rPr>
              <a:t>Вайсбейн</a:t>
            </a:r>
            <a:r>
              <a:rPr b="0" lang="ru-RU" sz="2800" spc="-1" strike="noStrike">
                <a:solidFill>
                  <a:srgbClr val="660033"/>
                </a:solidFill>
                <a:latin typeface="Garamond"/>
              </a:rPr>
              <a:t>) родился </a:t>
            </a:r>
            <a:r>
              <a:rPr b="1" lang="ru-RU" sz="2800" spc="-1" strike="noStrike">
                <a:solidFill>
                  <a:srgbClr val="660033"/>
                </a:solidFill>
                <a:latin typeface="Garamond"/>
              </a:rPr>
              <a:t>9 марта 1895 года в Одессе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6979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Garamond"/>
              </a:rPr>
              <a:t>Отец и мать Леонида Утесова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49360" y="5237280"/>
            <a:ext cx="5543640" cy="325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74760" y="73080"/>
            <a:ext cx="25066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41200" y="272880"/>
            <a:ext cx="3103560" cy="4751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16280" y="920880"/>
            <a:ext cx="2781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65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у Леониду Утесову было присвоено звание народного артиста СССР. Он стал первым артистом эстрады, удостоенным этого звания.              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46596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оставшиеся 16 лет жизни Утесов написал еще одну книгу «Спасибо, сердце!», руководил оркестром, много снимался на телевидении, но практически не выходил на сцену. В декабре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81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а состоялось последнее выступление Утесова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0245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9 октября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66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а на концерте в ЦДСА артист почувствовал себя плохо. Через некоторое время он решил покинуть сцену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68280" y="8481960"/>
            <a:ext cx="4319640" cy="11368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1136880"/>
              <a:gd name="textAreaBottom" fmla="*/ 1137240 h 1136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217" y="3794"/>
                </a:lnTo>
                <a:lnTo>
                  <a:pt x="13000" y="3794"/>
                </a:lnTo>
                <a:lnTo>
                  <a:pt x="13000" y="8600"/>
                </a:lnTo>
                <a:lnTo>
                  <a:pt x="17806" y="8600"/>
                </a:lnTo>
                <a:lnTo>
                  <a:pt x="17806" y="8383"/>
                </a:lnTo>
                <a:lnTo>
                  <a:pt x="21600" y="10800"/>
                </a:lnTo>
                <a:lnTo>
                  <a:pt x="17806" y="13217"/>
                </a:lnTo>
                <a:lnTo>
                  <a:pt x="17806" y="13000"/>
                </a:lnTo>
                <a:lnTo>
                  <a:pt x="3794" y="13000"/>
                </a:lnTo>
                <a:lnTo>
                  <a:pt x="3794" y="13217"/>
                </a:lnTo>
                <a:lnTo>
                  <a:pt x="0" y="10800"/>
                </a:lnTo>
                <a:lnTo>
                  <a:pt x="3794" y="8383"/>
                </a:lnTo>
                <a:lnTo>
                  <a:pt x="3794" y="8600"/>
                </a:lnTo>
                <a:lnTo>
                  <a:pt x="8600" y="8600"/>
                </a:lnTo>
                <a:lnTo>
                  <a:pt x="8600" y="3794"/>
                </a:lnTo>
                <a:lnTo>
                  <a:pt x="8383" y="3794"/>
                </a:lnTo>
                <a:close/>
              </a:path>
            </a:pathLst>
          </a:custGeom>
          <a:solidFill>
            <a:srgbClr val="dffea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«Извозчик»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068640" y="85536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6489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04640" y="21420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aramond"/>
              </a:rPr>
              <a:t>Умер </a:t>
            </a: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Леонид Осипович Утесов</a:t>
            </a:r>
            <a:r>
              <a:rPr b="0" lang="en-US" sz="3200" spc="-1" strike="noStrike">
                <a:solidFill>
                  <a:srgbClr val="006600"/>
                </a:solidFill>
                <a:latin typeface="Garamond"/>
              </a:rPr>
              <a:t>  9 марта 1982 года в Москве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36560" y="1424160"/>
            <a:ext cx="3036960" cy="4392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5000" y="5889600"/>
            <a:ext cx="5688360" cy="1871640"/>
          </a:xfrm>
          <a:prstGeom prst="rect">
            <a:avLst/>
          </a:prstGeom>
          <a:solidFill>
            <a:srgbClr val="dffea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MS Mincho"/>
              </a:rPr>
              <a:t>«Я пою не голосом —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MS Mincho"/>
              </a:rPr>
              <a:t>я пою сердцем!»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MS Mincho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5000" y="0"/>
            <a:ext cx="672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Учился в Одессе в коммерческом училище Файга, откуда в 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1909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году был отчислен за плохую успеваемость и низкую дисциплину. После непродолжительной работы в бродячем цирке (в качестве гимнаста) вернулся в Одессу, где учился играть на скрипке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08640" y="1928880"/>
            <a:ext cx="2286000" cy="309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5920" y="22892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12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у устроился в Кременчугский театр миниатюр; тогда же взял сценический псевдоним Утесов.                   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4952880"/>
            <a:ext cx="6858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37000" y="50245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Garamond"/>
              </a:rPr>
              <a:t>Л.Утесов 1911 го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33360" y="3800520"/>
            <a:ext cx="4103640" cy="2544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6392880"/>
            <a:ext cx="39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17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у занял 1-е место на конкурсе куплетистов в Гомеле 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4278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 том же году организовал в Москве небольшой оркестр, с которым выступал в саду «Эрмитаж»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6640" y="380052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f"/>
                </a:solidFill>
                <a:latin typeface="Monotype Corsiva"/>
              </a:rPr>
              <a:t>Утёсов с женой и дочкой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3917880" y="6392880"/>
            <a:ext cx="26798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458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19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у состоялся кинематографический дебют Утесова — в роли адвоката Зарудного в фильме «Лейтенант Шмидт — борец за свободу». 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21-28</a:t>
            </a:r>
            <a:r>
              <a:rPr b="1" lang="en-US" sz="2400" spc="-1" strike="noStrike">
                <a:solidFill>
                  <a:srgbClr val="cc99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ах играл во многих театрах России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7288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собрал музыкантов и стал готовить джазовую программу. 8 марта 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1929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года на сцене Малого оперного театра (г.Ленинград) дебютировал театрализованный джаз Леонида Утесова с программой «Теа-джаз»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576520"/>
            <a:ext cx="479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1928 году после поездки в Париж, где впервые услышал профессиональный джаз,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952880"/>
            <a:ext cx="6858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39560" y="5745240"/>
            <a:ext cx="5696280" cy="33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404640" y="8672400"/>
            <a:ext cx="56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9fc84"/>
                </a:solidFill>
                <a:latin typeface="SimSun"/>
              </a:rPr>
              <a:t>«Теа-джаз» Л.Утесова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365720" y="128520"/>
            <a:ext cx="23731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4952880"/>
            <a:ext cx="6858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Программа  оркестра «Джаз на повороте» (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1930 год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) состояла из оркестровых фантазий на темы народных песен и четырех рапсодий, написанных И. О. Дунаевским, — Русской, Украинской, Еврейской и Советской. По-новому зазвучали популярные мелодии Во субботу день ненастный, Виют витры и др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63084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дальнейшем Утесов часто включал в свои программы джазовые интерпретации мелодий народов СССР, объясняя это так: «Если у американского джаза негритянский фольклор, то почему у нас не может быть грузинского, армянского или украинского?»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76280" y="2649600"/>
            <a:ext cx="2432160" cy="3816360"/>
          </a:xfrm>
          <a:prstGeom prst="rect">
            <a:avLst/>
          </a:prstGeom>
          <a:ln w="38160">
            <a:solidFill>
              <a:srgbClr val="828775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2924280" y="2720880"/>
            <a:ext cx="367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Утесов совмещал дирижирование с конферансом, танцами, пением, игрой на скрипке, чтением стихов. Разыгрывались разнообразные сценки между музыкантами и дирижером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229360" y="5457960"/>
            <a:ext cx="1628640" cy="647640"/>
          </a:xfrm>
          <a:prstGeom prst="upArrowCallout">
            <a:avLst>
              <a:gd name="adj1" fmla="val 62874"/>
              <a:gd name="adj2" fmla="val 62868"/>
              <a:gd name="adj3" fmla="val 16667"/>
              <a:gd name="adj4" fmla="val 66660"/>
            </a:avLst>
          </a:prstGeom>
          <a:solidFill>
            <a:srgbClr val="dffea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Марш и к/ф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«Веселые ребята»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407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34</a:t>
            </a:r>
            <a:r>
              <a:rPr b="1" lang="en-US" sz="2400" spc="-1" strike="noStrike">
                <a:solidFill>
                  <a:srgbClr val="cc99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у на экраны кинотеатров вышел фильм Г. Александрова «Веселые ребята», в котором снимался весь оркестр Утесова. В кинофильме Утесов сыграл роль главного героя Кости Потехина - теперь артиста знала в лицо вся страна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68280" y="5745240"/>
            <a:ext cx="3888000" cy="2798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817800" y="272880"/>
            <a:ext cx="2976840" cy="3311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250524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" y="8481960"/>
            <a:ext cx="67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Garamond"/>
              </a:rPr>
              <a:t>Песни обрели большую популярность. Проходивший в Лондоне конгресс мира и дружбы с СССР </a:t>
            </a:r>
            <a:r>
              <a:rPr b="1" lang="en-US" sz="2200" spc="-1" strike="noStrike">
                <a:solidFill>
                  <a:srgbClr val="660033"/>
                </a:solidFill>
                <a:latin typeface="Garamond"/>
              </a:rPr>
              <a:t>(1937</a:t>
            </a:r>
            <a:r>
              <a:rPr b="1" lang="en-US" sz="2200" spc="-1" strike="noStrike">
                <a:solidFill>
                  <a:srgbClr val="006600"/>
                </a:solidFill>
                <a:latin typeface="Garamond"/>
              </a:rPr>
              <a:t> год) заканчивался под "Марш веселых ребят".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800520"/>
            <a:ext cx="6453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Общее настроение картины определили песни Дунаевского на стихи Лебедева-Кумача: "Сердце, тебе не хочется покоя" и "Марш веселых ребят" в исполнении Леонида Утесова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805360" y="50976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43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4640" y="272880"/>
            <a:ext cx="39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С 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1936</a:t>
            </a:r>
            <a:r>
              <a:rPr b="1" lang="ru-RU" sz="2400" spc="-1" strike="noStrike">
                <a:solidFill>
                  <a:srgbClr val="cc99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года в выступлениях оркестра принимает участие Эдит Утесова (дочь певца), актриса театра им. Вахтангова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365720" y="0"/>
            <a:ext cx="2259000" cy="3529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349360" y="5823000"/>
            <a:ext cx="450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38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у Утесов в качестве художественного руководителя выпустил спектакль «Два корабля», в котором прозвучали песни "Варяг", "Раскинулось море широко", "Моряки", "Краснофлотский марш", "Баллада о неизвестном моряке"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6280" y="2144880"/>
            <a:ext cx="41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 1937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у джаз-оркестр Утесова представил программу в двух отделениях «Песни моей Родины»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016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первую часть вошли песни о гражданской войне, вторую составили лирические и комедийные песни. Программа шла несколько лет, вплоть до начала Великой Отечественной войны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5889600"/>
            <a:ext cx="2381400" cy="3456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250524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37000" y="9274320"/>
            <a:ext cx="2421000" cy="631800"/>
          </a:xfrm>
          <a:prstGeom prst="upArrowCallout">
            <a:avLst>
              <a:gd name="adj1" fmla="val 95806"/>
              <a:gd name="adj2" fmla="val 95798"/>
              <a:gd name="adj3" fmla="val 16667"/>
              <a:gd name="adj4" fmla="val 66660"/>
            </a:avLst>
          </a:prstGeom>
          <a:solidFill>
            <a:srgbClr val="dffea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«У Черного моря»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805360" y="876924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15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4280" y="128520"/>
            <a:ext cx="41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Объявление о начале войны застает Утесова во время репетиции новой программы в московском «Эрмитаже». Желая поддержать солдат, оркестр в короткий срок создает первую военную программу «Бей врага»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076640" y="415800"/>
            <a:ext cx="2747880" cy="3241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42920" y="3584520"/>
            <a:ext cx="4581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696924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За первый год войны оркестр дал свыше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200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концертов на заводах, кораблях, в действующей армии на Калининском фронте, постоянно включая в программу новые песни: "Жди меня", "В землянке", "Темная ночь", "Одессит Мишка", сатирические антифашистские частушки "Гадам нет пощады!"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708280" y="7048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июне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42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а Леониду Утесову было присвоено звание заслуженного артиста РСФСР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716280" y="5457960"/>
            <a:ext cx="3137040" cy="3527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5823000"/>
            <a:ext cx="364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44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у оркестр представил новую джаз-фантазию «Салют».  9 мая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45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а при огромном стечении народа Утесов выступил с оркестром на открытой эстраде на площади Свердлова в Москве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68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Вторая программа военных лет «Напевая, шутя и играя» явилась откликом на начало серьезных успехов Советской армии. В нее были включены песни: "Прощание", "Пароход", "Десять дочерей", "Два друга"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60280" y="0"/>
            <a:ext cx="2141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c84"/>
            </a:gs>
            <a:gs pos="100000">
              <a:srgbClr val="5fc11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97000" y="3944880"/>
            <a:ext cx="626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25-летие коллектива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(1954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год) было отмечено эстрадным спектаклем «Серебряная свадьба», в котором среди прочих Утесов исполнил одно из последних произведений Дунаевского "Я песне отдал все сполна".                                                                           В марте </a:t>
            </a: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1960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года в Московском театре эстрады была представлена программа «Тридцать лет спустя». В ней, наряду с обычным репертуаром, оркестр исполнил сложные классические произведения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6000" y="272880"/>
            <a:ext cx="3860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К 800-летию Москвы (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1947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год) утесовский коллектив подготовил оркестровую фантазию «Москва», в финале которой впервые исполнялась песня Дунаевского </a:t>
            </a:r>
            <a:r>
              <a:rPr b="1" lang="ru-RU" sz="2400" spc="-1" strike="noStrike">
                <a:solidFill>
                  <a:srgbClr val="660033"/>
                </a:solidFill>
                <a:latin typeface="Garamond"/>
              </a:rPr>
              <a:t>«Дорогие мои москвичи»!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124160" y="0"/>
            <a:ext cx="2497320" cy="3570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557360" y="8481960"/>
            <a:ext cx="3456000" cy="863640"/>
          </a:xfrm>
          <a:prstGeom prst="rightArrow">
            <a:avLst>
              <a:gd name="adj1" fmla="val 50000"/>
              <a:gd name="adj2" fmla="val 100042"/>
            </a:avLst>
          </a:prstGeom>
          <a:solidFill>
            <a:srgbClr val="dffea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«Скажите, девушки» 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348080" y="86076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9163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0:36:00Z</dcterms:created>
  <dc:creator>Соколова</dc:creator>
  <dc:description/>
  <dc:language>en-US</dc:language>
  <cp:lastModifiedBy>Соколова</cp:lastModifiedBy>
  <dcterms:modified xsi:type="dcterms:W3CDTF">2007-10-14T14:37:03Z</dcterms:modified>
  <cp:revision>23</cp:revision>
  <dc:subject/>
  <dc:title>ЛЕОНИД УТЕСОВ</dc:title>
</cp:coreProperties>
</file>