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B2F-A81F-4C05-9D26-D289A24F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109-A83B-4E30-BFD8-1D77584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584-68AF-4816-A3B1-90C0319A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277-2547-47B4-8813-4AFD834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4F6-0721-469B-86C8-7CD55A4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A21-34C6-4AC5-841E-EAD1B41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3A3-F154-46AF-BFE4-4DE9A2E2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9AB-621A-49B9-A299-1F2CF51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4FA-ACF0-47E9-91E3-DCAF16B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B92-FBEB-4015-B9EC-97413E1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52E-3913-4D96-BCA5-032126E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E50-6044-4E0D-8314-FEA80C4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028-A8E7-4A35-A169-64B6C07F5A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етодика работы с проектными работами (презентацией)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на уроках английского язы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48765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викова Татьяна Ива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БОУ лицей №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.Краснод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Этапы подготовки презентац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ределение темат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Формулирование цели и задач, результатов или выводов и пути их дости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. Планирование выполнения этапов подготов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. Исследование, поиск и подбор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. Анализ информации, выстраивание общей логической схемы выводов для подведения ито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. Защита проекта (представление презентаци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. Оценка результатов и анализ выполнения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абота с текст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гическое по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кс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амма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онетическая отработка лексики и интон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Работа со слайдами</a:t>
            </a:r>
            <a:br>
              <a:rPr sz="36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не более 5-7 слайдов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бор рисунков, картинок, диагра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ределение стиля: шриф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вет ф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абл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ллюст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мещение своих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сылки на источники используемых материа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Работа над проектом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ствует развит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муникативных, когнитивны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могает глубже изучить тему, лексику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грамматику разде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яет кругоз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 общ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 умению самостоятельно добы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обходимый материал и отбирать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0" y="0"/>
            <a:ext cx="914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МНЕНИЯ И ВПЕЧАТЛЕНИЯ УЧАЩИХС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0" y="642960"/>
            <a:ext cx="9144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Проектные работы по английскому языку дают мне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озможность узнать  множество  интересных фактов по истории англо-говорящих стран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. И, само  собой,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я получаю удовольствие от самого процесса подготовки проекта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Роман Белоус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Проектная работа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дает мне возможность практиковать свои навыки в английском языке , интересно и ярко строить свою речь, выступать перед публикой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.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Алина Литвиненк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С проектными работами намного интереснее работать, чем с обычными заданиями.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Создавая проект, мы вкладываем в работу частичку себя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авел Дерез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Мы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становимся более уверенными в себ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, так как мы научились работать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 проектами. Развивается наша устная речь. Мы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развиваем наши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творческие способности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                                                                      Настя  Кардашов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Проектная работа 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озволяет узнать что-то новое, дает творческое развитие, поднимает настроение, закрепляет наши познания в английском. Оставляет хорошие воспоминания. Мне нравится работать над проектами</a:t>
            </a:r>
            <a:r>
              <a:rPr b="0" i="1" lang="ru-RU" sz="1900" spc="-1" strike="noStrike">
                <a:solidFill>
                  <a:srgbClr val="ffffff"/>
                </a:solidFill>
                <a:latin typeface="Times New Roman"/>
              </a:rPr>
              <a:t>!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Анастасия Хаху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Проектная работа по английскому языку для меня одно из самых важных школьных  заданий, …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омогает поверить в себя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.                                                   Анна Апошнев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«Проектная деятельность 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омогает восприятию материала, делает уроки более увлекательными и интересными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».                                                              Вика Клинов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 - 2</cp:lastModifiedBy>
  <dcterms:modified xsi:type="dcterms:W3CDTF">2013-04-24T11:01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