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58A-318F-4B9E-A0E3-84F5B77B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ED4-6247-43E2-B7E9-3057CD0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522-D85A-41C7-8F06-E6E990F3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7FB-2F62-4F9D-ADC0-0266428F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74F5-EFEA-4BC8-B2B7-65D0450E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7743-A832-4805-8D9A-3CF00F08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2EB6-AB8E-451F-9622-901DC24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3D210-4E8D-4584-A45E-2222C9E4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695C9-4B10-4603-8C4A-9CAD957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BD822-7D53-46F1-ACB0-05B8597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280D-DDFB-46C2-ABEC-0694ECA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06D-16FF-4911-9484-82F236BC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F465-CA1E-4B35-AE28-21A7733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260A-6357-41B2-873C-896465D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03331-3528-43FB-8C6C-F5C575C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41579-2826-4FF7-AB64-7AE18A2F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8513-CFC0-4B9A-9768-10AD19D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BAD-4CCD-4978-AE98-8D9A031F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E75-E667-40D9-B49A-9D6541A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7BB-9AD2-46C9-895A-8964E64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162-465B-40F6-9C7F-1C309E74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CA1-F2A8-49E2-B692-6649F67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F56-6813-40AF-B3BA-2DE33E5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EAF-46F5-477E-B795-8093B5B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D22-A832-4A13-9554-E3CA6AA6F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A7ED-763A-486B-BD7B-5D58863A0D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340400" cy="3335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93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5d93ff"/>
                </a:solidFill>
                <a:latin typeface="Arial"/>
                <a:ea typeface="Arial"/>
              </a:rPr>
              <a:t>МБОУ «Гимназия №20»</a:t>
            </a:r>
            <a:br>
              <a:rPr sz="2000"/>
            </a:br>
            <a:r>
              <a:rPr b="0" lang="ru-RU" sz="2000" spc="-1" strike="noStrike">
                <a:solidFill>
                  <a:srgbClr val="5d93ff"/>
                </a:solidFill>
                <a:latin typeface="Arial"/>
                <a:ea typeface="Arial"/>
              </a:rPr>
              <a:t>г. Донской Тульской област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d93ff"/>
                </a:solidFill>
                <a:latin typeface="Arial"/>
                <a:ea typeface="Arial"/>
              </a:rPr>
              <a:t>Ознакомительная презентация:</a:t>
            </a:r>
            <a:br>
              <a:rPr sz="36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  <a:ea typeface="Arabic Typesetting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Мир, в котором мы живё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57680" y="3929040"/>
            <a:ext cx="6286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Выполнила учащаяся 6 «А»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Ксенофонтова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Руководит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учитель истории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Корнеева И.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2013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просмотр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8930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ff"/>
                </a:solidFill>
                <a:latin typeface="Tahoma"/>
              </a:rPr>
              <a:t>С вами был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Tahoma"/>
              </a:rPr>
              <a:t>Майорова Мил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Tahoma"/>
              </a:rPr>
              <a:t>Ксенофонтова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Tahoma"/>
              </a:rPr>
              <a:t>Абрамова Александ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cc"/>
                </a:solidFill>
                <a:latin typeface="Tahoma"/>
              </a:rPr>
              <a:t>Берегите природ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7840" y="306000"/>
            <a:ext cx="807732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то такое окружающая сре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57800" y="2257200"/>
            <a:ext cx="40370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ужающая  сред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обобщённое понятие, характеризующее природные условия в конкретно избранном месте и экологическое состояние данной местности. Как правило, применение термина относится к описанию природных условий на поверхности Земли, состоянию её локальных и глобальных экосистем и их взаимодействие с человеком. День окружающей среды – 5 июн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9" descr="0011"/>
          <p:cNvPicPr/>
          <p:nvPr/>
        </p:nvPicPr>
        <p:blipFill>
          <a:blip r:embed="rId1"/>
          <a:stretch/>
        </p:blipFill>
        <p:spPr>
          <a:xfrm>
            <a:off x="1042920" y="4145040"/>
            <a:ext cx="2868840" cy="18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5555"/>
          <p:cNvPicPr/>
          <p:nvPr/>
        </p:nvPicPr>
        <p:blipFill>
          <a:blip r:embed="rId2"/>
          <a:stretch/>
        </p:blipFill>
        <p:spPr>
          <a:xfrm>
            <a:off x="988920" y="1905120"/>
            <a:ext cx="2971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c0c0c0"/>
                </a:solidFill>
                <a:latin typeface="Tahoma"/>
              </a:rPr>
              <a:t>Мы дети Земл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537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 живём на планете Земля. Она третья по счёту от Солнца и пятая по размеру среди всех планет Солнечной системы. Она является также крупнейшей по диаметру, массе и плотности среди планет земной группы. Её население насчитывает более 7 млрд. человек разных национальностей. Почти ¾ поверхности Земли составляют воды Мирового Океана. Поэтому из космоса она кажется синей. Естественным спутником Земли является Лу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3333"/>
          <p:cNvPicPr/>
          <p:nvPr/>
        </p:nvPicPr>
        <p:blipFill>
          <a:blip r:embed="rId1"/>
          <a:stretch/>
        </p:blipFill>
        <p:spPr>
          <a:xfrm>
            <a:off x="4932360" y="1989000"/>
            <a:ext cx="3740040" cy="374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66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99ff66"/>
                </a:solidFill>
                <a:latin typeface="Tahoma"/>
              </a:rPr>
              <a:t>Зелёный покров нашей план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25480" y="2193480"/>
            <a:ext cx="404028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нашей планете очень много растительности. В основном это зелёные растения. Этот цвет придаёт им особый пигмент – хлорофилл. С помощью этого пигмента, может происходить процесс образования органических веществ и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лекислого газа и воды на свету. Коротко – фотосинтез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листочек зелёный"/>
          <p:cNvPicPr/>
          <p:nvPr/>
        </p:nvPicPr>
        <p:blipFill>
          <a:blip r:embed="rId1"/>
          <a:stretch/>
        </p:blipFill>
        <p:spPr>
          <a:xfrm>
            <a:off x="963720" y="1941480"/>
            <a:ext cx="3025800" cy="404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В мире животных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тные – это выделяемая категория организмов, в настоящее время рассматриваемая в качестве биологического царства. Они в свою очередь делятся на: птиц, рыб, зверей и насекомых. Все животные разнообразны: от макушки до кончика хвоста. Кто то имеет крылья и может летать, у кого то есть жабры, с помощью которых можно дышать под водой. А кто то имеет сильные ноги и может быстро бега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4" descr="коняш"/>
          <p:cNvPicPr/>
          <p:nvPr/>
        </p:nvPicPr>
        <p:blipFill>
          <a:blip r:embed="rId1"/>
          <a:stretch/>
        </p:blipFill>
        <p:spPr>
          <a:xfrm>
            <a:off x="4932360" y="4172040"/>
            <a:ext cx="3094200" cy="181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бабуська"/>
          <p:cNvPicPr/>
          <p:nvPr/>
        </p:nvPicPr>
        <p:blipFill>
          <a:blip r:embed="rId2"/>
          <a:stretch/>
        </p:blipFill>
        <p:spPr>
          <a:xfrm>
            <a:off x="5078520" y="1916280"/>
            <a:ext cx="280656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еленыё лёгкие нашей планеты                под угрозой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7360" y="2062080"/>
            <a:ext cx="793116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елёные легкие нашей планеты» - это безусловно леса. Как было сказано раньше, у зелёных растений проходит процесс фотосинтеза. И мы дышим кислородом, выработанным при этом процессе. Но человек активно начал вырубать леса с целью производства бумаги, строительных материалов. Вырубают леса ещё и для застроек участков зем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2" descr="MP900145139[1]"/>
          <p:cNvPicPr/>
          <p:nvPr/>
        </p:nvPicPr>
        <p:blipFill>
          <a:blip r:embed="rId1"/>
          <a:stretch/>
        </p:blipFill>
        <p:spPr>
          <a:xfrm>
            <a:off x="1187280" y="4172040"/>
            <a:ext cx="3002040" cy="18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5bdfdd"/>
          <p:cNvPicPr/>
          <p:nvPr/>
        </p:nvPicPr>
        <p:blipFill>
          <a:blip r:embed="rId2"/>
          <a:stretch/>
        </p:blipFill>
        <p:spPr>
          <a:xfrm>
            <a:off x="4932360" y="4076640"/>
            <a:ext cx="30243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этическая минут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с - зелёные дерев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акушки до неб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с – загадочное что т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сто сказочных чуд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ро, а в лесу как ночь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ть виднеется троп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росто лапы 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м закрыли небе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с – это такое чудо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спешите выруб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 деревья, что повсюд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то будете страда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сенофонтова Анна 6 «а»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cc99ff"/>
                </a:solidFill>
                <a:latin typeface="Tahoma"/>
              </a:rPr>
              <a:t>Вред наносимый человек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д наносимый человеком окружающей среде огромен: от брошенной вами пустой бутылки из под лимонада до вредных веществ выброшенных в атмосферу фабриками и заводами. Постепенно воздушная оболочка нашей планеты разрушается, и это может привести к экологической катастроф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MP900180771[1]"/>
          <p:cNvPicPr/>
          <p:nvPr/>
        </p:nvPicPr>
        <p:blipFill>
          <a:blip r:embed="rId1"/>
          <a:stretch/>
        </p:blipFill>
        <p:spPr>
          <a:xfrm>
            <a:off x="5364000" y="2060640"/>
            <a:ext cx="2673360" cy="387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На защиту природ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оянно проводятся митинги в защиту окружающей среды. Даже если мы не можем принять участие в таком митинге, мы можем выбрасывать мусор в урны и помойки, сажать больше зелёных растений и ухаживать за ними. Этим мы чуточку поможем природе и сделаем хорошо себ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5" descr="зАЩИТИ ООН"/>
          <p:cNvPicPr/>
          <p:nvPr/>
        </p:nvPicPr>
        <p:blipFill>
          <a:blip r:embed="rId1"/>
          <a:stretch/>
        </p:blipFill>
        <p:spPr>
          <a:xfrm>
            <a:off x="5219640" y="1916280"/>
            <a:ext cx="2811600" cy="186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зАЩИТИ ООН 2"/>
          <p:cNvPicPr/>
          <p:nvPr/>
        </p:nvPicPr>
        <p:blipFill>
          <a:blip r:embed="rId2"/>
          <a:stretch/>
        </p:blipFill>
        <p:spPr>
          <a:xfrm>
            <a:off x="5219640" y="39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8:54:22Z</dcterms:created>
  <dc:creator>Менеджер</dc:creator>
  <dc:description/>
  <dc:language>en-US</dc:language>
  <cp:lastModifiedBy>admin</cp:lastModifiedBy>
  <dcterms:modified xsi:type="dcterms:W3CDTF">2013-10-02T19:11:10Z</dcterms:modified>
  <cp:revision>12</cp:revision>
  <dc:subject/>
  <dc:title>Мир в котором мы живём…</dc:title>
</cp:coreProperties>
</file>