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7F651-8A11-43D8-BE17-549791AAA4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-704880"/>
            <a:ext cx="82263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7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42852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9944F-5185-4EAF-9472-E7B24C09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-704880"/>
            <a:ext cx="82263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7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42852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669C0-2F0F-488B-8BB3-BCC14AE1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-704880"/>
            <a:ext cx="82263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7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42852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007C0-4BD9-4FAE-AD35-4509D66379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61C7A-23B0-45CC-A323-2C179EE0EE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704880"/>
            <a:ext cx="82263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7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42852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5A92E-E259-4333-A6D0-CEF8A63D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-704880"/>
            <a:ext cx="82263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7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42852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59E6E-FF6C-440F-B017-3602BB16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-704880"/>
            <a:ext cx="82263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7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42852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103DF-F1DB-46B1-ACA0-75CC80C8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-704880"/>
            <a:ext cx="82263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7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4285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CEAA5-C0D0-4017-B165-6EC1657C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-704880"/>
            <a:ext cx="8226360" cy="10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C0635-DCFC-43FA-B6BF-F167E2AD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-704880"/>
            <a:ext cx="82263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7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42852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B9186-5828-4D00-A2CD-84555421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704880"/>
            <a:ext cx="82263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7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42852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690AF-19FA-4D90-82B5-9D0DAE56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-704880"/>
            <a:ext cx="82263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7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42852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2611B-F240-4F6C-81B7-FA846E8D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-704880"/>
            <a:ext cx="82263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7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42852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70FF5-8B1F-4EF1-A4FD-7091440B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-704880"/>
            <a:ext cx="82263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7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42852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2E29F-1E82-47CB-B24B-964305CB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-704880"/>
            <a:ext cx="82263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7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42852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23CB7-2D1D-4D86-B96A-5B0D3348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-704880"/>
            <a:ext cx="82263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7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42852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F2450-0328-475C-A704-2650CA41EB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704880"/>
            <a:ext cx="82263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7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42852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4A304-8E9B-4B1C-9A15-C542F0FF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-704880"/>
            <a:ext cx="82263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7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42852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26515-EBA4-4C41-8232-C37EA5B1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704880"/>
            <a:ext cx="82263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7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4285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29FDB-78E1-4833-9674-31CD51BA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-704880"/>
            <a:ext cx="8226360" cy="10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33710-DF9D-4A7E-9623-A79D3432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-704880"/>
            <a:ext cx="82263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7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42852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3FDC4-68A7-41B2-8284-8E065D15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-704880"/>
            <a:ext cx="82263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7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42852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8E299-83B4-4061-93AA-9C43D454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-704880"/>
            <a:ext cx="82263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7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42852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18AB3-0FE1-4E52-8240-6497D6CB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704880"/>
            <a:ext cx="82263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7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242852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42852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640" y="6353280"/>
            <a:ext cx="2082960" cy="3664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658800" y="6354720"/>
            <a:ext cx="28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543880" y="6353280"/>
            <a:ext cx="558720" cy="3664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188A5-5711-4B7C-8928-1700EE37C0E0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-704880"/>
            <a:ext cx="82263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7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242852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42852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6362640" y="6356160"/>
            <a:ext cx="2082960" cy="36180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8543880" y="6356160"/>
            <a:ext cx="558720" cy="36180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6B1171-E10A-40B5-B516-C25688827742}" type="slidenum">
              <a:rPr b="0" lang="ru-RU" sz="1200" spc="-1" strike="noStrike">
                <a:solidFill>
                  <a:srgbClr val="595959"/>
                </a:solidFill>
                <a:latin typeface="Century Gothic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242852"/>
                </a:solidFill>
                <a:latin typeface="Palatino Linotype"/>
                <a:ea typeface="Lucida Sans Unicode"/>
              </a:rPr>
              <a:t>Пояса Земл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292720" y="692280"/>
            <a:ext cx="266400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549360"/>
            <a:ext cx="822960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74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42852"/>
                </a:solidFill>
                <a:latin typeface="Palatino Linotype"/>
                <a:ea typeface="Lucida Sans Unicode"/>
              </a:rPr>
              <a:t>Работа в тетрад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476360" y="1844640"/>
            <a:ext cx="6264360" cy="4232160"/>
            <a:chOff x="1476360" y="1844640"/>
            <a:chExt cx="6264360" cy="4232160"/>
          </a:xfrm>
        </p:grpSpPr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1476360" y="1844640"/>
              <a:ext cx="6264360" cy="42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476360" y="1844640"/>
              <a:ext cx="6264360" cy="42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549360"/>
            <a:ext cx="822960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74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42852"/>
                </a:solidFill>
                <a:latin typeface="Palatino Linotype"/>
                <a:ea typeface="Lucida Sans Unicode"/>
              </a:rPr>
              <a:t>Итог уро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alatino Linotype"/>
                <a:ea typeface="Lucida Sans Unicode"/>
              </a:rPr>
              <a:t>Какие три тепловых пояса есть на планете Земл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alatino Linotype"/>
                <a:ea typeface="Lucida Sans Unicode"/>
              </a:rPr>
              <a:t>Что повлияло на образование тепловых поясов на поверхности Земл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74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42852"/>
                </a:solidFill>
                <a:latin typeface="Palatino Linotype"/>
                <a:ea typeface="Lucida Sans Unicode"/>
              </a:rPr>
              <a:t>Цели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  <a:ea typeface="Lucida Sans Unicode"/>
              </a:rPr>
              <a:t>сформировать представление о тепловых поясах Земли и причинах такого разделени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  <a:ea typeface="Lucida Sans Unicode"/>
              </a:rPr>
              <a:t>развивать познавательный интерес и умение наблюдать, сравнивать, делать вывод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74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42852"/>
                </a:solidFill>
                <a:latin typeface="Palatino Linotype"/>
                <a:ea typeface="Lucida Sans Unicode"/>
              </a:rPr>
              <a:t>Проверка знаний и уме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709720" y="1600200"/>
            <a:ext cx="3724560" cy="4525920"/>
            <a:chOff x="2709720" y="1600200"/>
            <a:chExt cx="3724560" cy="4525920"/>
          </a:xfrm>
        </p:grpSpPr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2709720" y="1600200"/>
              <a:ext cx="372456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709720" y="1600200"/>
              <a:ext cx="372456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33336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74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42852"/>
                </a:solidFill>
                <a:latin typeface="Palatino Linotype"/>
                <a:ea typeface="Lucida Sans Unicode"/>
              </a:rPr>
              <a:t>Почему Солнце неодинаково «любит» Землю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835280" y="2133720"/>
            <a:ext cx="5473440" cy="4373280"/>
            <a:chOff x="1835280" y="2133720"/>
            <a:chExt cx="5473440" cy="437328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835280" y="2133720"/>
              <a:ext cx="5473440" cy="43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1835280" y="2133720"/>
              <a:ext cx="5473440" cy="43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1200" y="1028880"/>
            <a:ext cx="4511880" cy="4511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356000" y="79200"/>
            <a:ext cx="45468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74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42852"/>
                </a:solidFill>
                <a:latin typeface="Palatino Linotype"/>
                <a:ea typeface="Lucida Sans Unicode"/>
              </a:rPr>
              <a:t>северный полярный кру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796000" y="2637000"/>
            <a:ext cx="1512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Palatino Linotype"/>
                <a:ea typeface="Lucida Sans Unicode"/>
              </a:rPr>
              <a:t>экват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5292720" y="1108080"/>
            <a:ext cx="316692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Palatino Linotype"/>
                <a:ea typeface="Lucida Sans Unicode"/>
              </a:rPr>
              <a:t>северный троп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5118120"/>
            <a:ext cx="3816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Palatino Linotype"/>
                <a:ea typeface="Lucida Sans Unicode"/>
              </a:rPr>
              <a:t>южный полярный кру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5435640" y="3713040"/>
            <a:ext cx="2890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Palatino Linotype"/>
                <a:ea typeface="Lucida Sans Unicode"/>
              </a:rPr>
              <a:t>южный троп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"/>
          <p:cNvCxnSpPr/>
          <p:nvPr/>
        </p:nvCxnSpPr>
        <p:spPr>
          <a:xfrm flipH="1">
            <a:off x="3455640" y="739440"/>
            <a:ext cx="1381680" cy="486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8" name=""/>
          <p:cNvCxnSpPr/>
          <p:nvPr/>
        </p:nvCxnSpPr>
        <p:spPr>
          <a:xfrm flipH="1">
            <a:off x="4446360" y="1588680"/>
            <a:ext cx="1192320" cy="6166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9" name=""/>
          <p:cNvCxnSpPr/>
          <p:nvPr/>
        </p:nvCxnSpPr>
        <p:spPr>
          <a:xfrm flipH="1">
            <a:off x="4761720" y="2997000"/>
            <a:ext cx="1105560" cy="262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0" name=""/>
          <p:cNvCxnSpPr/>
          <p:nvPr/>
        </p:nvCxnSpPr>
        <p:spPr>
          <a:xfrm flipH="1">
            <a:off x="4520880" y="4114800"/>
            <a:ext cx="915120" cy="27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5" idx="1"/>
          </p:cNvCxnSpPr>
          <p:nvPr/>
        </p:nvCxnSpPr>
        <p:spPr>
          <a:xfrm flipH="1" flipV="1">
            <a:off x="3492360" y="5316480"/>
            <a:ext cx="1440360" cy="702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1565280" y="1246320"/>
            <a:ext cx="1870200" cy="342720"/>
          </a:xfrm>
          <a:custGeom>
            <a:avLst/>
            <a:gdLst/>
            <a:ahLst/>
            <a:rect l="l" t="t" r="r" b="b"/>
            <a:pathLst>
              <a:path w="1870363" h="342484">
                <a:moveTo>
                  <a:pt x="0" y="0"/>
                </a:moveTo>
                <a:cubicBezTo>
                  <a:pt x="32327" y="43873"/>
                  <a:pt x="64654" y="87746"/>
                  <a:pt x="110836" y="124691"/>
                </a:cubicBezTo>
                <a:cubicBezTo>
                  <a:pt x="157018" y="161637"/>
                  <a:pt x="184727" y="187037"/>
                  <a:pt x="277091" y="221673"/>
                </a:cubicBezTo>
                <a:cubicBezTo>
                  <a:pt x="369455" y="256309"/>
                  <a:pt x="538018" y="314036"/>
                  <a:pt x="665018" y="332509"/>
                </a:cubicBezTo>
                <a:cubicBezTo>
                  <a:pt x="792018" y="350982"/>
                  <a:pt x="916709" y="339436"/>
                  <a:pt x="1039091" y="332509"/>
                </a:cubicBezTo>
                <a:cubicBezTo>
                  <a:pt x="1161473" y="325582"/>
                  <a:pt x="1297709" y="309419"/>
                  <a:pt x="1399309" y="290946"/>
                </a:cubicBezTo>
                <a:cubicBezTo>
                  <a:pt x="1500909" y="272473"/>
                  <a:pt x="1570182" y="265546"/>
                  <a:pt x="1648691" y="221673"/>
                </a:cubicBezTo>
                <a:cubicBezTo>
                  <a:pt x="1727200" y="177800"/>
                  <a:pt x="1870363" y="27709"/>
                  <a:pt x="1870363" y="27709"/>
                </a:cubicBezTo>
                <a:lnTo>
                  <a:pt x="1870363" y="27709"/>
                </a:lnTo>
              </a:path>
            </a:pathLst>
          </a:custGeom>
          <a:noFill/>
          <a:ln w="572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1538280" y="4970520"/>
            <a:ext cx="1917720" cy="323640"/>
          </a:xfrm>
          <a:custGeom>
            <a:avLst/>
            <a:gdLst/>
            <a:ahLst/>
            <a:rect l="l" t="t" r="r" b="b"/>
            <a:pathLst>
              <a:path w="1918592" h="323785">
                <a:moveTo>
                  <a:pt x="0" y="294537"/>
                </a:moveTo>
                <a:cubicBezTo>
                  <a:pt x="50800" y="227573"/>
                  <a:pt x="101600" y="160610"/>
                  <a:pt x="193963" y="114428"/>
                </a:cubicBezTo>
                <a:cubicBezTo>
                  <a:pt x="286327" y="68246"/>
                  <a:pt x="399472" y="35919"/>
                  <a:pt x="554181" y="17446"/>
                </a:cubicBezTo>
                <a:cubicBezTo>
                  <a:pt x="708890" y="-1027"/>
                  <a:pt x="958273" y="-3335"/>
                  <a:pt x="1122218" y="3592"/>
                </a:cubicBezTo>
                <a:cubicBezTo>
                  <a:pt x="1286163" y="10519"/>
                  <a:pt x="1417781" y="24374"/>
                  <a:pt x="1537854" y="59010"/>
                </a:cubicBezTo>
                <a:cubicBezTo>
                  <a:pt x="1657927" y="93646"/>
                  <a:pt x="1780309" y="169846"/>
                  <a:pt x="1842654" y="211410"/>
                </a:cubicBezTo>
                <a:cubicBezTo>
                  <a:pt x="1904999" y="252974"/>
                  <a:pt x="1900382" y="289919"/>
                  <a:pt x="1911927" y="308392"/>
                </a:cubicBezTo>
                <a:cubicBezTo>
                  <a:pt x="1923472" y="326865"/>
                  <a:pt x="1917699" y="324555"/>
                  <a:pt x="1911927" y="322246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2203560"/>
            <a:ext cx="3770280" cy="295200"/>
          </a:xfrm>
          <a:custGeom>
            <a:avLst/>
            <a:gdLst/>
            <a:ahLst/>
            <a:rect l="l" t="t" r="r" b="b"/>
            <a:pathLst>
              <a:path w="3671455" h="295981">
                <a:moveTo>
                  <a:pt x="0" y="0"/>
                </a:moveTo>
                <a:cubicBezTo>
                  <a:pt x="87746" y="33481"/>
                  <a:pt x="175492" y="66963"/>
                  <a:pt x="263237" y="96981"/>
                </a:cubicBezTo>
                <a:cubicBezTo>
                  <a:pt x="350982" y="126999"/>
                  <a:pt x="438728" y="157018"/>
                  <a:pt x="526473" y="180109"/>
                </a:cubicBezTo>
                <a:cubicBezTo>
                  <a:pt x="614218" y="203200"/>
                  <a:pt x="690418" y="219363"/>
                  <a:pt x="789709" y="235527"/>
                </a:cubicBezTo>
                <a:cubicBezTo>
                  <a:pt x="889000" y="251691"/>
                  <a:pt x="953654" y="270164"/>
                  <a:pt x="1122218" y="277091"/>
                </a:cubicBezTo>
                <a:cubicBezTo>
                  <a:pt x="1290782" y="284018"/>
                  <a:pt x="1801091" y="277091"/>
                  <a:pt x="1801091" y="277091"/>
                </a:cubicBezTo>
                <a:cubicBezTo>
                  <a:pt x="2029691" y="279400"/>
                  <a:pt x="2269836" y="307109"/>
                  <a:pt x="2493818" y="290945"/>
                </a:cubicBezTo>
                <a:cubicBezTo>
                  <a:pt x="2717800" y="274781"/>
                  <a:pt x="2948709" y="221673"/>
                  <a:pt x="3144982" y="180109"/>
                </a:cubicBezTo>
                <a:cubicBezTo>
                  <a:pt x="3341255" y="138545"/>
                  <a:pt x="3671455" y="41563"/>
                  <a:pt x="3671455" y="41563"/>
                </a:cubicBezTo>
                <a:lnTo>
                  <a:pt x="3671455" y="41563"/>
                </a:lnTo>
                <a:lnTo>
                  <a:pt x="3671455" y="41563"/>
                </a:lnTo>
              </a:path>
            </a:pathLst>
          </a:custGeom>
          <a:noFill/>
          <a:ln w="572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582480" y="4114800"/>
            <a:ext cx="3864240" cy="277920"/>
          </a:xfrm>
          <a:custGeom>
            <a:avLst/>
            <a:gdLst/>
            <a:ahLst/>
            <a:rect l="l" t="t" r="r" b="b"/>
            <a:pathLst>
              <a:path w="3865418" h="277091">
                <a:moveTo>
                  <a:pt x="0" y="277091"/>
                </a:moveTo>
                <a:cubicBezTo>
                  <a:pt x="192809" y="202045"/>
                  <a:pt x="385618" y="127000"/>
                  <a:pt x="581891" y="83127"/>
                </a:cubicBezTo>
                <a:cubicBezTo>
                  <a:pt x="778164" y="39254"/>
                  <a:pt x="951345" y="27709"/>
                  <a:pt x="1177636" y="13855"/>
                </a:cubicBezTo>
                <a:cubicBezTo>
                  <a:pt x="1403927" y="0"/>
                  <a:pt x="1692563" y="0"/>
                  <a:pt x="1939636" y="0"/>
                </a:cubicBezTo>
                <a:cubicBezTo>
                  <a:pt x="2186709" y="0"/>
                  <a:pt x="2429164" y="0"/>
                  <a:pt x="2660073" y="13855"/>
                </a:cubicBezTo>
                <a:cubicBezTo>
                  <a:pt x="2890982" y="27709"/>
                  <a:pt x="3124200" y="39254"/>
                  <a:pt x="3325091" y="83127"/>
                </a:cubicBezTo>
                <a:cubicBezTo>
                  <a:pt x="3525982" y="127000"/>
                  <a:pt x="3865418" y="277091"/>
                  <a:pt x="3865418" y="277091"/>
                </a:cubicBezTo>
                <a:lnTo>
                  <a:pt x="3865418" y="277091"/>
                </a:lnTo>
              </a:path>
            </a:pathLst>
          </a:custGeom>
          <a:noFill/>
          <a:ln w="572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2673360"/>
            <a:ext cx="40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опический поя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1711440"/>
            <a:ext cx="339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ренный поя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42530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ренный поя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1211400" y="912960"/>
            <a:ext cx="26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лярный поя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5059440"/>
            <a:ext cx="302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лярный поя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61920" y="1125360"/>
            <a:ext cx="9082080" cy="4562640"/>
            <a:chOff x="61920" y="1125360"/>
            <a:chExt cx="9082080" cy="456264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61920" y="1125360"/>
              <a:ext cx="9082080" cy="456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61920" y="1125360"/>
              <a:ext cx="9082080" cy="456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508720" y="5589720"/>
            <a:ext cx="266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alatino Linotype"/>
                <a:ea typeface="Lucida Sans Unicode"/>
              </a:rPr>
              <a:t>Саха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4716360" y="189000"/>
            <a:ext cx="2808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alatino Linotype"/>
                <a:ea typeface="Lucida Sans Unicode"/>
              </a:rPr>
              <a:t>Саванна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  <a:ea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79280" y="189000"/>
            <a:ext cx="4041720" cy="3016080"/>
            <a:chOff x="179280" y="189000"/>
            <a:chExt cx="4041720" cy="301608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4041720" cy="30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79280" y="189000"/>
              <a:ext cx="4041720" cy="30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27640" y="765000"/>
            <a:ext cx="4500360" cy="2735280"/>
            <a:chOff x="4427640" y="765000"/>
            <a:chExt cx="4500360" cy="2735280"/>
          </a:xfrm>
        </p:grpSpPr>
        <p:pic>
          <p:nvPicPr>
            <p:cNvPr id="130" name="" descr=""/>
            <p:cNvPicPr/>
            <p:nvPr/>
          </p:nvPicPr>
          <p:blipFill>
            <a:blip r:embed="rId3"/>
            <a:stretch/>
          </p:blipFill>
          <p:spPr>
            <a:xfrm>
              <a:off x="4427640" y="765000"/>
              <a:ext cx="450036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4427640" y="765000"/>
              <a:ext cx="450036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79280" y="3573360"/>
            <a:ext cx="5013360" cy="3132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932360" y="5516640"/>
            <a:ext cx="404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  <a:ea typeface="Lucida Sans Unicode"/>
              </a:rPr>
              <a:t>северное сия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4716360" y="2492280"/>
            <a:ext cx="4041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  <a:ea typeface="Lucida Sans Unicode"/>
              </a:rPr>
              <a:t>полярная ноч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5280" y="189000"/>
            <a:ext cx="4392720" cy="2935080"/>
            <a:chOff x="395280" y="189000"/>
            <a:chExt cx="4392720" cy="293508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395280" y="189000"/>
              <a:ext cx="4392720" cy="29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95280" y="189000"/>
              <a:ext cx="4392720" cy="29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79280" y="3357720"/>
            <a:ext cx="4762440" cy="2974680"/>
            <a:chOff x="179280" y="3357720"/>
            <a:chExt cx="4762440" cy="2974680"/>
          </a:xfrm>
        </p:grpSpPr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179280" y="3357720"/>
              <a:ext cx="4762440" cy="29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79280" y="3357720"/>
              <a:ext cx="4762440" cy="29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4932360" y="333360"/>
            <a:ext cx="4029120" cy="2125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403200"/>
            <a:ext cx="822960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74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42852"/>
                </a:solidFill>
                <a:latin typeface="Palatino Linotype"/>
                <a:ea typeface="Lucida Sans Unicode"/>
              </a:rPr>
              <a:t>Работа парам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2212920"/>
            <a:ext cx="4041720" cy="39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alatino Linotype"/>
                <a:ea typeface="Lucida Sans Unicode"/>
              </a:rPr>
              <a:t>лет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alatino Linotype"/>
                <a:ea typeface="Lucida Sans Unicode"/>
              </a:rPr>
              <a:t>на Полярную звез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alatino Linotype"/>
                <a:ea typeface="Lucida Sans Unicode"/>
              </a:rPr>
              <a:t>почти прямые лу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643280" y="2133720"/>
            <a:ext cx="4321440" cy="3240000"/>
            <a:chOff x="4643280" y="2133720"/>
            <a:chExt cx="4321440" cy="3240000"/>
          </a:xfrm>
        </p:grpSpPr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4643280" y="2133720"/>
              <a:ext cx="4321440" cy="32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643280" y="2133720"/>
              <a:ext cx="4321440" cy="32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randomBa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3T23:54:54Z</dcterms:created>
  <dc:creator>USER</dc:creator>
  <dc:description/>
  <dc:language>en-US</dc:language>
  <cp:lastModifiedBy>USER</cp:lastModifiedBy>
  <dcterms:modified xsi:type="dcterms:W3CDTF">2012-09-06T19:14:47Z</dcterms:modified>
  <cp:revision>16</cp:revision>
  <dc:subject/>
  <dc:title>Пояса Земли</dc:title>
</cp:coreProperties>
</file>