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8A2-7C74-4CE6-9CA1-3E15386F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1D2-6681-49EB-AF91-83F3FCAA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17B1-E403-47F6-9394-611A72DC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92C-EA4A-433A-9E93-0105EC7A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97F-D664-4156-8357-AEB192B1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576-93EE-4150-905C-971B4162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B97-9E71-41D8-8093-F238BC03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FB4-9931-49D9-9C3C-D6A77273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6A4-FE5E-476C-9919-D9124ABF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E37-0997-46BC-B5F6-D124D5B7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757-A2CA-4B42-AF52-86B3B4C8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88C-92A9-4DFD-9AE7-39A6E223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90B6-E2AE-416D-9C3B-0DDC4EBD0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4754520" cy="6511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8847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Freestyle Script"/>
              </a:rPr>
              <a:t>Помоги Буратино отгадать сло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63640" y="1484280"/>
            <a:ext cx="1800360" cy="156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92360" y="1557360"/>
            <a:ext cx="1827360" cy="154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148360" y="1628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948360" y="1628640"/>
            <a:ext cx="1570320" cy="157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219640" y="414972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7020000" y="4508640"/>
            <a:ext cx="858600" cy="86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3780000" y="4221000"/>
            <a:ext cx="1031760" cy="136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684360" y="429264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2340000" y="4508640"/>
            <a:ext cx="93672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3 -0.07865 L -0.37135 -0.16262 E">
                                      <p:cBhvr>
                                        <p:cTn id="5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25 -0.05228 L -0.53507 -0.16771 E">
                                      <p:cBhvr>
                                        <p:cTn id="6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96391E-006 L -0.16909 -0.16285 E">
                                      <p:cBhvr>
                                        <p:cTn id="6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8.39695E-007 L 0.36614 -0.17303 E">
                                      <p:cBhvr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86 -0.1041 L 0.70191 -0.18807 E">
                                      <p:cBhvr>
                                        <p:cTn id="7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260880" cy="4465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2852640"/>
            <a:ext cx="58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0000"/>
                </a:solidFill>
                <a:latin typeface="Monotype Corsiva"/>
              </a:rPr>
              <a:t>Молодцы!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84360" y="260280"/>
            <a:ext cx="38880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0" spc="-1" strike="noStrike">
                <a:solidFill>
                  <a:srgbClr val="ff3399"/>
                </a:solidFill>
                <a:latin typeface="Arial"/>
              </a:rPr>
              <a:t>С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14:44:06Z</dcterms:created>
  <dc:creator>COMPUTER</dc:creator>
  <dc:description/>
  <dc:language>en-US</dc:language>
  <cp:lastModifiedBy>COMPUTER</cp:lastModifiedBy>
  <dcterms:modified xsi:type="dcterms:W3CDTF">2013-02-26T16:01:00Z</dcterms:modified>
  <cp:revision>3</cp:revision>
  <dc:subject/>
  <dc:title>Слайд 1</dc:title>
</cp:coreProperties>
</file>