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chimes.wav" ContentType="audio/x-wav"/>
  <Override PartName="/ppt/media/image14.png" ContentType="image/png"/>
  <Override PartName="/ppt/media/camera.wav" ContentType="audio/x-wav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BC5-529B-424D-B1AE-E6D86A89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4BC-AAAC-44A0-801A-706D763D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4BA-910C-48E0-9E1B-9B128AE8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490-7EB0-4437-B72E-66CD71B5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0E3C-7661-4F66-83E1-1D5DBB99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CC21-2826-4B68-9F65-97367800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5C43-E488-4036-8040-C1B68B99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9D84-8708-4E4B-98B7-9C01DEE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3ED4-B678-4A11-A0B5-002F944E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15A3-0D50-4F3E-8EFC-DB69D297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B35B-CB4A-4730-99FC-9536B2AE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F02-346E-437D-9C48-BEF2D40F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EA79-50F7-4AF7-BD9E-E05A1295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9310-A205-4B95-AAF4-87F0A79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5D6F-7275-4578-8BC8-1B97064E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AAAB-7A5B-4AB3-8FC3-D82E3D59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43DD-2909-422C-8D9D-EE90698A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B9E-8832-4E1A-98CF-E8B69B8A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728-8ED2-4D9C-B710-6BF5873D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398-DB54-48EE-B467-2101CBDB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9DB-E6E2-4174-B60B-FE136D28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23E-3F9D-4ABE-8212-72737F9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511-2102-4E0A-B9BD-5196B3B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9C0-C348-4867-8872-D474DAEF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D5C7-2097-4172-82A4-B0A7F1AF034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4429-5CB8-4B3C-A5A8-EA8933F1F5E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07600" y="1484280"/>
            <a:ext cx="8316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м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готовка древесин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908000" y="3141720"/>
            <a:ext cx="929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Круглые лесоматериал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01_547"/>
          <p:cNvPicPr/>
          <p:nvPr/>
        </p:nvPicPr>
        <p:blipFill>
          <a:blip r:embed="rId1"/>
          <a:stretch/>
        </p:blipFill>
        <p:spPr>
          <a:xfrm>
            <a:off x="912960" y="620640"/>
            <a:ext cx="7188120" cy="4684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1692360" y="5386320"/>
            <a:ext cx="624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Сплав леса по рек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50920" y="4221000"/>
            <a:ext cx="8713800" cy="1526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аспиливанием хлыстов на ча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занимается  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раскряжёвщ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ИВ 001"/>
          <p:cNvPicPr/>
          <p:nvPr/>
        </p:nvPicPr>
        <p:blipFill>
          <a:blip r:embed="rId1"/>
          <a:srcRect l="1622" t="3431" r="4006" b="6206"/>
          <a:stretch/>
        </p:blipFill>
        <p:spPr>
          <a:xfrm>
            <a:off x="2700360" y="476280"/>
            <a:ext cx="4032360" cy="31082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ИВ 001"/>
          <p:cNvPicPr/>
          <p:nvPr/>
        </p:nvPicPr>
        <p:blipFill>
          <a:blip r:embed="rId1"/>
          <a:srcRect l="1622" t="3431" r="4006" b="6206"/>
          <a:stretch/>
        </p:blipFill>
        <p:spPr>
          <a:xfrm>
            <a:off x="2627280" y="476280"/>
            <a:ext cx="4248360" cy="3743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05" name="Text Box 6"/>
          <p:cNvSpPr/>
          <p:nvPr/>
        </p:nvSpPr>
        <p:spPr>
          <a:xfrm>
            <a:off x="3040200" y="560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25"/>
          <p:cNvGrpSpPr/>
          <p:nvPr/>
        </p:nvGrpSpPr>
        <p:grpSpPr>
          <a:xfrm>
            <a:off x="6732720" y="1001880"/>
            <a:ext cx="2249640" cy="555480"/>
            <a:chOff x="6732720" y="1001880"/>
            <a:chExt cx="2249640" cy="555480"/>
          </a:xfrm>
        </p:grpSpPr>
        <p:sp>
          <p:nvSpPr>
            <p:cNvPr id="107" name="Text Box 8"/>
            <p:cNvSpPr/>
            <p:nvPr/>
          </p:nvSpPr>
          <p:spPr>
            <a:xfrm>
              <a:off x="7536600" y="1001880"/>
              <a:ext cx="1445760" cy="520560"/>
            </a:xfrm>
            <a:prstGeom prst="rect">
              <a:avLst/>
            </a:prstGeom>
            <a:noFill/>
            <a:ln w="19080">
              <a:solidFill>
                <a:srgbClr val="4100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рёв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H="1">
              <a:off x="6732720" y="1413000"/>
              <a:ext cx="79200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Text Box 12"/>
          <p:cNvSpPr/>
          <p:nvPr/>
        </p:nvSpPr>
        <p:spPr>
          <a:xfrm>
            <a:off x="563256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250920" y="5321160"/>
            <a:ext cx="104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Круглый лесоматериа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4427640" y="4653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5251320" y="4005360"/>
            <a:ext cx="1395360" cy="1023840"/>
            <a:chOff x="5251320" y="4005360"/>
            <a:chExt cx="1395360" cy="1023840"/>
          </a:xfrm>
        </p:grpSpPr>
        <p:sp>
          <p:nvSpPr>
            <p:cNvPr id="113" name="Text Box 15"/>
            <p:cNvSpPr/>
            <p:nvPr/>
          </p:nvSpPr>
          <p:spPr>
            <a:xfrm>
              <a:off x="5251320" y="4508640"/>
              <a:ext cx="1395360" cy="520560"/>
            </a:xfrm>
            <a:prstGeom prst="rect">
              <a:avLst/>
            </a:prstGeom>
            <a:noFill/>
            <a:ln w="19080">
              <a:solidFill>
                <a:srgbClr val="4100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чура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 flipH="1" flipV="1">
              <a:off x="5435280" y="4005360"/>
              <a:ext cx="14436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2946240" y="4005360"/>
            <a:ext cx="1409760" cy="1023840"/>
            <a:chOff x="2946240" y="4005360"/>
            <a:chExt cx="1409760" cy="1023840"/>
          </a:xfrm>
        </p:grpSpPr>
        <p:sp>
          <p:nvSpPr>
            <p:cNvPr id="116" name="Text Box 10"/>
            <p:cNvSpPr/>
            <p:nvPr/>
          </p:nvSpPr>
          <p:spPr>
            <a:xfrm>
              <a:off x="2946240" y="4508640"/>
              <a:ext cx="1409760" cy="520560"/>
            </a:xfrm>
            <a:prstGeom prst="rect">
              <a:avLst/>
            </a:prstGeom>
            <a:noFill/>
            <a:ln w="19080">
              <a:solidFill>
                <a:srgbClr val="4100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ряж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V="1">
              <a:off x="3564000" y="4005360"/>
              <a:ext cx="57636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Text Box 28"/>
          <p:cNvSpPr/>
          <p:nvPr/>
        </p:nvSpPr>
        <p:spPr>
          <a:xfrm>
            <a:off x="611280" y="2781360"/>
            <a:ext cx="1728720" cy="58140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лы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9"/>
          <p:cNvSpPr/>
          <p:nvPr/>
        </p:nvSpPr>
        <p:spPr>
          <a:xfrm>
            <a:off x="2340000" y="306864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82400" y="1268280"/>
            <a:ext cx="2792880" cy="1099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брёв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7"/>
          <p:cNvGrpSpPr/>
          <p:nvPr/>
        </p:nvGrpSpPr>
        <p:grpSpPr>
          <a:xfrm>
            <a:off x="3276720" y="1628640"/>
            <a:ext cx="4812840" cy="825120"/>
            <a:chOff x="3276720" y="1628640"/>
            <a:chExt cx="4812840" cy="825120"/>
          </a:xfrm>
        </p:grpSpPr>
        <p:sp>
          <p:nvSpPr>
            <p:cNvPr id="122" name="Text Box 8"/>
            <p:cNvSpPr/>
            <p:nvPr/>
          </p:nvSpPr>
          <p:spPr>
            <a:xfrm>
              <a:off x="5912280" y="1628640"/>
              <a:ext cx="2177280" cy="825120"/>
            </a:xfrm>
            <a:prstGeom prst="rect">
              <a:avLst/>
            </a:prstGeom>
            <a:noFill/>
            <a:ln w="19080">
              <a:solidFill>
                <a:srgbClr val="c9c2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столб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3276720" y="1989000"/>
              <a:ext cx="259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38"/>
          <p:cNvGrpSpPr/>
          <p:nvPr/>
        </p:nvGrpSpPr>
        <p:grpSpPr>
          <a:xfrm>
            <a:off x="3348000" y="345960"/>
            <a:ext cx="4507560" cy="1643040"/>
            <a:chOff x="3348000" y="345960"/>
            <a:chExt cx="4507560" cy="1643040"/>
          </a:xfrm>
        </p:grpSpPr>
        <p:sp>
          <p:nvSpPr>
            <p:cNvPr id="125" name="Text Box 5"/>
            <p:cNvSpPr/>
            <p:nvPr/>
          </p:nvSpPr>
          <p:spPr>
            <a:xfrm>
              <a:off x="6190560" y="345960"/>
              <a:ext cx="1665000" cy="825120"/>
            </a:xfrm>
            <a:prstGeom prst="rect">
              <a:avLst/>
            </a:prstGeom>
            <a:noFill/>
            <a:ln w="19080">
              <a:solidFill>
                <a:srgbClr val="c9c2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дома</a:t>
              </a:r>
              <a:r>
                <a:rPr b="0" lang="ru-RU" sz="4800" spc="-1" strike="noStrike">
                  <a:solidFill>
                    <a:srgbClr val="9cb084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3348000" y="755640"/>
              <a:ext cx="2786040" cy="12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3348000" y="1989000"/>
            <a:ext cx="4812120" cy="1782360"/>
            <a:chOff x="3348000" y="1989000"/>
            <a:chExt cx="4812120" cy="1782360"/>
          </a:xfrm>
        </p:grpSpPr>
        <p:sp>
          <p:nvSpPr>
            <p:cNvPr id="128" name="Text Box 9"/>
            <p:cNvSpPr/>
            <p:nvPr/>
          </p:nvSpPr>
          <p:spPr>
            <a:xfrm>
              <a:off x="4471200" y="2946240"/>
              <a:ext cx="3688920" cy="825120"/>
            </a:xfrm>
            <a:prstGeom prst="rect">
              <a:avLst/>
            </a:prstGeom>
            <a:noFill/>
            <a:ln w="19080">
              <a:solidFill>
                <a:srgbClr val="c9c2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мачты судов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>
              <a:off x="3348000" y="1989000"/>
              <a:ext cx="115092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34"/>
          <p:cNvGrpSpPr/>
          <p:nvPr/>
        </p:nvGrpSpPr>
        <p:grpSpPr>
          <a:xfrm>
            <a:off x="3268800" y="1989000"/>
            <a:ext cx="4955040" cy="4552560"/>
            <a:chOff x="3268800" y="1989000"/>
            <a:chExt cx="4955040" cy="4552560"/>
          </a:xfrm>
        </p:grpSpPr>
        <p:sp>
          <p:nvSpPr>
            <p:cNvPr id="131" name="Text Box 27"/>
            <p:cNvSpPr/>
            <p:nvPr/>
          </p:nvSpPr>
          <p:spPr>
            <a:xfrm>
              <a:off x="3280680" y="5716440"/>
              <a:ext cx="4943160" cy="825120"/>
            </a:xfrm>
            <a:prstGeom prst="rect">
              <a:avLst/>
            </a:prstGeom>
            <a:noFill/>
            <a:ln w="19080">
              <a:solidFill>
                <a:srgbClr val="c9c2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элементы мостов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28"/>
            <p:cNvSpPr/>
            <p:nvPr/>
          </p:nvSpPr>
          <p:spPr>
            <a:xfrm flipH="1">
              <a:off x="3268800" y="1989000"/>
              <a:ext cx="7920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35"/>
          <p:cNvGrpSpPr/>
          <p:nvPr/>
        </p:nvGrpSpPr>
        <p:grpSpPr>
          <a:xfrm>
            <a:off x="3348000" y="1989000"/>
            <a:ext cx="4811400" cy="3128760"/>
            <a:chOff x="3348000" y="1989000"/>
            <a:chExt cx="4811400" cy="3128760"/>
          </a:xfrm>
        </p:grpSpPr>
        <p:sp>
          <p:nvSpPr>
            <p:cNvPr id="134" name="Text Box 30"/>
            <p:cNvSpPr/>
            <p:nvPr/>
          </p:nvSpPr>
          <p:spPr>
            <a:xfrm>
              <a:off x="4007160" y="4292640"/>
              <a:ext cx="4152240" cy="825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пиломатериал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33"/>
            <p:cNvSpPr/>
            <p:nvPr/>
          </p:nvSpPr>
          <p:spPr>
            <a:xfrm>
              <a:off x="3348000" y="1989000"/>
              <a:ext cx="647640" cy="230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33320" y="2492280"/>
            <a:ext cx="2675520" cy="1099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кряж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4356000" y="785880"/>
            <a:ext cx="3373200" cy="2282400"/>
            <a:chOff x="4356000" y="785880"/>
            <a:chExt cx="3373200" cy="2282400"/>
          </a:xfrm>
        </p:grpSpPr>
        <p:sp>
          <p:nvSpPr>
            <p:cNvPr id="138" name="Text Box 4"/>
            <p:cNvSpPr/>
            <p:nvPr/>
          </p:nvSpPr>
          <p:spPr>
            <a:xfrm>
              <a:off x="5939280" y="785880"/>
              <a:ext cx="1789920" cy="825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лыжи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V="1">
              <a:off x="4356000" y="1267920"/>
              <a:ext cx="151128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6"/>
          <p:cNvGrpSpPr/>
          <p:nvPr/>
        </p:nvGrpSpPr>
        <p:grpSpPr>
          <a:xfrm>
            <a:off x="4356000" y="2873520"/>
            <a:ext cx="3589200" cy="825120"/>
            <a:chOff x="4356000" y="2873520"/>
            <a:chExt cx="3589200" cy="825120"/>
          </a:xfrm>
        </p:grpSpPr>
        <p:sp>
          <p:nvSpPr>
            <p:cNvPr id="141" name="Text Box 7"/>
            <p:cNvSpPr/>
            <p:nvPr/>
          </p:nvSpPr>
          <p:spPr>
            <a:xfrm>
              <a:off x="5772600" y="2873520"/>
              <a:ext cx="2172600" cy="825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фанер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4356000" y="3068640"/>
              <a:ext cx="136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9"/>
          <p:cNvGrpSpPr/>
          <p:nvPr/>
        </p:nvGrpSpPr>
        <p:grpSpPr>
          <a:xfrm>
            <a:off x="4356000" y="3068640"/>
            <a:ext cx="4256640" cy="3006360"/>
            <a:chOff x="4356000" y="3068640"/>
            <a:chExt cx="4256640" cy="3006360"/>
          </a:xfrm>
        </p:grpSpPr>
        <p:sp>
          <p:nvSpPr>
            <p:cNvPr id="144" name="Text Box 10"/>
            <p:cNvSpPr/>
            <p:nvPr/>
          </p:nvSpPr>
          <p:spPr>
            <a:xfrm>
              <a:off x="5304600" y="5249880"/>
              <a:ext cx="3308040" cy="825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карандаши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>
              <a:off x="4356000" y="3068640"/>
              <a:ext cx="1368360" cy="20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126600" y="2633760"/>
            <a:ext cx="2923920" cy="1099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чурак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990000" y="3860640"/>
            <a:ext cx="7319160" cy="2349000"/>
            <a:chOff x="990000" y="3860640"/>
            <a:chExt cx="7319160" cy="2349000"/>
          </a:xfrm>
        </p:grpSpPr>
        <p:sp>
          <p:nvSpPr>
            <p:cNvPr id="148" name="Text Box 4"/>
            <p:cNvSpPr/>
            <p:nvPr/>
          </p:nvSpPr>
          <p:spPr>
            <a:xfrm>
              <a:off x="990000" y="5384520"/>
              <a:ext cx="7319160" cy="8251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для обработки на станках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>
              <a:off x="4572000" y="3860640"/>
              <a:ext cx="0" cy="151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12"/>
          <p:cNvGrpSpPr/>
          <p:nvPr/>
        </p:nvGrpSpPr>
        <p:grpSpPr>
          <a:xfrm>
            <a:off x="3724560" y="631800"/>
            <a:ext cx="1765800" cy="2005200"/>
            <a:chOff x="3724560" y="631800"/>
            <a:chExt cx="1765800" cy="2005200"/>
          </a:xfrm>
        </p:grpSpPr>
        <p:sp>
          <p:nvSpPr>
            <p:cNvPr id="151" name="Text Box 8"/>
            <p:cNvSpPr/>
            <p:nvPr/>
          </p:nvSpPr>
          <p:spPr>
            <a:xfrm>
              <a:off x="3724560" y="631800"/>
              <a:ext cx="1765800" cy="8251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ff"/>
                  </a:solidFill>
                  <a:latin typeface="Times New Roman"/>
                </a:rPr>
                <a:t>дров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V="1">
              <a:off x="4572000" y="1484280"/>
              <a:ext cx="0" cy="115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3721320" y="217440"/>
            <a:ext cx="240120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00 кг бума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674160" y="5186520"/>
            <a:ext cx="489456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000 м целлофановой плё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732120" y="6049800"/>
            <a:ext cx="490824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70 кг искусственной шер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725640" y="1009800"/>
            <a:ext cx="202932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0 л спи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23840" y="1801800"/>
            <a:ext cx="249120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80 пар гало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672720" y="2593800"/>
            <a:ext cx="424980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0 кг кормовых дрожж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3726360" y="3457440"/>
            <a:ext cx="489276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60 кг искусственного ш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726360" y="4321080"/>
            <a:ext cx="404244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штуки автопокрыш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60840" y="2124000"/>
            <a:ext cx="3089880" cy="1739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хлыс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ина - 19,8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щина - 32 с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 flipV="1">
            <a:off x="3132000" y="404280"/>
            <a:ext cx="57636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V="1">
            <a:off x="3203640" y="1267920"/>
            <a:ext cx="504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3203640" y="3573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3203640" y="2852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V="1">
            <a:off x="3203640" y="2133360"/>
            <a:ext cx="50472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3203640" y="3789360"/>
            <a:ext cx="504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3203640" y="3862440"/>
            <a:ext cx="43164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3203640" y="3932280"/>
            <a:ext cx="43164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сегодня я узнал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было интересно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меня удивило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урок дал мне для жизни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мне захотелось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50720" y="-225360"/>
            <a:ext cx="8242560" cy="19620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" descr=""/>
          <p:cNvPicPr/>
          <p:nvPr/>
        </p:nvPicPr>
        <p:blipFill>
          <a:blip r:embed="rId2"/>
          <a:stretch/>
        </p:blipFill>
        <p:spPr>
          <a:xfrm>
            <a:off x="927000" y="2835360"/>
            <a:ext cx="7236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Задачи урок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знать технологию заготовки лес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учиться определять виды лесоматериал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нать  применение лесоматериа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390600" y="4797360"/>
            <a:ext cx="8240760" cy="19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зимний лес"/>
          <p:cNvPicPr/>
          <p:nvPr/>
        </p:nvPicPr>
        <p:blipFill>
          <a:blip r:embed="rId2"/>
          <a:stretch/>
        </p:blipFill>
        <p:spPr>
          <a:xfrm>
            <a:off x="539640" y="189000"/>
            <a:ext cx="3961080" cy="4525920"/>
          </a:xfrm>
          <a:prstGeom prst="rect">
            <a:avLst/>
          </a:prstGeom>
          <a:ln w="28440">
            <a:solidFill>
              <a:srgbClr val="9cb084"/>
            </a:solidFill>
            <a:miter/>
          </a:ln>
        </p:spPr>
      </p:pic>
      <p:pic>
        <p:nvPicPr>
          <p:cNvPr id="88" name="Picture 4" descr="belp004"/>
          <p:cNvPicPr/>
          <p:nvPr/>
        </p:nvPicPr>
        <p:blipFill>
          <a:blip r:embed="rId3"/>
          <a:stretch/>
        </p:blipFill>
        <p:spPr>
          <a:xfrm>
            <a:off x="4643280" y="189000"/>
            <a:ext cx="4249800" cy="4535280"/>
          </a:xfrm>
          <a:prstGeom prst="rect">
            <a:avLst/>
          </a:prstGeom>
          <a:ln w="28440">
            <a:solidFill>
              <a:srgbClr val="9cb0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603_4860_scr"/>
          <p:cNvPicPr/>
          <p:nvPr/>
        </p:nvPicPr>
        <p:blipFill>
          <a:blip r:embed="rId1"/>
          <a:srcRect l="0" t="0" r="0" b="4982"/>
          <a:stretch/>
        </p:blipFill>
        <p:spPr>
          <a:xfrm>
            <a:off x="611280" y="115920"/>
            <a:ext cx="7632720" cy="5645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90" name="Text Box 5"/>
          <p:cNvSpPr/>
          <p:nvPr/>
        </p:nvSpPr>
        <p:spPr>
          <a:xfrm>
            <a:off x="689400" y="5845320"/>
            <a:ext cx="76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Делянка для вырубки ле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069"/>
          <p:cNvPicPr/>
          <p:nvPr/>
        </p:nvPicPr>
        <p:blipFill>
          <a:blip r:embed="rId1"/>
          <a:stretch/>
        </p:blipFill>
        <p:spPr>
          <a:xfrm>
            <a:off x="250920" y="260280"/>
            <a:ext cx="5748120" cy="6408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92" name="Text Box 5"/>
          <p:cNvSpPr/>
          <p:nvPr/>
        </p:nvSpPr>
        <p:spPr>
          <a:xfrm>
            <a:off x="6300720" y="6021360"/>
            <a:ext cx="33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Вальщ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42137"/>
          <p:cNvPicPr/>
          <p:nvPr/>
        </p:nvPicPr>
        <p:blipFill>
          <a:blip r:embed="rId1"/>
          <a:stretch/>
        </p:blipFill>
        <p:spPr>
          <a:xfrm>
            <a:off x="826920" y="190440"/>
            <a:ext cx="7490160" cy="56865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94" name="Text Box 3"/>
          <p:cNvSpPr/>
          <p:nvPr/>
        </p:nvSpPr>
        <p:spPr>
          <a:xfrm>
            <a:off x="2411640" y="5805360"/>
            <a:ext cx="335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Трелёвщ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ig_lesopoval_tehnika_lesozagotovka_1"/>
          <p:cNvPicPr/>
          <p:nvPr/>
        </p:nvPicPr>
        <p:blipFill>
          <a:blip r:embed="rId1"/>
          <a:stretch/>
        </p:blipFill>
        <p:spPr>
          <a:xfrm>
            <a:off x="1333440" y="549360"/>
            <a:ext cx="6551640" cy="53989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96" name="Text Box 3"/>
          <p:cNvSpPr/>
          <p:nvPr/>
        </p:nvSpPr>
        <p:spPr>
          <a:xfrm>
            <a:off x="223920" y="6033960"/>
            <a:ext cx="892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Оператор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сучкорезных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маш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0030227162210"/>
          <p:cNvPicPr/>
          <p:nvPr/>
        </p:nvPicPr>
        <p:blipFill>
          <a:blip r:embed="rId1"/>
          <a:stretch/>
        </p:blipFill>
        <p:spPr>
          <a:xfrm>
            <a:off x="395280" y="258840"/>
            <a:ext cx="8353440" cy="6265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603_4867_scr"/>
          <p:cNvPicPr/>
          <p:nvPr/>
        </p:nvPicPr>
        <p:blipFill>
          <a:blip r:embed="rId1"/>
          <a:srcRect l="0" t="0" r="308" b="5363"/>
          <a:stretch/>
        </p:blipFill>
        <p:spPr>
          <a:xfrm>
            <a:off x="826920" y="249120"/>
            <a:ext cx="7704360" cy="54849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99" name="Text Box 5"/>
          <p:cNvSpPr/>
          <p:nvPr/>
        </p:nvSpPr>
        <p:spPr>
          <a:xfrm>
            <a:off x="1691280" y="5673600"/>
            <a:ext cx="57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Машинист лесовоз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9:13:29Z</dcterms:created>
  <dc:creator>Малкова Т.М.</dc:creator>
  <dc:description/>
  <dc:language>en-US</dc:language>
  <cp:lastModifiedBy>Денис</cp:lastModifiedBy>
  <dcterms:modified xsi:type="dcterms:W3CDTF">2013-08-22T10:07:05Z</dcterms:modified>
  <cp:revision>15</cp:revision>
  <dc:subject/>
  <dc:title>Слайд 1</dc:title>
</cp:coreProperties>
</file>