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gif" ContentType="image/gif"/>
  <Override PartName="/ppt/media/image5.gif" ContentType="image/gi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56F38-C51A-4222-9EF1-D10CCCBCF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5DF41-8C19-42F0-BE34-34E73F746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FDF6D-71B4-43E6-ADBB-53AF0C57B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44DF4-0FDA-401D-9E61-AF1548D53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BBFA7-EF48-45BD-BA8D-648B4F034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EB460-96FE-4535-99A5-9C7ECA1B6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B6FB8-C18D-4983-ADED-F6DB326B7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8F977-A551-47AE-9B32-C57EBA44E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CDF2B-C9F9-4468-B6B4-D02654382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FEED2-E09B-4595-A058-8411A763E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ABDC7-3658-4B1E-B7D0-05CC8ADF2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11BDD-3B84-4132-AFD0-55059662D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039E8-6D17-43BC-8473-1E53ECD87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33829-4805-4714-A498-0FACB71E6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95B16-67EA-4BDC-839C-0D65FDD30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8CD22-9C3F-41D5-A481-9C16D5471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A9609-9817-4034-B5BF-B73CEB805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D5E22-C925-4217-99ED-6D4992EAF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3DA74-65D7-49F1-B276-8CDA4EE1E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5729F-503C-4A0B-B157-002BF6DDD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1860D-3FF8-40A8-B357-FF1C9EBE9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AD16A-5238-4B80-9984-E21981614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4D186-C5CD-46A4-9CB0-322072BAF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A997A-3E25-4E8F-ACA0-B8754805F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F4877-CE59-4EDC-9650-DAA7BD2139A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CD85A-B5EB-49D5-8457-22CE67DC33E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-38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68360" y="836640"/>
            <a:ext cx="8316720" cy="47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6600"/>
                </a:solidFill>
                <a:latin typeface="Georgia"/>
              </a:rPr>
              <a:t>Презентация к уроку по теме: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Georgia"/>
              </a:rPr>
              <a:t>“</a:t>
            </a:r>
            <a:r>
              <a:rPr b="1" lang="ru-RU" sz="3600" spc="-1" strike="noStrike">
                <a:solidFill>
                  <a:srgbClr val="ffffff"/>
                </a:solidFill>
                <a:latin typeface="Georgia"/>
              </a:rPr>
              <a:t>Методы решения логарифмических уравнений</a:t>
            </a:r>
            <a:r>
              <a:rPr b="1" lang="en-US" sz="3600" spc="-1" strike="noStrike">
                <a:solidFill>
                  <a:srgbClr val="ffffff"/>
                </a:solidFill>
                <a:latin typeface="Georgia"/>
              </a:rPr>
              <a:t>”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ОУ СОШ № 5 г. Ивантеев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читель математи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аватеева И. П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Методы решения логарифмических уравнений: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По определению логарифма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Потенцировани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Введение новой переменной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Логарифмирование обеих частей уравнени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Приведение к одному основанию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Функционально-графический метод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Решить уравнение:           = 3 - х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64" name=""/>
          <p:cNvGraphicFramePr/>
          <p:nvPr/>
        </p:nvGraphicFramePr>
        <p:xfrm>
          <a:off x="1512720" y="1655640"/>
          <a:ext cx="6264360" cy="4465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2720" y="1655640"/>
                    <a:ext cx="6264360" cy="446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7" name=""/>
              <p:cNvSpPr txBox="1"/>
              <p:nvPr/>
            </p:nvSpPr>
            <p:spPr>
              <a:xfrm>
                <a:off x="5148360" y="404640"/>
                <a:ext cx="1584360" cy="84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8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5724360" y="2637000"/>
                <a:ext cx="151164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50560" y="3068280"/>
            <a:ext cx="889308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ccecff"/>
                </a:solidFill>
                <a:latin typeface="Arial"/>
              </a:rPr>
              <a:t>«Правильному применению методов можно научиться,</a:t>
            </a:r>
            <a:br>
              <a:rPr sz="3200"/>
            </a:br>
            <a:r>
              <a:rPr b="0" i="1" lang="en-US" sz="3200" spc="-1" strike="noStrike">
                <a:solidFill>
                  <a:srgbClr val="ccecff"/>
                </a:solidFill>
                <a:latin typeface="Arial"/>
              </a:rPr>
              <a:t> только применяя их на различных примерах».</a:t>
            </a:r>
            <a:br>
              <a:rPr sz="3200"/>
            </a:b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255600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Датский историк математики Г. Г. Цейте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1187280" y="692280"/>
            <a:ext cx="1297080" cy="1074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Предложите метод решения уравнений: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6" name=""/>
              <p:cNvSpPr txBox="1"/>
              <p:nvPr/>
            </p:nvSpPr>
            <p:spPr>
              <a:xfrm>
                <a:off x="3203640" y="1803240"/>
                <a:ext cx="4249800" cy="88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5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x</m:t>
                    </m:r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7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8" name=""/>
              <p:cNvSpPr txBox="1"/>
              <p:nvPr/>
            </p:nvSpPr>
            <p:spPr>
              <a:xfrm>
                <a:off x="3348000" y="2565360"/>
                <a:ext cx="3382920" cy="7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0,3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5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9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0" name=""/>
              <p:cNvSpPr txBox="1"/>
              <p:nvPr/>
            </p:nvSpPr>
            <p:spPr>
              <a:xfrm>
                <a:off x="2984400" y="3216240"/>
                <a:ext cx="3103560" cy="103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g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g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1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2" name=""/>
              <p:cNvSpPr txBox="1"/>
              <p:nvPr/>
            </p:nvSpPr>
            <p:spPr>
              <a:xfrm>
                <a:off x="3203640" y="4221000"/>
                <a:ext cx="4248000" cy="54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g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7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lg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3" name=""/>
          <p:cNvSpPr/>
          <p:nvPr/>
        </p:nvSpPr>
        <p:spPr>
          <a:xfrm>
            <a:off x="0" y="325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4" name=""/>
              <p:cNvSpPr txBox="1"/>
              <p:nvPr/>
            </p:nvSpPr>
            <p:spPr>
              <a:xfrm>
                <a:off x="3276720" y="4724280"/>
                <a:ext cx="3024000" cy="121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</m:sub>
                    </m:sSub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7" name=""/>
              <p:cNvSpPr txBox="1"/>
              <p:nvPr/>
            </p:nvSpPr>
            <p:spPr>
              <a:xfrm>
                <a:off x="3276720" y="5737320"/>
                <a:ext cx="3959280" cy="94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</m:sub>
                    </m:sSub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8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-72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755640" y="135216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Что есть больше всего на свете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ff"/>
                </a:solidFill>
                <a:latin typeface="Arial"/>
              </a:rPr>
              <a:t>Пространство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Что мудрее всего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ff"/>
                </a:solidFill>
                <a:latin typeface="Arial"/>
              </a:rPr>
              <a:t>Время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Что приятнее всего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ff"/>
                </a:solidFill>
                <a:latin typeface="Arial"/>
              </a:rPr>
              <a:t>Достичь желаемого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                                        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Фалес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6516720" y="2637000"/>
            <a:ext cx="1533600" cy="1409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987280" y="1125000"/>
            <a:ext cx="615636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ccecff"/>
                </a:solidFill>
                <a:latin typeface="Arial"/>
              </a:rPr>
              <a:t>«Изобретение логарифмов, сократив работу астронома, продлило ему жизнь»</a:t>
            </a: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3132000" y="486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Французский математи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и астроном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П. С. Лапла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684360" y="692280"/>
            <a:ext cx="1904760" cy="410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1) При каких значениях х имеет смысл функция: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04720" y="1655280"/>
            <a:ext cx="5181840" cy="44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а)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б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г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8" name=""/>
              <p:cNvSpPr txBox="1"/>
              <p:nvPr/>
            </p:nvSpPr>
            <p:spPr>
              <a:xfrm>
                <a:off x="5472000" y="1700280"/>
                <a:ext cx="3672000" cy="424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1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1187280" y="1413000"/>
                <a:ext cx="3097440" cy="109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2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3" name=""/>
              <p:cNvSpPr txBox="1"/>
              <p:nvPr/>
            </p:nvSpPr>
            <p:spPr>
              <a:xfrm>
                <a:off x="971640" y="2492280"/>
                <a:ext cx="345600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4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5" name=""/>
              <p:cNvSpPr txBox="1"/>
              <p:nvPr/>
            </p:nvSpPr>
            <p:spPr>
              <a:xfrm>
                <a:off x="900000" y="3500280"/>
                <a:ext cx="4537080" cy="105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0,5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6" name="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7" name=""/>
              <p:cNvSpPr txBox="1"/>
              <p:nvPr/>
            </p:nvSpPr>
            <p:spPr>
              <a:xfrm>
                <a:off x="971640" y="4508640"/>
                <a:ext cx="2665440" cy="12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g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28" name="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Проверь ответ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7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а) х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&gt;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б)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x&lt;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x&gt;3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г) х – любое, кроме нул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6415200" y="3387600"/>
                <a:ext cx="504720" cy="95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2) Совпадают ли графики функций?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а) у = х   и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б)                      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ff"/>
                </a:solidFill>
                <a:latin typeface="Arial"/>
              </a:rPr>
              <a:t>Ответ: а) нет;  б) да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5" name=""/>
              <p:cNvSpPr txBox="1"/>
              <p:nvPr/>
            </p:nvSpPr>
            <p:spPr>
              <a:xfrm>
                <a:off x="3419640" y="1484280"/>
                <a:ext cx="2232000" cy="85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4</m:t>
                        </m:r>
                      </m:e>
                      <m:sup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x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3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7" name=""/>
              <p:cNvSpPr txBox="1"/>
              <p:nvPr/>
            </p:nvSpPr>
            <p:spPr>
              <a:xfrm>
                <a:off x="1187280" y="2637000"/>
                <a:ext cx="2592720" cy="90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8" name="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9" name=""/>
              <p:cNvSpPr txBox="1"/>
              <p:nvPr/>
            </p:nvSpPr>
            <p:spPr>
              <a:xfrm>
                <a:off x="4932360" y="2492280"/>
                <a:ext cx="3816360" cy="120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3) Перепишите равенства в виде логарифмических равенств: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Arial"/>
              </a:rPr>
              <a:t>Ответ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539640" y="1700280"/>
                <a:ext cx="3511800" cy="453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а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8</m:t>
                        </m:r>
                      </m:e>
                      <m:e>
                        <m:r>
                          <m:t xml:space="preserve">б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>
                        <m:r>
                          <m:t xml:space="preserve">в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4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4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0" y="299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4572000" y="2060640"/>
                <a:ext cx="4230720" cy="390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а</m:t>
                        </m:r>
                        <m:r>
                          <m:t xml:space="preserve">)</m:t>
                        </m:r>
                        <m:r>
                          <m:t xml:space="preserve">3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8</m:t>
                        </m:r>
                      </m:e>
                      <m:e>
                        <m:r>
                          <m:t xml:space="preserve">б</m:t>
                        </m:r>
                        <m:r>
                          <m:t xml:space="preserve">)</m:t>
                        </m:r>
                        <m:r>
                          <m:t xml:space="preserve">0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1</m:t>
                        </m:r>
                      </m:e>
                      <m:e>
                        <m:r>
                          <m:t xml:space="preserve">в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ccecff"/>
                </a:solidFill>
                <a:latin typeface="Arial"/>
              </a:rPr>
              <a:t>4) Запишите числа в виде логарифмов с основанием 2: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а) 4 =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б) - 2 =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в)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0 =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г)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1 =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Arial"/>
              </a:rPr>
              <a:t>Ответ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0" y="2881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2" name=""/>
              <p:cNvSpPr txBox="1"/>
              <p:nvPr/>
            </p:nvSpPr>
            <p:spPr>
              <a:xfrm>
                <a:off x="4567320" y="2205000"/>
                <a:ext cx="3471840" cy="403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4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e>
                      <m:e>
                        <m:r>
                          <m:t xml:space="preserve">б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  <m:e>
                        <m:r>
                          <m:t xml:space="preserve">в</m:t>
                        </m:r>
                        <m:r>
                          <m:t xml:space="preserve">)</m:t>
                        </m:r>
                        <m:r>
                          <m:t xml:space="preserve">0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1</m:t>
                        </m:r>
                      </m:e>
                      <m:e>
                        <m:r>
                          <m:t xml:space="preserve">г</m:t>
                        </m:r>
                        <m:r>
                          <m:t xml:space="preserve">)</m:t>
                        </m:r>
                        <m:r>
                          <m:t xml:space="preserve">1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2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" dur="100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-38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39280" y="62064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5) Вычислите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564000" y="35733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Arial"/>
              </a:rPr>
              <a:t>Ответ: 2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7" name=""/>
              <p:cNvSpPr txBox="1"/>
              <p:nvPr/>
            </p:nvSpPr>
            <p:spPr>
              <a:xfrm>
                <a:off x="468360" y="1557360"/>
                <a:ext cx="6799320" cy="110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  <m:r>
                      <m:t xml:space="preserve">8</m:t>
                    </m:r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  <m:r>
                      <m:t xml:space="preserve">2</m:t>
                    </m:r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" dur="100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4360" y="1844640"/>
            <a:ext cx="813744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ecff"/>
                </a:solidFill>
                <a:latin typeface="Arial"/>
              </a:rPr>
              <a:t>«Уравнение – это золотой ключ, открывающий все математические сезамы».</a:t>
            </a:r>
            <a:br>
              <a:rPr sz="4400"/>
            </a:b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2268360" y="4797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Современный польский математик С. Ковал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468360" y="333360"/>
            <a:ext cx="1942920" cy="13366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3T05:57:07Z</dcterms:created>
  <dc:creator>user</dc:creator>
  <dc:description/>
  <dc:language>en-US</dc:language>
  <cp:lastModifiedBy>www.PHILka.RU</cp:lastModifiedBy>
  <dcterms:modified xsi:type="dcterms:W3CDTF">2013-10-02T09:16:26Z</dcterms:modified>
  <cp:revision>26</cp:revision>
  <dc:subject/>
  <dc:title>«Изобретение логарифмов, сократив работу астронома, продлило ему жизнь» </dc:title>
</cp:coreProperties>
</file>