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FA5-7C23-4670-A0B6-5AF34D8A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383-349B-4BE0-ACDC-29095A5C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A25-0175-4DA5-BF0F-152A6863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3A7-E99B-4BAD-B7EB-AE5A0725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2823-B504-4D51-9A93-DAC3C38C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B403-5787-4E61-8DCC-0C1214D5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C53F-489C-4EC0-BA7E-9E84ED63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B57A-67A0-456F-A853-69EBF37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9D2A-3BD6-45AA-B35E-131D531A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2AC9-A4F9-44EE-8BF3-0EA8E6F8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EC6C-0579-4DAE-AD6D-185CFD1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782-62F6-4F89-ABEF-663B36E3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3DAB-DAD6-42AA-A4C8-DD3EB890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4E76-F5A9-4924-86AF-BA0E1338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8E02-CED9-4F35-996E-7001FAD0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DA9B-EE76-44B4-9EDE-13343011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1BB6-A73E-49BC-8211-F63212F6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BBFA-8C6A-4EE7-B405-D7CB8657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6938-A216-4DA7-8001-804C0A61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1DED-F6B4-485F-986F-3626CA73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0BBB-9EBF-4D29-9B1F-394CDA96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5E75-FCC3-48DC-A9A9-74789E78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957-2B4B-49BB-8611-772021CF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99D4-0F1E-475C-A6E5-5A26749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888C-BB68-45A5-B713-4F602207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2AC3-6247-4C1D-8817-E926699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EC4E-60EE-4DAB-8160-97A4DBD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B9BE-0174-4496-890E-874AE78F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7CF4-B9F8-41A5-8846-C7A79CE7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AF75-E4BC-40F0-8F6C-C639D421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AFE-2340-49A0-B022-C962F2F5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488-B560-4CE9-A6DD-EC544409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17E-F6F5-4F67-8A17-39B86D8F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718-DB46-4753-8EB7-811FA548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2AE-98BD-43F3-8539-C26831C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60E-A32D-49D0-8A51-FCAFA166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Журнал «Физика – Первое сентября» № 10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0D6E-011C-49D0-933E-91DCEF344D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3200" y="649296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Журнал «Физика – Первое сентября» № 10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7854-DB46-456E-A34E-1E93DCA0C7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Журнал «Физика – Первое сентября» № 10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25F1-B835-4E9E-ADC9-5228D5587A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общающиеся сосуды. Применение сообщающихся сосу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47920" y="1447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1"/>
          <p:cNvSpPr/>
          <p:nvPr/>
        </p:nvSpPr>
        <p:spPr>
          <a:xfrm>
            <a:off x="2743200" y="6492960"/>
            <a:ext cx="3733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шлю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абота шлюза.avi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588520" cy="5410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ше на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057400"/>
          <a:ext cx="8458200" cy="28954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342900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лич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оше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овлетворитель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Улыбающееся лицо 6"/>
          <p:cNvSpPr/>
          <p:nvPr/>
        </p:nvSpPr>
        <p:spPr>
          <a:xfrm>
            <a:off x="3733920" y="327672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лнце 7"/>
          <p:cNvSpPr/>
          <p:nvPr/>
        </p:nvSpPr>
        <p:spPr>
          <a:xfrm>
            <a:off x="1066680" y="3200400"/>
            <a:ext cx="129564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блако 8"/>
          <p:cNvSpPr/>
          <p:nvPr/>
        </p:nvSpPr>
        <p:spPr>
          <a:xfrm>
            <a:off x="6553080" y="3276720"/>
            <a:ext cx="1371600" cy="990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ижний колонтитул 1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ой кофейник можно налить больше жидкост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kofei"/>
          <p:cNvPicPr/>
          <p:nvPr/>
        </p:nvPicPr>
        <p:blipFill>
          <a:blip r:embed="rId2"/>
          <a:stretch/>
        </p:blipFill>
        <p:spPr>
          <a:xfrm>
            <a:off x="228600" y="1676520"/>
            <a:ext cx="8688240" cy="464796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1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osuds"/>
          <p:cNvPicPr/>
          <p:nvPr/>
        </p:nvPicPr>
        <p:blipFill>
          <a:blip r:embed="rId2"/>
          <a:stretch/>
        </p:blipFill>
        <p:spPr>
          <a:xfrm>
            <a:off x="304920" y="228600"/>
            <a:ext cx="4147920" cy="3124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4713120" y="3378240"/>
            <a:ext cx="385956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Давление в сообщающихся сосудах.avi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3822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990720" y="12193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авление в сообщающихся сосуд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1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Приливы и отливы.avi" descr="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600200" y="1676520"/>
            <a:ext cx="6248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Приливная станц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1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артезианский колодец.avi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8076960" cy="5479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1828800" y="609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тезианский колод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1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rtu_vod"/>
          <p:cNvPicPr/>
          <p:nvPr/>
        </p:nvPicPr>
        <p:blipFill>
          <a:blip r:embed="rId2"/>
          <a:stretch/>
        </p:blipFill>
        <p:spPr>
          <a:xfrm>
            <a:off x="1905120" y="228600"/>
            <a:ext cx="6070320" cy="586728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1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изкульминут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ки вверх буквой 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устить одну руку – наберем водички,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устим другую – выль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уловищем вправо-вле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се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тать насос качает во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ки вверх –брызгается фонт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MS901328.wav" descr=""/>
          <p:cNvPicPr/>
          <p:nvPr/>
        </p:nvPicPr>
        <p:blipFill>
          <a:blip r:embed="rId2"/>
          <a:stretch/>
        </p:blipFill>
        <p:spPr>
          <a:xfrm>
            <a:off x="8229600" y="609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7" name="Нижний колонтитул 1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074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допровод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vodoprovod"/>
          <p:cNvPicPr/>
          <p:nvPr/>
        </p:nvPicPr>
        <p:blipFill>
          <a:blip r:embed="rId2"/>
          <a:stretch/>
        </p:blipFill>
        <p:spPr>
          <a:xfrm>
            <a:off x="990720" y="838080"/>
            <a:ext cx="7619760" cy="56581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2590920" y="64897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mila</cp:lastModifiedBy>
  <dcterms:modified xsi:type="dcterms:W3CDTF">2012-12-01T17:20:2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