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D3D-F3B7-45BB-8B00-6E3D8F27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AA6-54D9-4D25-A1C1-51B39186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E71-904A-4349-AF8F-0409ACA1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080-E35B-4041-98B4-E3AD9A47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C646-CE32-4793-B35A-F0566DBF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AD83-E8F8-49A0-B4B5-DEF9286F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1C74-B72B-4A6F-9317-335C6DEF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D31F-1BFC-4134-8BB5-F3D33DA1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1E8B-1478-40A6-8834-4FCC4BE1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C6C3-6DF5-4ED7-A1F0-DA026E2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9C1F-5BE9-4DBF-A2AE-9D06B793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83C-BF96-4CAC-A251-C3F20603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79EF-305A-49EB-AC71-98DF4AD9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ADB1-482F-4BCC-AD6D-9F4C016E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8F4C-C7DA-4A38-83CD-5772CE1D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873-DC5F-46F4-961F-0B52A4BD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9746-D677-4CE4-9C6F-6D2045FA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B0E-AC76-449D-B57E-5B087616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D73-26F2-48BC-AFE8-AA56161B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F0F-E9AD-4C31-9AD1-21EA069B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DC8-4075-4DF2-94DA-B26A8879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506-4851-4A71-A3E3-C60FE7A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C7B-CEBC-4BB5-8510-B258350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38E-1039-47F3-A3C3-305A482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18C4-374B-4C75-BC7C-60C39C07457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EC61-2655-4870-83B3-BE848B6E203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183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Эти вредные конфликты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56000" y="1484280"/>
            <a:ext cx="51847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нфликт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- это норма жизни. Если в вашей жизни нет конфликтов, проверьте, есть ли у вас пульс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Ч.Ликсон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3257640"/>
            <a:ext cx="5169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чём же вред  конфликтов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Во-первых,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от конфликтов страдает достоинство челове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Во-вторых,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на каждую минуту конфликта приходится 20 минут последующих переживаний, когда и работа не ладится и всё валится из рук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В-третьих,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страдает физическое здоровье - поражаются нервы, сердце, сосуды. Поэтому нужно обязательно научиться предотвращать такие конфлик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8936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Разрешить конфликт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это значит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найти решение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приемлемое для  каждой из   конфликтующих сторон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431" t="6809" r="0" b="0"/>
          <a:stretch/>
        </p:blipFill>
        <p:spPr>
          <a:xfrm>
            <a:off x="250920" y="2924280"/>
            <a:ext cx="74167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«Тот, кто не умеет  сварить суп, заваривает кашу»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3284280"/>
            <a:ext cx="738648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Приходилось ли вам заваривать кашу?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765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нфликты неизбежны, это один из механизмов развития жиз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основе всякого конфликта лежит противореч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смысливая содержание конфликта,  мы уже приступаем к его решению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кончите предложе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6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"Причиной конфликта было то, что……"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>
            <a:lum bright="-4000"/>
          </a:blip>
          <a:srcRect l="0" t="-3734" r="20304" b="0"/>
          <a:stretch/>
        </p:blipFill>
        <p:spPr>
          <a:xfrm>
            <a:off x="2627280" y="1844640"/>
            <a:ext cx="2843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Конфликт-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это столкновение, противоречие, которое рождает враждебность, страх, ненависть между людьми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227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Способы разрешения конфликтов.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739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Юмор – постараться увидеть смешное в создавшейся ситуац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Признание достоинств – увидеть хорошие качества в другом участнике конфликт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Компромисс – соглашение на основе взаимных уступок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Третейский суд – обращение к незаинтересованному лицу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Анализ – попытаться добраться до истоков проблемы и найти решени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Ультиматум – решительное требование с угрозой применения мер воздействия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4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4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4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4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4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4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4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4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4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4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4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4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4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4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4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4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4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4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23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Последствия конфликта тоже могут быть разным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Деструктивные – разрыв связей, разрушение нормальных взаимоотношени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Конструктивные – конфликт способствует выходу на новый уровень развития личности или межличностных отноше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0b854"/>
                </a:solidFill>
                <a:latin typeface="Times New Roman"/>
              </a:rPr>
              <a:t>Правила конструктивного решения проблемы.</a:t>
            </a:r>
            <a:r>
              <a:rPr b="1" i="1" lang="en-US" sz="4800" spc="-1" strike="noStrike">
                <a:solidFill>
                  <a:srgbClr val="f7d47d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6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536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Два возбужденных человека не могут прийти к согласию, надо сначала успокоитьс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6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Не следует бояться конфликта, надо его реша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36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Умейте сдерживать свои эмоции, даже если вас провоцируют, ибо «сильнее всех – владеющий собой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536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Уважайте личность другого, он имеет право на собственные взгля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6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олотое правило общения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989000"/>
            <a:ext cx="6767640" cy="4032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сегда поступай с людьми так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ты  хотел бы,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бы они поступали с тоб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5:30:24Z</dcterms:created>
  <dc:creator>Admin</dc:creator>
  <dc:description/>
  <dc:language>en-US</dc:language>
  <cp:lastModifiedBy>дом</cp:lastModifiedBy>
  <dcterms:modified xsi:type="dcterms:W3CDTF">2013-03-17T16:44:11Z</dcterms:modified>
  <cp:revision>13</cp:revision>
  <dc:subject/>
  <dc:title>Классный час . Тема «Эти вредные конфликты»</dc:title>
</cp:coreProperties>
</file>