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2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7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A54-9F20-4AD5-9D50-DC8048C6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A2B-775B-4E0B-BBB6-E7B658F3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F59-C9AF-49E4-8B84-0A20C75E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4D1-E145-47C5-A68C-F1281A99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CF39-3D13-41E5-8DF4-A8E117AF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3489-0B39-4DA2-AACC-6513C57C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F67D-82AC-4F34-9CD5-DDEA8EDD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7D0D-E5D2-41B8-B36C-FBFBB515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A0B2-AF36-4CCD-B70E-CC8CA661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DC61-1FB5-4440-B33D-0DF60B04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0C58-9CB4-432C-B81D-0FE0E326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BA0-B0B6-4930-93BA-CB8E8EC1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931D-AF9E-421C-BD80-077646BC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CD27-D6DA-40C7-BCAC-1BAAF87D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3580-7DD7-4D4B-8C7F-38B57F31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8A0A-DBE5-4F38-B650-DA8651E0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2C9C-A26F-49BC-8571-100C5717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387-D033-46F2-9A36-0824DE7D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285-B644-47F8-8BB9-800BF3CE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4B1-F91D-4BC4-89F9-5CD3BE46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8B6-8491-4F63-BC58-04797FFB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871-7F08-46E3-B2A2-B89F50AF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463-7CB5-4E77-AAEA-7AA842C4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682C-37D9-487F-8D52-9872DE59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FD46-7405-4631-8A2A-E46A5F291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AA17-991F-4FF0-9B8A-E84660B32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569080" cy="5040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476360" y="18900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УНД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Летом прилетают журавли, гуси, лебеди, кулики, много комаров,, мошек Под особую охрану взяты редкие животные: белый журавль, тундровый лебедь, краснозобая казарка, кречет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0" t="0" r="6368" b="14067"/>
          <a:stretch/>
        </p:blipFill>
        <p:spPr>
          <a:xfrm>
            <a:off x="250920" y="1916280"/>
            <a:ext cx="6035760" cy="4248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3168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Лебед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0" t="0" r="9742" b="11857"/>
          <a:stretch/>
        </p:blipFill>
        <p:spPr>
          <a:xfrm>
            <a:off x="395280" y="1125360"/>
            <a:ext cx="8353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ч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024360" cy="2087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647960" y="3938760"/>
            <a:ext cx="4244760" cy="26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елая куропатка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ая куропатка - растениеядная птица, меняет оперение в зависимости от времени года, зимой покрывается перьями до самых когтей, защищаясь от хол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3743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84360" y="2637000"/>
            <a:ext cx="3047760" cy="3047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зобая казар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508720" y="260280"/>
            <a:ext cx="3240000" cy="35290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643280" y="3930840"/>
            <a:ext cx="415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лая сова - хищная птиц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ерение всегда бело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рошо защищает от холо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ому что плотн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тается леммингами, куропат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85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Основное занятие населения тундры - оленеводство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5327640" cy="3816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427640" y="3589200"/>
            <a:ext cx="447192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Еще ведется добыча полезных ископаемых - нефти и газа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65480" cy="30481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716360" y="3500280"/>
            <a:ext cx="4065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кологические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ундре возникли экологические проблемы: 1) нарушается поверхность почвы от гусениц тракторов и вездеходов, гибнут растения;   2) местность загрязняется нефтью во время ее добычи; 3) незаконная охота - браконьерство; 4) оленьи пастбища вытаптываются, потому что оленей не всегда вовремя перегоняют на другие места. Природные богатства тундры взяты под охрану, созданы заповедн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просы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растительный и животный мир тундры богаче, чем в зоне арктических пустын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экологические проблемы в тундр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Бакалова Ольга Александровна – учитель начальных классов МОБУ основной школы №18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г. Кореновск, Краснодарский край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ундра находится на побережье северных морей, за северным полярным кругом, в холодном поясе, значит, там хо­лодно. Туда попадают косые солнечные лучи, а это значит, что зима должна быть суровой, там должно быть много снега. Это должна быть равнина, потому что часть зоны расположена на Восточно-Европейской равнине, а часть - на Западно-Сибирской. С моря дуют ветры, значит, большие растения рас­ти не буд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95280" y="549360"/>
            <a:ext cx="3527280" cy="3052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11280" y="3860640"/>
            <a:ext cx="3889440" cy="2592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065480" cy="3048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3744720" cy="2664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95280" y="3068640"/>
            <a:ext cx="4608360" cy="3529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4788000" y="3284640"/>
            <a:ext cx="3960720" cy="2952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ундре растут: мох ягель, морошка, голубика, брусника, карликовая береза, карликовая ива. Все растения низкорослые. Мох-ягель - пища северных олен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84360" y="1484280"/>
            <a:ext cx="2682720" cy="2089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859280" y="1413000"/>
            <a:ext cx="3259080" cy="2603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3276720" y="0"/>
            <a:ext cx="216036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тет на поверхности почвы, похож на маленькие деревца или кустики. Клюква - стелющийся кустарничек, имеет короткие корни, разветвленные небольшие листочки, красные ягоды. Ягоды и листья остаются на зи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3311640" cy="258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356000" y="260280"/>
            <a:ext cx="4392720" cy="3168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908000" y="1751040"/>
            <a:ext cx="3259440" cy="21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рликовая береза имеет невысокий изогнутый ствол, листья небольших размеров, небольшие корни. Растения стараются прижаться к земле, там теплее, а зимой снег закроет их полностью и защитит от мороз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im" descr="Одинокая зима"/>
          <p:cNvPicPr/>
          <p:nvPr/>
        </p:nvPicPr>
        <p:blipFill>
          <a:blip r:embed="rId1"/>
          <a:stretch/>
        </p:blipFill>
        <p:spPr>
          <a:xfrm>
            <a:off x="250920" y="333360"/>
            <a:ext cx="417672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оянно живут в тундре: белая куропатка, белая сова, лемминги, песцы, кречет, дикий северный олень, волки. Летом прилетают журавли, гуси, лебеди, кулики, много комаров,, моше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кий северный олень - низкорослое животное, травоядное - питается мхом-ягелем. Из всех животных тундры это самое крупное, имеет густой мех, зимний подшерсток и, конечно, подкожный слой жира. Копыта раздвоенные, чтобы не проваливаться в снегу и раскапывать мох из-под сне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4392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6121440" cy="4895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сец - хищник, имеет густой серый мех, его лапы короткие и широкие, питается леммингами и куропатками. Зимой у него появляется еще подшерсто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9:34:02Z</dcterms:created>
  <dc:creator>Начальные классы</dc:creator>
  <dc:description/>
  <dc:language>en-US</dc:language>
  <cp:lastModifiedBy>1</cp:lastModifiedBy>
  <dcterms:modified xsi:type="dcterms:W3CDTF">2012-04-29T13:21:00Z</dcterms:modified>
  <cp:revision>6</cp:revision>
  <dc:subject/>
  <dc:title>Слайд 1</dc:title>
</cp:coreProperties>
</file>