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gif" ContentType="image/gif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5C2-387E-457D-A23A-179D4CD1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909-9EDD-4ADC-9773-229B27A6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AD5-DDE2-4EF2-9E59-75BD697C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978-7DD0-4D28-9744-D667D6DE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7901-EFF2-4659-A752-37E92010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8BC7-80BA-400B-9A68-CB91E7C0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99D9-2014-425B-880E-FE394F8E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2AB7-A8CA-4270-BD61-64C791DA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4AA3-B1C0-4A4B-B9C4-6CD69474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B5F8-EE96-40FD-8D78-E76DC2CD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69C1-32FC-4B98-BB15-376DF839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1C0-3EE1-4759-BAFD-53C2A617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0C43-3516-4CEE-9013-C28C93C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5E98-7C2B-4DFD-81EA-B3AF47F0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A5A6-60FF-4EE8-825E-5E06A075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4AF5-7238-473F-A471-8696EBE8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D7BA-1A7C-4CA6-9889-C4E0C64F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C5B-1B0F-4D4E-AF7E-6E919B31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2BB-4EDE-4EF9-BBDC-DAC33AE9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C07-AF3D-4B0A-A684-8F402CA1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521-FDBA-4708-8E86-7CCD05D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F49-F23F-4589-9C41-D11AA4D4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3F8-928D-4683-BBE5-86CFBEE1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DA3-B358-42B0-93BC-07058B03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3254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0C44-BD50-4DCF-9D2C-B6A18CA756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3254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6067-88EA-41C0-9F5D-7F2A7C5488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 rot="20791200">
            <a:off x="647280" y="2368080"/>
            <a:ext cx="8325000" cy="22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66"/>
                    </a:gs>
                  </a:gsLst>
                  <a:lin ang="699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утешествие в глубь веков...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66"/>
                  </a:gs>
                </a:gsLst>
                <a:lin ang="699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333840" y="6189840"/>
            <a:ext cx="28098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Учитель математ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Сидоренко Наталья Петро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5056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Сообщение о ширине Керченского пролива содержится в сочинении византийского императора X в. Константина Багрянородного «Как надо управлять империей». Константин Багрянородный указывает, что ширина Керченского пролива равна 18 мил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7840"/>
            <a:ext cx="822960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Чему равна длина тмутараканской сажени?На какое  время приходится  расцвет Тмутараканского княжества? Определить географическое расположение Керченского проли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Рисунок 3" descr=""/>
          <p:cNvPicPr/>
          <p:nvPr/>
        </p:nvPicPr>
        <p:blipFill>
          <a:blip r:embed="rId1"/>
          <a:stretch/>
        </p:blipFill>
        <p:spPr>
          <a:xfrm>
            <a:off x="1663560" y="2936880"/>
            <a:ext cx="531504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304920"/>
            <a:ext cx="822960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 этап. Составление плана реш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Найти длину 18  миль равных 14000 сажен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Найти длину мили  в существующих настоящее время единицах измер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Вспомнить или найти какие моря соединяет Керченский  пролив и показать на кар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В каком веке в княжестве правил князь Глеб Святославич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Кто из сыновей Черниговского князя Святослава Ярославича правил в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Тмутараканском княжеств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этап. Осуществление плана решения.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304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По вычислениям академика Б.А.Рыбакова 1византийская миля1177,55 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1) 1177,5518=21195,9 м длина 18 ми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2) 21195,9:14000 1,5139 м длина тмутараканской саж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1,5139 м151,4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Ответ:151,4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Керченский пролив соединяет Черное и Азовское моря, разделяет страну Украину (г.Керчь) и страну Россию (Таманский полуостр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Расцвет Тмутараканского княжества приходится на 10 - 11 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этап. Изучение найденного решения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825120"/>
            <a:ext cx="822960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На этом этапе можно рассказать учащимся о различии единиц измерения в то время, о влиянии на это культуры тех стран, с которыми торговали древние славяне, о различных длинах одной сажени;  почему взято измерение пролива из сочинений византийского императора за 100лет до измерения его князем Глебом, а не измерения сделанные в 19 ве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Дополнительные вопросы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8431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1) Почему годы правления князя Глеба приведены через запяту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Ответ: В 1054 г. князем Тмутараканской земли стал третий сын Ярослава — князь черниговский Святослав Ярославич, затем сын Святослава — Глеб. В 1064 г. племянник Святослава Ярославича, князь-изгой Ростислав Владимирович, изгнал своего двоюродного брата Глеба из Тмутаракани. После его смерти в 1066 г. Глеб Святославич вернулся в Тмутаракань. В 1070-х гг. Глеб перешел на княжение в Новгород, а на тмутараканском столе утвердился его младший брат Роман Святославич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87280"/>
            <a:ext cx="822960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2) Какова наименьшая ширина Керченского проли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твет: Около 5 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3) Единицы измерения каких народов повлияли на длину тмутараканской саже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твет: Эти земли были колониями Греции до 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3218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4) Какой род занятий существовал у древних славян в Тмутараканском княжеств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Ответ: Основой экономики княжества во все годы его существования была торговля рабами и солью добываемой в озере Сиваш. Рыбные промыслы и торговля были основным видами занятий их жителей. Караваны судов с товарами  двигались из средиземноморских центров и уходили обратно груженые зерном, рыбой, лесом, кожей, «живым грузом» - раб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5056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5) Каков этнический состав жителей Тмутараканского  княже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твет: Пестрый национальный состав (кроме славян там жили хазары, ясы, касоги, армяне, греки) сделали Тмутаракань с одной стороны достаточно независимой от Киева, а с другой стороны – уязвимой для враг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5056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6) Когда закончило свое существование и почему Тмутараканское княжеств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Ответ: Тмутаракань стала прибежищем князей-изгоев, оставшихся на Руси без удела. Ситуацией не преминули воспользоваться византийцы, мечтавшие вернуть себе Тамань – основной источник нефти, сырья для производства греческого огня. В 1083 г. они посадили на Тмутараканский стол Олега Святославича, женатого на знатной гречанке Феофании Музалон.. В 1094 г. Олег ушел в Чернигов, после чего Тмутаракань в русских летописях больше не упоминалась. Очевидно, она перешла в подчинение Визан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j0336764"/>
          <p:cNvPicPr/>
          <p:nvPr/>
        </p:nvPicPr>
        <p:blipFill>
          <a:blip r:embed="rId1"/>
          <a:stretch/>
        </p:blipFill>
        <p:spPr>
          <a:xfrm>
            <a:off x="539640" y="4578480"/>
            <a:ext cx="1871640" cy="180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j0336744"/>
          <p:cNvPicPr/>
          <p:nvPr/>
        </p:nvPicPr>
        <p:blipFill>
          <a:blip r:embed="rId2"/>
          <a:stretch/>
        </p:blipFill>
        <p:spPr>
          <a:xfrm>
            <a:off x="2268360" y="2997360"/>
            <a:ext cx="1872000" cy="1330200"/>
          </a:xfrm>
          <a:prstGeom prst="rect">
            <a:avLst/>
          </a:prstGeom>
          <a:ln w="0">
            <a:noFill/>
          </a:ln>
        </p:spPr>
      </p:pic>
      <p:grpSp>
        <p:nvGrpSpPr>
          <p:cNvPr id="157" name="WordArt 24"/>
          <p:cNvGrpSpPr/>
          <p:nvPr/>
        </p:nvGrpSpPr>
        <p:grpSpPr>
          <a:xfrm>
            <a:off x="244440" y="689040"/>
            <a:ext cx="8906040" cy="2023920"/>
            <a:chOff x="244440" y="689040"/>
            <a:chExt cx="8906040" cy="2023920"/>
          </a:xfrm>
        </p:grpSpPr>
        <p:pic>
          <p:nvPicPr>
            <p:cNvPr id="158" name="WordArt 24" descr=""/>
            <p:cNvPicPr/>
            <p:nvPr/>
          </p:nvPicPr>
          <p:blipFill>
            <a:blip r:embed="rId3"/>
            <a:stretch/>
          </p:blipFill>
          <p:spPr>
            <a:xfrm>
              <a:off x="244440" y="689040"/>
              <a:ext cx="890604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50920" y="692280"/>
              <a:ext cx="889308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omic Sans MS"/>
                </a:rPr>
                <a:t>Старинные русские 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omic Sans MS"/>
                </a:rPr>
                <a:t>Меры длины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287280"/>
            <a:ext cx="822960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7) Можно ли наверняка судить о длине тмутараканской сажен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Аргументы "против": нет, так как даже за 100 лет мог измениться рельеф дна и берегов, были допущены ошибки при его измерении, у разных народов существовали различные меры длины м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3218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Аргументы "за": Хотя и существовало несколько разновидностей сажени (простая, морская, мерная и др.), перевод указанного расстояния в метрическую систему дает некоторые колебания, не выходящие, однако, за пределы реального диапазона. Молодой князь Глеб  занимался не только делами княжества, но и увлекался науками, поэтому ему были известны наиболее распространенные в то время единицы измерения саж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Название задачи: Самый рослый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Тип задачи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обучающая предметная зад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Учебные дисциплины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матема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Класс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5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Текст задачи: 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056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Говоря о каком-то персонаже, писатели нередко указывали его ро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Собакевич – Чичикову: «А Пробка Степан, плотник? Я голову прозакладую, если вы где сыщете такого мужика. Ведь что за силища была! Служи он в гвардии, ему бы бог знает что дали, трех аршин с вершком ростом!» (Н.В. Гоголь, «Мертвые души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«Из числа всей ее челяди самым замечательным лицом был дворник Герасим, мужчина 12 вершков роста, сложенный богатырем и глухонемой от рожденья» (И.С. Тургенев, «Муму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«Никитушка Ломов, бурлак, ходивший по Волге лет 20-15 тому назад, был гигант, геркулесовской силы; 15 вершков ростом…» (Н.Г. Чернышевский, «Что делать?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«...это дитя (Остап) было двадцати с лишним лет и ровно в сажень ростом... » (Н.В.Гоголь, «Тарас Бульба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32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Кто из упомянутых литературных персонажей самый низкий, а кто самый высокий? Какова разница в росте у самого высокого и самого низкого литературного персонажа в сантиметр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Осуществление плана ре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 старину принято было обозначать рост количеством вершков сверх двух аршин. Таким образом, рост Герасима был 2 аршина 12 верш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1 сажень = 3 аршин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ополнительные 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9824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1) Где в настоящее время можно услышать упоминание о русских  старинных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мер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(В пословицах и поговорках)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«От  горшка два вершка, а уже указчик»</a:t>
            </a:r>
            <a:r>
              <a:rPr b="0" lang="ru-RU" sz="20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                                 – </a:t>
            </a: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молодой человек, не имеющ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                                  </a:t>
            </a: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жизненного опыта, но самонадеян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поучающий все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«У нее суббота через пятницу на два вершка вылезл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о неаккуратной женщине, у которой нижняя рубаш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длинней юб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«Борода с вершок, а слов с мешо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«Сам с вершок, а ума горшо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9" descr="baby06"/>
          <p:cNvPicPr/>
          <p:nvPr/>
        </p:nvPicPr>
        <p:blipFill>
          <a:blip r:embed="rId1"/>
          <a:stretch/>
        </p:blipFill>
        <p:spPr>
          <a:xfrm>
            <a:off x="684360" y="1844640"/>
            <a:ext cx="2303280" cy="1393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6"/>
          <p:cNvGrpSpPr/>
          <p:nvPr/>
        </p:nvGrpSpPr>
        <p:grpSpPr>
          <a:xfrm>
            <a:off x="2987640" y="404640"/>
            <a:ext cx="3600360" cy="811440"/>
            <a:chOff x="2987640" y="404640"/>
            <a:chExt cx="3600360" cy="811440"/>
          </a:xfrm>
        </p:grpSpPr>
        <p:sp>
          <p:nvSpPr>
            <p:cNvPr id="213" name="WordArt 7"/>
            <p:cNvSpPr txBox="1"/>
            <p:nvPr/>
          </p:nvSpPr>
          <p:spPr>
            <a:xfrm>
              <a:off x="2987640" y="404640"/>
              <a:ext cx="3600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663300"/>
                    </a:solidFill>
                    <a:miter/>
                  </a:ln>
                  <a:solidFill>
                    <a:srgbClr val="cc9900"/>
                  </a:solidFill>
                  <a:latin typeface="Arial"/>
                </a:rPr>
                <a:t>Пословицы</a:t>
              </a:r>
              <a:endParaRPr b="1" lang="en-US" sz="20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cc9900"/>
                </a:solidFill>
                <a:latin typeface="Arial"/>
                <a:ea typeface="Arial"/>
              </a:endParaRPr>
            </a:p>
          </p:txBody>
        </p:sp>
        <p:sp>
          <p:nvSpPr>
            <p:cNvPr id="214" name="WordArt 8"/>
            <p:cNvSpPr txBox="1"/>
            <p:nvPr/>
          </p:nvSpPr>
          <p:spPr>
            <a:xfrm>
              <a:off x="3635280" y="692280"/>
              <a:ext cx="22384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dbbd71"/>
                    </a:solidFill>
                    <a:miter/>
                  </a:ln>
                  <a:solidFill>
                    <a:srgbClr val="663300">
                      <a:alpha val="85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Поговорки</a:t>
              </a:r>
              <a:endParaRPr b="1" lang="en-US" sz="2000" spc="1" strike="noStrike">
                <a:ln w="12600">
                  <a:solidFill>
                    <a:srgbClr val="dbbd71"/>
                  </a:solidFill>
                  <a:miter/>
                </a:ln>
                <a:solidFill>
                  <a:srgbClr val="663300">
                    <a:alpha val="8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«Каждый купец на свой аршин меряет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                                 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–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каждый судит о любом деле односторонн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                                  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исходя из собственных интере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«Сидит, ходит, словно аршин проглотил»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–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 неестественно прямом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челове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«На аршин борода, да ума на пядь»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–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 взрослом, но глупом человек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«На три аршина в землю видит»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                  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–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 внимательном, прозорливом человек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                                     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т которого ничего не возможно ута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10" descr="сканирование0006"/>
          <p:cNvPicPr/>
          <p:nvPr/>
        </p:nvPicPr>
        <p:blipFill>
          <a:blip r:embed="rId1"/>
          <a:stretch/>
        </p:blipFill>
        <p:spPr>
          <a:xfrm>
            <a:off x="539640" y="1413000"/>
            <a:ext cx="2268720" cy="1726920"/>
          </a:xfrm>
          <a:prstGeom prst="rect">
            <a:avLst/>
          </a:prstGeom>
          <a:ln w="0">
            <a:noFill/>
          </a:ln>
        </p:spPr>
      </p:pic>
      <p:sp>
        <p:nvSpPr>
          <p:cNvPr id="217" name="WordArt 12"/>
          <p:cNvSpPr txBox="1"/>
          <p:nvPr/>
        </p:nvSpPr>
        <p:spPr>
          <a:xfrm>
            <a:off x="2987640" y="404640"/>
            <a:ext cx="360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056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2) Какие могли бы возникнуть трудности при употреблении этих единиц сегодн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(Не будут понятны для народов других стран, трудно применять в различных науках, единицы одной и той же величины оказались связаны друг с другом довольно сложными соотношениями,  возникнут трудности с пересчетом значений величин при переходе от одной единицы к другой, еще более усложняются расчеты, если приходится переводить кубические или квадратные единицы (такие расчеты отнимают много времени, и сил, и часто приводят к ошибкам), нет единого этал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 rot="20840400">
            <a:off x="-1549440" y="1484280"/>
            <a:ext cx="11545920" cy="20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5606"/>
              </a:avLst>
            </a:prstTxWarp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cc9900"/>
                    </a:gs>
                  </a:gsLst>
                  <a:lin ang="6162000"/>
                </a:gradFill>
                <a:latin typeface="Comic Sans MS"/>
              </a:rPr>
              <a:t>"Наука начинается там,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cc9900"/>
                  </a:gs>
                </a:gsLst>
                <a:lin ang="6162000"/>
              </a:gradFill>
              <a:latin typeface="Comic Sans MS"/>
              <a:ea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cc9900"/>
                    </a:gs>
                  </a:gsLst>
                  <a:lin ang="6162000"/>
                </a:gradFill>
                <a:latin typeface="Comic Sans MS"/>
              </a:rPr>
              <a:t>                         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cc9900"/>
                    </a:gs>
                  </a:gsLst>
                  <a:lin ang="6162000"/>
                </a:gradFill>
                <a:latin typeface="Comic Sans MS"/>
              </a:rPr>
              <a:t>где начинают измерять"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cc9900"/>
                  </a:gs>
                </a:gsLst>
                <a:lin ang="6162000"/>
              </a:gradFill>
              <a:latin typeface="Comic Sans MS"/>
              <a:ea typeface="Comic Sans MS"/>
            </a:endParaRPr>
          </a:p>
        </p:txBody>
      </p:sp>
      <p:sp>
        <p:nvSpPr>
          <p:cNvPr id="161" name="WordArt 6"/>
          <p:cNvSpPr txBox="1"/>
          <p:nvPr/>
        </p:nvSpPr>
        <p:spPr>
          <a:xfrm rot="20257800">
            <a:off x="4932360" y="4508280"/>
            <a:ext cx="336240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cc9900"/>
                    </a:gs>
                  </a:gsLst>
                  <a:lin ang="6744000"/>
                </a:gradFill>
                <a:latin typeface="Comic Sans MS"/>
              </a:rPr>
              <a:t>Д.И.Менделее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cc9900"/>
                  </a:gs>
                </a:gsLst>
                <a:lin ang="6744000"/>
              </a:gradFill>
              <a:latin typeface="Comic Sans MS"/>
              <a:ea typeface="Comic Sans MS"/>
            </a:endParaRPr>
          </a:p>
        </p:txBody>
      </p:sp>
      <p:pic>
        <p:nvPicPr>
          <p:cNvPr id="162" name="Picture 8" descr="vf копия"/>
          <p:cNvPicPr/>
          <p:nvPr/>
        </p:nvPicPr>
        <p:blipFill>
          <a:blip r:embed="rId1"/>
          <a:stretch/>
        </p:blipFill>
        <p:spPr>
          <a:xfrm>
            <a:off x="1116000" y="3813120"/>
            <a:ext cx="251928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0"/>
            <a:ext cx="8507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3) Всегда ли приводимые древнерусские единицы измерения находились в том отношении к современным, как в приводимой таблиц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(Нет, например по данным историков и архитекторов, саженей было более 10 и они имели свои названия, были несоизмеримы и не кратны одна друг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87280"/>
            <a:ext cx="822960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4) Предпринимались ли попытки по стандартизации  старинных русских ме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(Россия официально перешла на метрическую систему в 1875 году. Люди привыкали к ней еще 50 лет. До этого попытки внести здравый смысл в измерения предпринимались в 1649 году и 1835 году. Значения после 1835 года, и казенные сажени довольно точные (опирались на эталоны), а до - примерные или расчетны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5) Заполнить таблицу, выражая рост в метрах и вершк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Название задачи: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"Коломенская верста"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Тип задачи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межпредметная задача (русский язык, литература, география, истор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Класс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5-6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Рисунок 3" descr="коломенская верста"/>
          <p:cNvPicPr/>
          <p:nvPr/>
        </p:nvPicPr>
        <p:blipFill>
          <a:blip r:embed="rId1"/>
          <a:stretch/>
        </p:blipFill>
        <p:spPr>
          <a:xfrm>
            <a:off x="5629320" y="3389400"/>
            <a:ext cx="179388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Текст задачи: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1304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"Коломенская верста" - так называют длинных и худощавых людей. Откуда возникло это словосочетани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Верстой в России называли не только данный отрезок длины, но и специальные столбы, которые устанавливались на больших дорогах и обозначали версты. Дороги, на которых такие «версты» ставились, назывались столбовыми. «Версты» или верстовые столбы обыкновенно красили в наклонную полоску, чтобы лучше было видно, на столбе писали количество верст от или до какого-то пункт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Ни огня, ни черной хаты...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Глушь и снег... Навстречу мне                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Только версты  полосаты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падаются одне.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А.С. Пушкин «Зимняя дорога».</a:t>
            </a:r>
            <a:br>
              <a:rPr sz="3200"/>
            </a:br>
            <a:br>
              <a:rPr sz="32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Чем же из всех верст выделилась коломенская верста? И почему верста коломенская?  </a:t>
            </a:r>
            <a:br>
              <a:rPr sz="28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2" name="Содержимое 3" descr="ZKCAC52SO6CAWSMK9YCA3JDU79CAV5K4X8CACSZTNZCALXXWWACAKLLR88CA5BKB49CAUOC2R0CAYTC160CA0CTWAVCA9MVKRACA16CBUQCA3X3EZKCAN6ZGH1CA0TPQ9YCA3AMYATCAD1GQBRCA3VBRQ5"/>
          <p:cNvPicPr/>
          <p:nvPr/>
        </p:nvPicPr>
        <p:blipFill>
          <a:blip r:embed="rId1"/>
          <a:stretch/>
        </p:blipFill>
        <p:spPr>
          <a:xfrm>
            <a:off x="388800" y="4714920"/>
            <a:ext cx="1833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Осуществление плана решения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Дело в том, что устанавливать верстовые столбы в России начали при царе Алексее Михайловиче  (1645-1676 гг.) и по дороге в его загородную летнюю  царскую  резиденцию в селе Коломенское эти самые верстовые столбы были особенно высоки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Рисунок 6" descr=""/>
          <p:cNvPicPr/>
          <p:nvPr/>
        </p:nvPicPr>
        <p:blipFill>
          <a:blip r:embed="rId1"/>
          <a:stretch/>
        </p:blipFill>
        <p:spPr>
          <a:xfrm>
            <a:off x="1649520" y="4275000"/>
            <a:ext cx="2455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447840"/>
            <a:ext cx="8229600" cy="56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Должно быть, столбы эти произвели огромное впечатление, если на протяжении трех веков мы пользуемся связанным с ними сочетанием с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тсюда и пошло выражение верста коломенская, которая в переносном смысле характеризует очень высоких и худощавых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423720"/>
            <a:ext cx="8391600" cy="608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Применение самых разнообразных мер дли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затрудняло развитие науки, торговли межд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странами. Поэтому назрела необходим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      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введения единой системы ме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a500"/>
                </a:solidFill>
                <a:latin typeface="Comic Sans MS"/>
              </a:rPr>
              <a:t>                     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Метрическая система мер бы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                      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разработана во Франции в 18 в.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в России допущена в 19 в. законом разработанным Д.И.Менделеев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Основная единица длины- 1  ме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( от греческого слова " метрон"- мер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Метр равен 1/40000000 части земного меридиа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Эталон метра хранится в Международном бю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мер и весов во Фран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4" descr="in00483_"/>
          <p:cNvPicPr/>
          <p:nvPr/>
        </p:nvPicPr>
        <p:blipFill>
          <a:blip r:embed="rId1"/>
          <a:stretch/>
        </p:blipFill>
        <p:spPr>
          <a:xfrm>
            <a:off x="6039000" y="4165560"/>
            <a:ext cx="2201760" cy="2189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number_ball_b"/>
          <p:cNvPicPr/>
          <p:nvPr/>
        </p:nvPicPr>
        <p:blipFill>
          <a:blip r:embed="rId2"/>
          <a:stretch/>
        </p:blipFill>
        <p:spPr>
          <a:xfrm>
            <a:off x="376200" y="2162160"/>
            <a:ext cx="259092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Людям издавна приходилось измерять расстоя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определять площадь земельных участ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использовать точные размеры при строительстве, и т. 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Как измеряли раньше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Какими пользовались единицами? С  глубокой древности наши предки измеряли расстояния «собой». Это и удобно, и руки с ногами всегда при тебе, их нельзя забыть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Система древнерусских мер дли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включала в себя следующие основ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мер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версту, сажень, аршин, локо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ff9933"/>
                </a:solidFill>
                <a:latin typeface="Comic Sans MS"/>
              </a:rPr>
              <a:t>пядь и верш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0_69f37_5852cd78_L"/>
          <p:cNvPicPr/>
          <p:nvPr/>
        </p:nvPicPr>
        <p:blipFill>
          <a:blip r:embed="rId1"/>
          <a:stretch/>
        </p:blipFill>
        <p:spPr>
          <a:xfrm>
            <a:off x="5589720" y="3121200"/>
            <a:ext cx="3328920" cy="74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5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75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5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9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25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8100"/>
                            </p:stCondLst>
                            <p:childTnLst>
                              <p:par>
                                <p:cTn id="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5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75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255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611280" y="476280"/>
            <a:ext cx="813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bbd71"/>
                </a:solidFill>
                <a:latin typeface="Comic Sans MS"/>
              </a:rPr>
              <a:t>Многие единицы  длинны, которыми пользовались наши</a:t>
            </a:r>
            <a:r>
              <a:rPr b="1" i="1" lang="en-US" sz="2000" spc="-1" strike="noStrike">
                <a:solidFill>
                  <a:srgbClr val="dbbd71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bbd71"/>
                </a:solidFill>
                <a:latin typeface="Comic Sans MS"/>
              </a:rPr>
              <a:t>предки, представляют собой измерения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Comic Sans MS"/>
              </a:rPr>
              <a:t>различных частей человеческого тела.</a:t>
            </a:r>
            <a:r>
              <a:rPr b="1" i="1" lang="ru-RU" sz="2000" spc="-1" strike="noStrike">
                <a:solidFill>
                  <a:srgbClr val="dbbd71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bbd71"/>
                </a:solidFill>
                <a:latin typeface="Comic Sans MS"/>
              </a:rPr>
              <a:t>Человек как бы всегда носит их с собой и может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bbd71"/>
                </a:solidFill>
                <a:latin typeface="Comic Sans MS"/>
              </a:rPr>
              <a:t>пользоваться ими в любых условиях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bbd71"/>
                </a:solidFill>
                <a:latin typeface="Comic Sans MS"/>
              </a:rPr>
              <a:t>Рассмотрим наиболее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Comic Sans MS"/>
              </a:rPr>
              <a:t>распространенные старые меры,</a:t>
            </a:r>
            <a:r>
              <a:rPr b="1" i="1" lang="ru-RU" sz="2000" spc="-1" strike="noStrike">
                <a:solidFill>
                  <a:srgbClr val="dbbd71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bbd71"/>
                </a:solidFill>
                <a:latin typeface="Comic Sans MS"/>
              </a:rPr>
              <a:t>упоминания о которых часто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bbd71"/>
                </a:solidFill>
                <a:latin typeface="Comic Sans MS"/>
              </a:rPr>
              <a:t>встречаются в нашей речи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1" descr="Копия dlina2"/>
          <p:cNvPicPr/>
          <p:nvPr/>
        </p:nvPicPr>
        <p:blipFill>
          <a:blip r:embed="rId1"/>
          <a:stretch/>
        </p:blipFill>
        <p:spPr>
          <a:xfrm>
            <a:off x="1042920" y="3716280"/>
            <a:ext cx="175572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6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2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4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28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39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16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12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8480" y="129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87280"/>
            <a:ext cx="822960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Название задачи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Тмутараканский кам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Тип задачи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обучающая межпредметная зад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Учебные дисциплины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математика, история, географ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Класс: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5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Текст задачи: 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73512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 1792 году на Таманском полуострове была найдена мраморная плита, которую назвали "ТМУТАРАКА́НСКИЙ КА́МЕНЬ", с высеченной на ней русской надписью об измерении ширины Керченского пролива. Это была самая ранняя попытка измерения расстояний, описания и картографирования пути из города Тмутаракань (на Тамани) до города Керчи (в Таврик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67840"/>
            <a:ext cx="822960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Это важное историко-географическое событие произошло в 1068 году, когда старший сын Черниговского князя Святослава Ярославича князь Глеб Святославич (1046—1079), правивший в Тмутаракани до 1064 г., в 1065 г. и после 1066 г., осуществил первое отечественное топографическое исследование на стыке Керченского и Таманского полуостровов, на границе Европы и Аз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87280"/>
            <a:ext cx="822960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Древнерусская надпись гласи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«В лето 6576 индикта 6 Глеб князь мерил море по лёду от Тмутороканя до Корчева 10000 и 4000 сажен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Для определения размера тмутараканской сажени можно использовать не данные XIX в. о ширине Керченского пролива, а измерения, сделанные за 100 лет до князя Гле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9:16:42Z</dcterms:created>
  <dc:creator>Home</dc:creator>
  <dc:description/>
  <dc:language>en-US</dc:language>
  <cp:lastModifiedBy>а</cp:lastModifiedBy>
  <dcterms:modified xsi:type="dcterms:W3CDTF">2012-12-18T11:53:38Z</dcterms:modified>
  <cp:revision>156</cp:revision>
  <dc:subject/>
  <dc:title>Слайд 1</dc:title>
</cp:coreProperties>
</file>