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E006-A407-4CCA-86CC-4CE20492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E7EC-03CA-4B02-8D57-CDCEF6CA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8D2F-29DF-42B4-AA0D-F9C7B9DC4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4D9A-01EF-4656-AAF1-13876DCE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6C5C-3E8A-452D-8893-BA192863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6B9C-1D57-4839-8DD4-17B835B2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4C62-8A1D-4268-9BF7-C79D85F8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8396-C204-4F23-A8F7-D0F926E5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DCFD-BE4C-4A65-84CF-B3D0BB2D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7897-6795-4EB6-A979-9DE6E997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4922-A3AD-4654-93EC-11A1E46F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78A4-08E9-4F80-9354-99A58E83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CDB9-BB74-4484-876B-9527DB0EC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jpe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981080" y="1600200"/>
            <a:ext cx="37339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58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0000">
                        <a:alpha val="90196"/>
                      </a:srgbClr>
                    </a:gs>
                    <a:gs pos="100000">
                      <a:srgbClr val="000099"/>
                    </a:gs>
                  </a:gsLst>
                  <a:lin ang="5400000"/>
                </a:gradFill>
                <a:latin typeface="Arial"/>
              </a:rPr>
              <a:t>Прощание 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0000">
                      <a:alpha val="90196"/>
                    </a:srgbClr>
                  </a:gs>
                  <a:gs pos="100000">
                    <a:srgbClr val="000099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0000">
                        <a:alpha val="90196"/>
                      </a:srgbClr>
                    </a:gs>
                    <a:gs pos="100000">
                      <a:srgbClr val="000099"/>
                    </a:gs>
                  </a:gsLst>
                  <a:lin ang="5400000"/>
                </a:gradFill>
                <a:latin typeface="Arial"/>
              </a:rPr>
              <a:t>с Букварём 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0000">
                      <a:alpha val="90196"/>
                    </a:srgbClr>
                  </a:gs>
                  <a:gs pos="100000">
                    <a:srgbClr val="0000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04920" y="6400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3316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514600" y="228600"/>
            <a:ext cx="4513320" cy="6324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572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2024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522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34125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14600" y="228600"/>
            <a:ext cx="4513320" cy="6324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1430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7512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19320" y="1066680"/>
            <a:ext cx="7010280" cy="4846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98053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2057400" y="228600"/>
            <a:ext cx="5238720" cy="241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ЛФАВИТОВО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04920" y="4419720"/>
            <a:ext cx="1419120" cy="1428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867280" y="3429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752480" y="2819520"/>
            <a:ext cx="1619280" cy="1428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5867280" y="1752480"/>
            <a:ext cx="1962360" cy="1428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3733920" y="4572000"/>
            <a:ext cx="1981080" cy="1314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4114800" y="259092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2057400" y="4724280"/>
            <a:ext cx="1492200" cy="1600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6095880" y="510552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10666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36367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2057400" y="228600"/>
            <a:ext cx="5238720" cy="241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КАЗОЧНАЯ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331040" y="0"/>
            <a:ext cx="1812960" cy="2895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52280" y="3886200"/>
            <a:ext cx="2167200" cy="2743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2819520" y="3733920"/>
            <a:ext cx="2049480" cy="2361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6942240" y="3429000"/>
            <a:ext cx="2201760" cy="3200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4724280" y="1828800"/>
            <a:ext cx="2563920" cy="3276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152280" y="228600"/>
            <a:ext cx="2175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1447920" y="1066680"/>
            <a:ext cx="609588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ТИХОТВОРОВО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1981080" y="1523880"/>
            <a:ext cx="5238720" cy="241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ГРОВАЯ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58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93792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14:56:02Z</dcterms:created>
  <dc:creator>Администратор</dc:creator>
  <dc:description/>
  <dc:language>en-US</dc:language>
  <cp:lastModifiedBy>Пользователь Windows</cp:lastModifiedBy>
  <dcterms:modified xsi:type="dcterms:W3CDTF">2013-10-02T18:21:04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