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90F-6737-42EB-A999-54AFD8CB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C95-5078-4219-8A99-BE84BF5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0C4-F4E3-44C8-A0DE-BEB768AC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33B-B56E-490D-9EDF-73F9F899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8BC6-03FD-4727-9460-3AA519B8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4739-6DE3-40BA-B292-3B29DFE4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B67E-7F80-4E44-92FA-BD58026D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8519-F167-4275-8A2E-D267A000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62CD-EB76-4B85-9A63-74FDAEF4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C1CF-9310-45B6-A960-1602307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758B-2067-4069-AA3C-2917011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81F-E43C-43B2-9815-E4A4B86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EB1-8F3B-4ABD-AF28-AC7BB373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67B9-7003-4A63-9883-F104385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97EA-CDA5-4C61-8336-DE2CB73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F35D-6B40-40DC-8733-09ACB009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4C9-FAAC-4D5B-81EB-DF983311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754-2DA3-48AD-8B43-359C75F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DAD-6D73-4C37-939E-4397CCC9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683-6CE0-43AB-B068-10A079D3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029-BC0B-4368-9E8E-B43B7D29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5B9-311F-480E-8F29-87A5140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47F-8450-492D-BDE2-DF22D4F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4D6-AB0C-4702-8FF8-8F570363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E9AA-58C8-47F0-8DF2-E91BBCD7A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9ED0-7682-4727-8772-14DE52266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206880" y="2048040"/>
            <a:ext cx="63752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39280" y="2349000"/>
            <a:ext cx="8147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бенку показывают рисунок с изображением десяти четырехугольников, среди которых пять совершенно одинаковых квадратов и пять четырехугольников, немного отличающихся от квадратов: вертикальные стороны чуть длиннее горизонтальных, или, наоборот, какой-либо из углов четырехугольника меньше или больше прямого угла. Ребенку предлагается найти и показать все одинаковые фигуры (квадраты, у которых все стороны и углы равны) . Если ребенок сможет отыскать все квадраты , это свидетельствует наличии у него способности к дифференцированному восприят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242560" cy="1616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547280" y="170028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нее подготовьте 10 необычных карточек: стул без одной ножки, часы без одной стрелки зайца с одним ухом и т. д. Покажите ребенку эти картинки и попросите его назвать недостающую деталь. Фиксируйте время восприятия всех картинок и правильность определения недостающих признаков. Хороший результат для ребенка шести-семи лет, если он найдет и назовет все недостающие детали приблизительно за полторы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534160" cy="19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9280" y="2492280"/>
            <a:ext cx="821844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ку дают рисунки с черно-белым изображением  фруктов и цветные карандаши многих оттенков. Ему нужно закрасить каждый фрукт в соответствующий цвет. Вместо фруктов могут быть предложены изображения животных, овощей, цветов и др.Обычно дети легко справляются с такими заданиями, но если у ребенка не получается сразу, продолжайте выполнять аналогичны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63680" y="304920"/>
            <a:ext cx="8302320" cy="168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000" y="1773360"/>
            <a:ext cx="8147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усваивает представления о цвете, форме, величине предметов не в течение одного дня, а обучение идет не по команде родителей и не методом чтения лекций. Существуют красочные пособия, обучающие игры, занимательные истории, песенки, стихи, загадки. Большую помощь- вам и ребенку- могут оказать самые разнообразные кубики, мозаики, конструкторы, а также обычные предметы домашнего оби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тическое восприятие величины связано не с выделением и  объединением частей целого, а с выделением измерений предмета – длины, высоты и ширины .Поскольку нельзя отделить длину и ширину от самого предмета, нужно учить ребенка сопоставлять предметы по данным измерениям. При этом важно показать, что сами измерения предмета носят относительный характер: зависят от его положени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hp</cp:lastModifiedBy>
  <dcterms:modified xsi:type="dcterms:W3CDTF">2013-07-17T18:35:52Z</dcterms:modified>
  <cp:revision>7</cp:revision>
  <dc:subject/>
  <dc:title>Слайд 1</dc:title>
</cp:coreProperties>
</file>