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2FA-25BC-4A02-82CF-21F2F332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3B9-E5D3-444C-A066-E3C2513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18B-7BFD-4D2D-858E-F28EADCD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EC4-2BEC-42C2-9814-FD1FEA6D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C324-93C8-4772-A5DD-890BC17C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62B-5B05-42DF-AECD-703A36C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7D17-82F2-45AA-9931-EDC803BA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8164-F891-4E39-8FBF-55F70BB3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2B24-3A95-4514-90B8-D344030C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152E-FF12-4E9F-ADDE-950C8BE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3F9A-791F-4636-9783-443993F4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741-DC01-41BD-B1D9-E029D057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EEE-992D-427A-9319-379BAC8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C3E3-3ABD-476A-AD8D-52C0137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FB1-22E0-4E61-97F4-D336072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91D-69E5-45FC-8FBA-2D5A2C3D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C825-0FEA-4274-8A37-22046C5D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AE0-4AD6-453A-B355-B817EB67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3F9-0BE1-415E-8BD3-4E9CAED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252-6430-403A-843B-606E8250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5C5-7C0D-4CED-A9E2-F908F82C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E3C-4257-4EE5-8F32-2225891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218-C703-4845-8FA8-9351449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193-1A5E-426F-946C-E551D46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2FD-B54F-4DA5-88A9-E8013B08A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36E-4D33-4887-9B70-59FA5BEA4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Растительный и животный мир тропических лесов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619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: Паньш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ла Герм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Животный мир этих лесов богат и многообразен. Образ жизни обитателей тропиков зависит от особенностей самого леса.  В густом переплетении ветвей животных почти не видно, поэтому они имеют яркую окраску. Например, нигде нет таких крупных и красивых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бабочек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, как в тропическом лесу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012000" y="4073400"/>
            <a:ext cx="27432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583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8) Неразлучники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– небольшие попугайчики с длиной тела 16 – 17см. Клюв толстый, очень загнутый и сильный. Своим клювом могут нанести тяжёлые ранения даже человеку. Попугайчики очень проворные, хорошо лазают по деревьям и отлично бегают по земле. Селятся в тропических лесах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Африки. Издавна их прозвали неразлучниками, так как считали, что после гибели одной птицы, другая вскоре погибает от тоск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745080" cy="3598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0384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300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9) Ара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итает в тропических лесах Южной Америки. Попугай очень привязан к месту своего обитания, имеет постоянные места отдыха и ночлега. В пищу употребляют фрукты, орехи, семена, ягоды, некоторых насекомых и личинок. Гнездятся в дуплах высоких деревьев, для строительства которых используют могучий клюв. Легко приручаются и быстро привыкают к человек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3835440" cy="2708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6939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10) Тонкий лори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итает в вечнозелёных лесах Индии и Шри-Ланка. Длина тела около 20см, весит 300г. Мех густой, пушистый, серый или рыжевато – коричневый. Питаются насекомыми и мелкими ящерицами. Ведут ночной образ жизн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28932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427560" cy="4275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1979640" y="4184640"/>
            <a:ext cx="3174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8668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11) Шимпанзе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род человекообразных обезьян, распространённый в экваториальной Африке. Длин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тела около 90см, масса – 45-50кг. Руки значительно длиннее ног. Спят в гнёздах, которые строят в средней части дерева. Питаются растительной пищей: сочными плодами, листьями, орехами, семенами и корой деревье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889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12) Ягуар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хотится ночью. Основная добыча- крупные птицы, обезьяны, большинство копытных. Имеет массивную голову, плотное телосложение и могучие лапы. Пёстрая камуфляжная окраска делает эту кошку невидимой среди зарослей дождевого леса. Является исчезающим видом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06864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92720" y="4365720"/>
            <a:ext cx="318780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Тропические леса занимают огромные территории Африки, Азии, Америки и ряда островов, лежащих по обе стороны экватора. В жарком влажном климате растительность развивается бурно. Все тянутся вверх в борьбе за свет, лезут друг на друга, переплетаются, перекручиваются, образуя непроходимую чащу. Кроны деревьев смыкаются в сплошной полог, почти не пропускающий свет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3025800" cy="200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426040" cy="400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700360" y="4508640"/>
            <a:ext cx="28083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1) Дерево баньян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кажется рощей, т.к. образует корни, спускающиеся от ветвей. Достигнув почвы, они укореняются и приобретают вид дополнительных стволов – подпоро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84720" y="364500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2) Бамбук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ально не является деревом, относится к семейству злаковых. Его древовидный трубчатый стебель – одревесневшая соломина до 40м в высоту и 30см в диаметре. Отличается необыкновенной скоростью роста: 70 – 80 см в ден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3166920" cy="2803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3052800" cy="2654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780000" y="2565360"/>
            <a:ext cx="2000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300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3) Древовидные папоротники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имеют ствол высотой до 20м, увенчанный кроной из крупных листьев и густого покрова боковых корней и черешков опавших листьев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3382920" cy="2543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25624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4) Лианы –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вьющиеся и лазающие растения древесного типа. Они быстро растут и легко взбираются на верхушки самых высоких деревьев. Лиана Пассифлора достигает очень больших размеров, перекидываясь с одного дерева на другое, образуя целые копны цветов. Плод – съедобная жёлтая ягода. Имеет лекарственные корни и листья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736720" cy="198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651640" y="292428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16272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5) Дерево какао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шоколадное дерево) вырастает до 10 – 15м. листья крупные, округлые. Цветы растут прямо на стволах. Обжаренные семена растирают и отжимают масло, а обезжиренный жмых размалывают. Это и есть порошок какао, из которого готовят питательный напиток и шоколад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2516040" cy="335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915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6) Раффлезия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 имеет ни корней, ни стеблей. Образуется на поражённых корнях и стеблях тропических деревьев. В бутоне похож на кочан капусты, а в раскрытом виде достигает 1м в диаметре и весит 4-6кг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3554280"/>
            <a:ext cx="3671640" cy="249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003640" y="3560760"/>
            <a:ext cx="3313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7) Орхидеи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настоящие воздушные жители. Растут на стволах деревьев, а их корни висят в воздухе и впитывают дождевую влагу, подобно губке. Цветки орхидеи имеют яркую и многообразную окраск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570400" cy="2462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2903760" cy="2187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0360" y="4292640"/>
            <a:ext cx="239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4:38:02Z</dcterms:created>
  <dc:creator>Оля</dc:creator>
  <dc:description/>
  <dc:language>en-US</dc:language>
  <cp:lastModifiedBy>Пользователь Windows</cp:lastModifiedBy>
  <dcterms:modified xsi:type="dcterms:W3CDTF">2013-10-02T17:53:59Z</dcterms:modified>
  <cp:revision>18</cp:revision>
  <dc:subject/>
  <dc:title>Растительный и животный мир тропических лесов.</dc:title>
</cp:coreProperties>
</file>