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3274-BC5A-4736-A34F-B7384F848A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186C-9667-411E-969A-E418CC1980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552-02C5-4865-8667-4B0214F0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992-9B48-4A44-93C6-5D04C136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257-E2A1-46A9-9474-647F4664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36A-38F2-457D-B45E-50882CC6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3B2B-EB18-4AC4-BA02-987E8C03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4439-8E67-4CDF-A224-41B973A9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68EF-B026-468E-8F7E-E5171131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E499-9BEF-4FD5-B78E-813F0049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C90F-9A08-417C-BC5E-70AC92BF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9DD8-2F77-447B-B551-734478E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B827-89C0-4442-A03C-442E3BB2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FCD-9614-4E11-B5C8-D6564F5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1781-0FDB-4AD3-BD27-DC68FBF3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FAF6-3C50-4307-9DBE-00530A09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6E42-F906-46F0-A6E4-AA0FF206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3A4C-7741-4FDD-8C0E-9E68A0F4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716A-A700-4CB3-AB9C-DEF10F24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EA0-6333-41E0-8BA9-BB62D5F9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075-3178-43A2-B5D9-516EF8EB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350-8B7F-480F-BE75-77559730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64C-B8A8-4BD6-B063-813540CD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2B6-2267-4444-AB00-7FB7E0B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193-571F-43D4-9DDA-03255F3F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85A-C09D-4F54-8431-FE6C5AC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5FB6-E738-4585-B018-E660E67CE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E76A-379F-4904-AF60-355CB32820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 Black"/>
              </a:rPr>
              <a:t>Измерение информации: вероятностный подход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50560" y="458100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32720" y="333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76F9-C8C2-4B65-8A16-E09387322548}" type="datetime">
              <a:rPr b="1" i="1" lang="ru-RU" sz="2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Пример 2: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озере обитает 12500 окуней, 25000 пескарей, а карасей и щук по 6250. Сколько информации мы получим, когда поймаем какую-нибудь рыб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179280" y="3500280"/>
                <a:ext cx="8785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00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62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1042920" y="4292640"/>
                <a:ext cx="69850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1187280" y="5516640"/>
                <a:ext cx="6639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971640" y="836640"/>
                <a:ext cx="734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бит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бит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бит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бит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108000" y="2565360"/>
                <a:ext cx="8875800" cy="28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бит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108000" y="765000"/>
                <a:ext cx="88977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Пример 3: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усть имеется текст, содержащий 1000 букв. Буквы встречаются в тексте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90 раз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40 раз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ф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2 раз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200 раз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е количество информации несет  буква в ст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Пример 3: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Система основных понятий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80074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99f3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25360"/>
          <a:ext cx="8496360" cy="54532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рение информации – содержательный подх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Измеряется количество информации в сообщении о результате некоторого собы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Равновероятные результаты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никакой результат не имеет преимущества перед друг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Неопределенность знания – число возможных результатов (вариантов сообщения) - </a:t>
                      </a:r>
                      <a:r>
                        <a:rPr b="0" lang="en-US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Количество информации в сообщении об одном результате события </a:t>
                      </a:r>
                      <a:r>
                        <a:rPr b="0" lang="en-US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– i</a:t>
                      </a:r>
                      <a:r>
                        <a:rPr b="0" lang="ru-RU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 би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ff"/>
                    </a:solidFill>
                  </a:tcPr>
                </a:tc>
              </a:tr>
              <a:tr h="52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Главная формула информатики: </a:t>
                      </a:r>
                      <a:r>
                        <a:rPr b="1" lang="ru-RU" sz="2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 baseline="38000">
                          <a:solidFill>
                            <a:srgbClr val="573f8b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= 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Частный случай: два равновероятных результата собы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N=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i=1 </a:t>
                      </a:r>
                      <a:r>
                        <a:rPr b="1" lang="ru-RU" sz="20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б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f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73f8b"/>
                          </a:solidFill>
                          <a:latin typeface="Arial"/>
                        </a:rPr>
                        <a:t>1 бит – количество информации в сообщении об одном из двух равновероятных результатов некоторого собы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9d9ff"/>
                </a:solidFill>
                <a:latin typeface="Arial Black"/>
              </a:rPr>
              <a:t>Вопросы для повторения: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280" y="1628640"/>
            <a:ext cx="8604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неопределенность знания о результате какого-либо события? Приведите примеры, когда неопределенность знания можно выразить количеств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пределяется единица измерения количества информ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их случаях и по какой формуле можно вычислить количество информации, содержащейся в сообщении, используя содержательный подход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9d9ff"/>
                </a:solidFill>
                <a:latin typeface="Arial Black"/>
              </a:rPr>
              <a:t>Измерение информации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12448" t="7923" r="12285" b="1939"/>
          <a:stretch/>
        </p:blipFill>
        <p:spPr>
          <a:xfrm>
            <a:off x="468360" y="1052640"/>
            <a:ext cx="8424720" cy="558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Вероятностный подход </a:t>
            </a:r>
            <a:br>
              <a:rPr sz="4000"/>
            </a:b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к измерению информации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28 году американский инженер Ричард Хартли подметил закономерность и предложил меру для измерения количества информ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3203640" y="2852640"/>
                <a:ext cx="2281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4"/>
          <p:cNvSpPr/>
          <p:nvPr/>
        </p:nvSpPr>
        <p:spPr>
          <a:xfrm>
            <a:off x="324000" y="3645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количеств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вновероят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быт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оличество бит в сообщении о том, что любое из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бытий произошл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08000" y="4724280"/>
            <a:ext cx="8856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все ситуации имеют одинаковые вероятности реализации. Существует много таких ситуаций, у которых вероятности реализации различаются. Например, если бросают несимметричный предм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один бытовой пример – «правило бутерброд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Вероятностный подход </a:t>
            </a:r>
            <a:br>
              <a:rPr sz="4000"/>
            </a:b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к измерению информации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1628640"/>
            <a:ext cx="85690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48 г. американский инженер и математик К. Шеннон предложил формулу для вычисления количества информации для событий с различными вероятностя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ероятность события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 = K/N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оличеств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бщее число и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улу Хартли теперь можно рассматривать как частный случай формулы Шенн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вновероятных событиях получаемое количество информации максималь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"/>
              <p:cNvSpPr txBox="1"/>
              <p:nvPr/>
            </p:nvSpPr>
            <p:spPr>
              <a:xfrm>
                <a:off x="5651640" y="2997360"/>
                <a:ext cx="28080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Пример 1: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корзине лежит 8 черных шаров и 24 белых. Сколько информации несет сообщение о том, что достали черный ша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2355840" y="2924280"/>
                <a:ext cx="601668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черн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бит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Пример 1: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случая равновероятных событий (если все шары разного цвета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1143000" y="3429000"/>
                <a:ext cx="6948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би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 Black"/>
              </a:rPr>
              <a:t>Формула Шеннона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299736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личество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личество возможных соб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ероятности отдельных соб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2700360" y="1301760"/>
                <a:ext cx="38782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250920" y="5084640"/>
                <a:ext cx="85788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09:02Z</dcterms:created>
  <dc:creator>www.PHILka.RU</dc:creator>
  <dc:description/>
  <dc:language>en-US</dc:language>
  <cp:lastModifiedBy>licey</cp:lastModifiedBy>
  <dcterms:modified xsi:type="dcterms:W3CDTF">2012-10-02T08:29:13Z</dcterms:modified>
  <cp:revision>44</cp:revision>
  <dc:subject/>
  <dc:title>Измерение информации</dc:title>
</cp:coreProperties>
</file>