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A001-F2A6-4A60-93C7-7F0DD05444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7994-8DE1-4117-BA24-3087294169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E869-5736-4B2B-A4F2-F2329B24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0BD-6478-4825-A96A-0A939390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DA33-4786-4560-B08B-E84A8E92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061-F045-45F3-B8F6-B8CB040D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FE0F-F9F4-43DE-A62E-23CD8240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6034-EC09-4099-AD8E-0F3A00F9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E7B7-698E-4EAD-ABBC-80B47991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416E-9BB6-466D-8AC3-8E1241B8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C30B-30F1-40CD-AE7C-A3D4DD2E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9A47-C997-43E7-B13E-E74B6BAA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C683-B6BA-4C6B-848C-D386F73C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98A-506B-4323-AEC4-136BF357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E895-CF89-4AE4-9E02-799A2243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5324-9E79-4948-8E28-874AC80C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C8DA-BBA8-4CA0-A25E-BEFD194D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E1B6-5880-42E5-9E1E-C6E878D2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9A9F-1890-49C5-9D15-24C324D8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01B45-3199-4B6B-BF3A-261BEC97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7FE93-22DA-493F-8534-6774BB85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F9D0B-4706-4C4D-86D1-8D9A719B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AE5E8-13A7-4A9E-82E3-73B55723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13369-240C-4C99-8CEA-B245EBB6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1730-F389-46F4-95F3-36046DDD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799AD-D19D-4108-86A0-992F44AA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1F39F-160F-4F4B-B6F6-F3587A57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31D5B-F467-49DE-AFEF-41EA4B5C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C3F1F-4279-4ADD-A154-99EA95EF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ACA49-0BB2-46B2-870D-99C44E8E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405D4-B9A1-40E2-B098-0519B508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4D4A8-AA95-4D6B-B857-1FB0CEB6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6AD1C-5FA9-41EA-ABE6-AE45E3C3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DA1AD-E7C1-491C-922A-139D601F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53968-0C87-4A34-AA8A-C1DA3C0A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55D6-DC23-4C8C-A311-F0F2195F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2CC9F-764B-489E-8460-36FDA264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9DECE-02F2-4588-8CC6-B9EA6CCD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05177-6AB1-41D5-B341-FDD8B9E0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A9B05-1F46-429C-BAB6-797C7345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CAEA3-267C-41DB-A17A-E1DA39E4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4A2ED-63ED-45B1-9A97-A2DAC510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9B030-4F81-44F1-8B6B-F8409E2C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13D2B-AF48-4D62-8605-DF89A205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1B908-0287-4069-A03F-5AD4BE61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ADF-C15A-4AEE-8FDE-7633223B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9F6-6502-4CB0-AC11-D713306A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199D-F10A-4871-A8D7-B926B423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821-5643-4385-A8A9-ED7D22D8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512-48BA-4AA1-94AC-36EBD743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261F-30F0-4F7C-A4DB-5FD4D39B17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D1EE-C669-41D3-8B86-7B774EE2EF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D37F-7707-4FD6-BDC5-C1EFD33DA99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7E4B-52D0-4996-9D25-0D1A466B525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19280" y="2060280"/>
            <a:ext cx="73137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70c0"/>
                </a:solidFill>
                <a:latin typeface="Garamond"/>
              </a:rPr>
              <a:t>А</a:t>
            </a:r>
            <a:r>
              <a:rPr b="1" lang="ru-RU" sz="4600" spc="-1" strike="noStrike">
                <a:solidFill>
                  <a:srgbClr val="0070c0"/>
                </a:solidFill>
                <a:latin typeface="Calibri"/>
              </a:rPr>
              <a:t>нализа </a:t>
            </a:r>
            <a:br>
              <a:rPr sz="4600"/>
            </a:br>
            <a:r>
              <a:rPr b="1" lang="ru-RU" sz="4600" spc="-1" strike="noStrike">
                <a:solidFill>
                  <a:srgbClr val="0070c0"/>
                </a:solidFill>
                <a:latin typeface="Calibri"/>
              </a:rPr>
              <a:t>современного урока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4356000" y="4076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льник Еле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j0410787[1]"/>
          <p:cNvPicPr/>
          <p:nvPr/>
        </p:nvPicPr>
        <p:blipFill>
          <a:blip r:embed="rId1"/>
          <a:stretch/>
        </p:blipFill>
        <p:spPr>
          <a:xfrm>
            <a:off x="468360" y="3645000"/>
            <a:ext cx="3427200" cy="2527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124000" y="62064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СОШ №1 с.п. «Село Пива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236000" y="69228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000000"/>
                </a:solidFill>
                <a:latin typeface="Arial"/>
              </a:rPr>
              <a:t>Структурно-временной анализ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это оценка использования времени урока по каждому его этап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одержимое 2"/>
          <p:cNvSpPr/>
          <p:nvPr/>
        </p:nvSpPr>
        <p:spPr>
          <a:xfrm>
            <a:off x="468360" y="3716280"/>
            <a:ext cx="80024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000000"/>
                </a:solidFill>
                <a:latin typeface="Arial"/>
              </a:rPr>
              <a:t>Комбинированный анализ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оценка (одновременная) основной дидактической цели урока и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уктурных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сихологический анали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изучение выполнения психологических требований к уроку (обеспечение познавательной деятельности учащихся развивающего тип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спектный анали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рассмотрение, детальное 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стороннее изучение и оценка под определенным углом зрения какой-либо стороны или отдельной цели урока во взаимосвязи с результатами деятельности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755280" y="928800"/>
            <a:ext cx="79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000000"/>
                </a:solidFill>
                <a:latin typeface="Arial"/>
              </a:rPr>
              <a:t>Дидактический анализ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это анализ основных дидактических категорий (реализация принципов дидактики, отбор методов, приемов и средств обучения и учения школьников, дидактическая обработка учебного материала урока, педагогическое руководство самостоятельной познавательной деятельностью учащихся и т. п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j0410907[1]"/>
          <p:cNvPicPr/>
          <p:nvPr/>
        </p:nvPicPr>
        <p:blipFill>
          <a:blip r:embed="rId1"/>
          <a:stretch/>
        </p:blipFill>
        <p:spPr>
          <a:xfrm>
            <a:off x="179280" y="476280"/>
            <a:ext cx="1917720" cy="188604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395280" y="404640"/>
            <a:ext cx="8316000" cy="5760000"/>
            <a:chOff x="395280" y="404640"/>
            <a:chExt cx="8316000" cy="5760000"/>
          </a:xfrm>
        </p:grpSpPr>
        <p:cxnSp>
          <p:nvCxnSpPr>
            <p:cNvPr id="204" name="_s21524"/>
            <p:cNvCxnSpPr>
              <a:stCxn id="205" idx="1"/>
              <a:endCxn id="206" idx="2"/>
            </p:cNvCxnSpPr>
            <p:nvPr/>
          </p:nvCxnSpPr>
          <p:spPr>
            <a:xfrm rot="10800000">
              <a:off x="4552560" y="1843920"/>
              <a:ext cx="594720" cy="3600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7" name="_s21520"/>
            <p:cNvCxnSpPr>
              <a:stCxn id="208" idx="3"/>
              <a:endCxn id="206" idx="2"/>
            </p:cNvCxnSpPr>
            <p:nvPr/>
          </p:nvCxnSpPr>
          <p:spPr>
            <a:xfrm flipV="1">
              <a:off x="3959280" y="1844280"/>
              <a:ext cx="594720" cy="3600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21519"/>
            <p:cNvCxnSpPr>
              <a:stCxn id="210" idx="1"/>
              <a:endCxn id="206" idx="2"/>
            </p:cNvCxnSpPr>
            <p:nvPr/>
          </p:nvCxnSpPr>
          <p:spPr>
            <a:xfrm rot="10800000">
              <a:off x="4552560" y="1844640"/>
              <a:ext cx="594720" cy="144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21518"/>
            <p:cNvCxnSpPr>
              <a:stCxn id="212" idx="3"/>
              <a:endCxn id="206" idx="2"/>
            </p:cNvCxnSpPr>
            <p:nvPr/>
          </p:nvCxnSpPr>
          <p:spPr>
            <a:xfrm flipV="1">
              <a:off x="3959280" y="1844640"/>
              <a:ext cx="594720" cy="144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6" name="_s21514"/>
            <p:cNvSpPr/>
            <p:nvPr/>
          </p:nvSpPr>
          <p:spPr>
            <a:xfrm>
              <a:off x="2771280" y="404640"/>
              <a:ext cx="3564000" cy="14400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Виды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аспектного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анализа уро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21515"/>
            <p:cNvSpPr/>
            <p:nvPr/>
          </p:nvSpPr>
          <p:spPr>
            <a:xfrm>
              <a:off x="395280" y="2564640"/>
              <a:ext cx="3564000" cy="14400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100" spc="-1" strike="noStrike">
                  <a:solidFill>
                    <a:srgbClr val="000000"/>
                  </a:solidFill>
                  <a:latin typeface="Arial"/>
                </a:rPr>
                <a:t>педагогически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21516"/>
            <p:cNvSpPr/>
            <p:nvPr/>
          </p:nvSpPr>
          <p:spPr>
            <a:xfrm>
              <a:off x="5147280" y="2564640"/>
              <a:ext cx="3564000" cy="14400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100" spc="-1" strike="noStrike">
                  <a:solidFill>
                    <a:srgbClr val="000000"/>
                  </a:solidFill>
                  <a:latin typeface="Arial"/>
                </a:rPr>
                <a:t>психологически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21517"/>
            <p:cNvSpPr/>
            <p:nvPr/>
          </p:nvSpPr>
          <p:spPr>
            <a:xfrm>
              <a:off x="395280" y="4724640"/>
              <a:ext cx="3564000" cy="14400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100" spc="-1" strike="noStrike">
                  <a:solidFill>
                    <a:srgbClr val="000000"/>
                  </a:solidFill>
                  <a:latin typeface="Arial"/>
                </a:rPr>
                <a:t>методически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21523"/>
            <p:cNvSpPr/>
            <p:nvPr/>
          </p:nvSpPr>
          <p:spPr>
            <a:xfrm>
              <a:off x="5147280" y="4724640"/>
              <a:ext cx="3564000" cy="14400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100" spc="-1" strike="noStrike">
                  <a:solidFill>
                    <a:srgbClr val="000000"/>
                  </a:solidFill>
                  <a:latin typeface="Arial"/>
                </a:rPr>
                <a:t>гигиенически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4996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6633"/>
                </a:solidFill>
                <a:latin typeface="Calibri"/>
              </a:rPr>
              <a:t>Педагогический аспект</a:t>
            </a:r>
            <a:r>
              <a:rPr b="0" lang="ru-RU" sz="3400" spc="-1" strike="noStrike">
                <a:solidFill>
                  <a:srgbClr val="006633"/>
                </a:solidFill>
                <a:latin typeface="Calibri"/>
              </a:rPr>
              <a:t> анализа урока может быть рассмотрен через следующие компоненты: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428480" y="20718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место урока в системе урок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авильность постановки цели уро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рганизация уро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содержание уро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методика проведения уро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бщение на урок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абота и поведение учащихся на уро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00120" y="4996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6633"/>
                </a:solidFill>
                <a:latin typeface="Calibri"/>
              </a:rPr>
              <a:t>Психологический аспект</a:t>
            </a:r>
            <a:r>
              <a:rPr b="0" lang="ru-RU" sz="3400" spc="-1" strike="noStrike">
                <a:solidFill>
                  <a:srgbClr val="006633"/>
                </a:solidFill>
                <a:latin typeface="Calibri"/>
              </a:rPr>
              <a:t> анализа урока может быть рассмотрен через следующие компоненты: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2147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управление внимание учащихс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управление развитием мнемонических особенност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учет закономерностей функционирования и развития мыш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26920" y="4437000"/>
            <a:ext cx="1868760" cy="1773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560" y="4996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6633"/>
                </a:solidFill>
                <a:latin typeface="Calibri"/>
              </a:rPr>
              <a:t>Методический аспект</a:t>
            </a:r>
            <a:r>
              <a:rPr b="0" lang="ru-RU" sz="3400" spc="-1" strike="noStrike">
                <a:solidFill>
                  <a:srgbClr val="006633"/>
                </a:solidFill>
                <a:latin typeface="Calibri"/>
              </a:rPr>
              <a:t> анализа урока может быть рассмотрен через следующие компоненты: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071440"/>
            <a:ext cx="822960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ая учебная цель уро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тодическая логика уро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пользование различных средств обуч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пользование различных методических прием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пользование различных организационных форм обуч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929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6633"/>
                </a:solidFill>
                <a:latin typeface="Calibri"/>
              </a:rPr>
              <a:t>Гигиенический аспект</a:t>
            </a:r>
            <a:r>
              <a:rPr b="0" lang="ru-RU" sz="3400" spc="-1" strike="noStrike">
                <a:solidFill>
                  <a:srgbClr val="006633"/>
                </a:solidFill>
                <a:latin typeface="Calibri"/>
              </a:rPr>
              <a:t> анализа урока может быть рассмотрен через следующие компоненты: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28880"/>
            <a:ext cx="8229600" cy="42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арактеристика учащихся класс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т возрастных особенностей учащихс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блюдение санитарно-гигиенических требова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упреждение утомления и перегрузки школьник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ладение учителем приемами саморегуляции в профессиональной деятель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Calibri"/>
              </a:rPr>
              <a:t>Цели анализа урока: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428480" y="1213920"/>
            <a:ext cx="7313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Контроль за качеством преподавания, качеством знаний, умений и навыков учащихс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2. Контроль за состоянием учебно-воспитательного процесс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3. Инструктирование педагог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4. Помощь в овладении более высоким педагогическим мастерств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5.  Выяснение причин успехов и неудач учителя, преодоление недостатков в его рабо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6. Выявление системы работы учителя и д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137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Calibri"/>
              </a:rPr>
              <a:t>Схема общепедагогического анализа урока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4920" y="1214280"/>
            <a:ext cx="8366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549000">
              <a:spcBef>
                <a:spcPts val="47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есто данного урока в системе уроков по теме или под теме, правильность постановки цели урок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549000">
              <a:spcBef>
                <a:spcPts val="47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549000">
              <a:spcBef>
                <a:spcPts val="47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рганизация урок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5490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) тип урок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5490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б) структура урока; его отдельные элементы, их последовательность и дозировка во времени; соответствие построения урока его содержанию и поставленной цел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5490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) подготовленность класса к уроку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5490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)  организация учащихся для активной работы на протяжении всего урока; сочетание фронтальной, групповой, коллективной работы на урок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5490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) плотность урока; рациональное использование времен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ля чего анализируется урок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064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76824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Урок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рассматривается сегодня не только как деятельность учителя, т.е. как форма обучения, но и как деятельность ученика, т.е. как форма уч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76824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нализ любого урока представляет собой комплексный подход, в котором психологический, педагогический, содержательный, методический и предметный аспекты тесно взаимосвязан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197000"/>
            <a:ext cx="7850160" cy="368280"/>
          </a:xfrm>
          <a:prstGeom prst="rect">
            <a:avLst/>
          </a:prstGeom>
          <a:gradFill rotWithShape="0">
            <a:gsLst>
              <a:gs pos="0">
                <a:srgbClr val="9fcde1"/>
              </a:gs>
              <a:gs pos="100000">
                <a:srgbClr val="495e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Анализ урока необходим для повышения качества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1774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Calibri"/>
              </a:rPr>
              <a:t>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Calibri"/>
              </a:rPr>
              <a:t>общепедагогического анализа урока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9280" y="1341360"/>
            <a:ext cx="867744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одержание уро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научность матери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 правильность подбора материала для различных этапов урока и видов деятельности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 соответствие содержания урока требованиям программы, по которой работает учит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 воспитательная направленност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) связь теории с практикой; раскрытие учителем практической значимости знаний; обучение учащихся применению своих знаний на практик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)  связь изучаемого материала с ранее пройденным; приёмы повторения пройденно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) межпредметные связ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)   речь учителя: грамотность, эмоциональность, лексическое богатств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) качество знаний учащихся, их умений и навы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) речь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1424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Calibri"/>
              </a:rPr>
              <a:t>Схема общепедагогического анализа урока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28480" y="142884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4. Методика проведения урок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 оборудование урока, использование наглядных пособий, дидактического материала на всех этапах уро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 методы и приёмы, применяемые учителем на каждом этапе уро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соответствие методов содержанию и целям урока, возрасту и уровню подготовки учащихся; эффективность применяемых мето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 постановка учителем перед учащимися цели урока и подведение итог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работа с отстающими и слабоуспевающими на уро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)  владение учителем методами активного обучения; целесообразность применения этих методов на данном уро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)  система оценки знаний учащихся учителем; их педагогическая ц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Calibri"/>
              </a:rPr>
              <a:t>Схема общепедагогического анализа урока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28480" y="128592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 Общение учителя на уроке: тон, стиль отношений, манера общения с классом и отдельными деть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6.  Работа и поведение учащихся на уроке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) активность класса и отдельных учащихс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б) заинтересованность учащихся материалом урока; отношение к уроку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) отношение учащихся к учителю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) дисциплинированность и организованность учащихс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) речь учащихся; задаваемые вопрос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7. Общие выводы по уро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8.  Как будет учтён опыт данного урока в Вашей дальнейшей работе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Calibri"/>
              </a:rPr>
              <a:t>Правила проведения анализа</a:t>
            </a:r>
            <a:r>
              <a:rPr b="0" lang="ru-RU" sz="3400" spc="-1" strike="noStrike">
                <a:solidFill>
                  <a:srgbClr val="006633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Calibri"/>
              </a:rPr>
              <a:t>урока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58920" y="1341000"/>
            <a:ext cx="76960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Дружелюбность,  доброжелательност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Правильно ли я вас поняла, коллега?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Ищите в уроке лучшее, а не худше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Говорите кратко и логично. Не придирайтесь к мелоч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.Слушайте других, не повторяйтес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Не перебивайте, размышляйте и вступайте в диало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6.Анализируйте состоявшийся урок, а не полемизируйте вокруг нег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7. Не поучайте учителя, а учитесь и слушайте рекомендации по совершенствованию урока. 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Calibri"/>
              </a:rPr>
              <a:t>ОБЩИЕ РЕКОМЕНДАЦИИ ДЛЯ ПРОВЕДЕНИЯ АНАЛИЗА УРОКА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272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Нельзя давать всем учителям одинаковые рекомендации. Помните - что годится для одного, то нецелесообразно для друг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Любые рекомендации по улучшению работы учителя должны опираться на достижения педагога, на его сильные сторо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Нужно поощрять творческое проведение урока, побуждать учителя к самостоятельной разработке его структуры и метод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Следует оценить, насколько рационально были использованы избранные учителем приемы и методы обучения, например, насколько целесообразны в данных условиях были те или иные виды беседы, самостоятельной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Замечания и рекомендации учителю должны быть четко сформулированы и записаны в справку по итогам анализа уро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Calibri"/>
              </a:rPr>
              <a:t>Памятка для самоанализа урока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8000" y="907920"/>
            <a:ext cx="8496360" cy="5545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A. Каков был замысел, план проведенного занятия и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1.  Каковы главные основания выбора именно такого замысла уро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1.1  Каково место данного урока в теме, разделе, курсе, в системе урок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1.2 Как он связан с предыдущими уроками, на что в них опирает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1.3  Как он (урок) работает на последующие уроки, темы, разделы (в том числе других предметов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1.4 Как были учтены при подготовке к уроку программные требования, образовательные стандарты, стратегия развития данной школ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1.5  В чем видится специфика, уникальность этого урока, его особое предназначен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1.6  Как (и почему) была выбрана именно предложенная форма занятия (и тип урока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2.  Какие особенности учащихся, класса были учтены при под­готовке к уроку (и почему именно эти особенности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3.  Какие главные задачи решались на уроке и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4.  Чем обосновывается выбор структуры и темпа проведения уро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5.  Чем обосновывается конкретный ход урока, характер взаимодействия учителя и учащихся? Почему были избраны именно такое содержание, такие методы, средства, формы обуче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6.   Какие условия (социально-психологические, учебно-материальные, гигиенические, эстетические,) были созданы для проведения урока и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Б. Были ли изменения (отклонения, усовершенствования) по сравнению с данным планом в ходе урока,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если - да, какие, почему и к чему они приве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B. Удалось 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решить на необходимом (или даже оптимальном) уровне поставленные задачи урока и получить соответствующие им результаты обу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избежать перегрузки и переутомления учащих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•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охранить и развить продуктивную мотивацию учения, на­строение, самочувствие? Какова общая самооценка уро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Г. Каковы причины успехов и недостатков проведенного урока? Каковы неиспользованные, резервные возможности? Что в этом уроке следовало бы сделать иначе, по-друго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Д. Какие выводы из урока необходимо сделать на будуще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357200" y="857160"/>
            <a:ext cx="731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Каким должен быть современный урок? Как в сегодняшнем уроке соседствуют традиционное и новое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Урок нельзя анализировать абстрактно, исходя из каких-то вечных, незыблемых критериев или конъюнктурных увлечений. Прежде всего, не следует искать на каждом уроке применения всех без исключения средств и методов работы. Требовать, чтобы все уроки были комбинированными, включали все «элементы», - это значит схематизировать учебный процесс, упрощать ег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j0408000[1]"/>
          <p:cNvPicPr/>
          <p:nvPr/>
        </p:nvPicPr>
        <p:blipFill>
          <a:blip r:embed="rId1"/>
          <a:stretch/>
        </p:blipFill>
        <p:spPr>
          <a:xfrm>
            <a:off x="324000" y="404640"/>
            <a:ext cx="1450800" cy="1346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Calibri"/>
              </a:rPr>
              <a:t>Обстоятельства, которые необходимо учитывать при анализе урока: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447560" y="1356840"/>
            <a:ext cx="73134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собенности темы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) 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озможности школы, наличие кабинетов, технических средств, наглядных пособий, нужных книг в библиотеке, пришкольных участк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)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состав данного класса, уровень развития и способностей ученик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)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индивидуальность учителя, уровень подготовки, особенности характера, состояние здоровья, прежние результаты рабо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j0410605[1]"/>
          <p:cNvPicPr/>
          <p:nvPr/>
        </p:nvPicPr>
        <p:blipFill>
          <a:blip r:embed="rId1"/>
          <a:stretch/>
        </p:blipFill>
        <p:spPr>
          <a:xfrm>
            <a:off x="7643880" y="5214960"/>
            <a:ext cx="1336680" cy="1214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00120" y="142920"/>
            <a:ext cx="73137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Calibri"/>
              </a:rPr>
              <a:t>Форма разбора урока: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26920" y="1484280"/>
            <a:ext cx="731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м педагог рассказывает о своем уроке, о том, что ему, по его мнению, удалось, что н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) затем присутствующий анализирует положительные стороны уро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) только после этого следует разбор отрицательных мо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) наконец, делаются предложения, как избавиться от недостат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) после разбора педагог вновь высказывает свое мнение, и, наконец, в обсуждение проблем включаются все присутствующ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j0408000[1]"/>
          <p:cNvPicPr/>
          <p:nvPr/>
        </p:nvPicPr>
        <p:blipFill>
          <a:blip r:embed="rId1"/>
          <a:stretch/>
        </p:blipFill>
        <p:spPr>
          <a:xfrm>
            <a:off x="7858080" y="142920"/>
            <a:ext cx="1071720" cy="99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Calibri"/>
              </a:rPr>
              <a:t>Формы анализа и самоанализа урока: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6000" y="981000"/>
            <a:ext cx="762624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2505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уществует 12 видов анализа урока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080" indent="2505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раткий (оценочны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080" indent="2505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стемны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080" indent="2505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уктурный (поэтапный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080" indent="2505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лный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080" indent="2505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уктурно-временной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080" indent="2505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нализ воспитательной направленности урока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080" indent="2505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бинированный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080" indent="2505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дактический,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080" indent="2505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сихологический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080" indent="2505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плексный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080" indent="2505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сихолого-педагогический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080" indent="2505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спектны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7072200" y="3929040"/>
            <a:ext cx="1744920" cy="1844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539640" y="475920"/>
            <a:ext cx="837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руктурны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оэтапный) анали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выявление и оценка доминирующих структур (элементов) урока, их целесообразность, обеспечивающая развитие познавательных способностей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ратк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оценочный) анали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общая оценка учебно-воспитательной функции урока, характеризующая решение образовательной, воспитательной и развивающей задач и дающая оценку их ре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043840" y="4724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000000"/>
                </a:solidFill>
                <a:latin typeface="Arial"/>
              </a:rPr>
              <a:t>Системный анализ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рассмотрение урока как единой системы с точки зрения решения главной дидактической задачи и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новременного решения развивающих задач урока, обеспечение формирования знаний, умений и навыков учащихся, усвоения ими способов у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68000" y="33336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олный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система аспектных анализов, включающих оценку реализации задач урока, содержание и виды учебной деятельности учащихся по таким характеристикам, как уровни усвоения учащимися знаний и способов умственной деятельности, развитие учащихся, реализация дидактических принципов и результативност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ро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164360" y="458136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4:01:13Z</dcterms:created>
  <dc:creator>Diana</dc:creator>
  <dc:description/>
  <cp:keywords/>
  <dc:language>en-US</dc:language>
  <cp:lastModifiedBy>Vert</cp:lastModifiedBy>
  <dcterms:modified xsi:type="dcterms:W3CDTF">2013-10-02T05:13:29Z</dcterms:modified>
  <cp:revision>31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9</vt:lpwstr>
  </property>
</Properties>
</file>