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0F4-91B4-4AC6-8088-520D9460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664-BD33-4FA2-A621-02F0EC8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ED2-D719-4868-9BAD-5C664918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F5E-8CCA-4ECB-B410-1BB0A0A4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219E-F787-4ACB-9B96-4FD4E4C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32B-D533-4B5F-93C1-DF434B5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5878-A249-4224-A839-9EC8286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3305-6B23-402B-8C83-5AED47FC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AF6-D17B-4C60-8D3B-B2F4C483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BFD4-3381-445D-97D7-7B4B70F6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D709-BD4D-4E70-82E3-EA3DF39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064-94A1-4BDD-8A02-6FF5E2E1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47BB-4347-4C50-BA81-99B4FE4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7CB4-979D-4E06-9314-D573F4FF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718-47E5-4D9F-90E6-03B0B544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0A1-7931-435B-A1BB-FE0A64CC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F64F-9582-4501-A65A-E6F523E8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97A2-9608-4981-AE40-321D2992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115F-BCC3-4A4E-8210-0349A238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9F27-37A2-4416-836C-44E44877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6798-485A-45C6-A00C-F45E065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5479-2564-4946-BAF0-A48FFB27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EB0-12A4-4C32-BBA3-8652868A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E4AD-0D4F-4508-BE48-55879AA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E8A9-A845-4516-9B94-4918A61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E1CE-255D-4CA9-AF03-B0ACCD4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4D0E-44AE-4FEF-83FE-D8DBC47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05C1-CF22-484F-BE26-9AD4179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5DF1-07C9-4585-B6CF-A0AC38CC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C339-94C1-4FB7-BADA-B11A2A77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7110-BBDA-4B77-9402-09C528A2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34AE-C75E-4DD6-9949-662D69F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9777-C34B-42B3-9B95-DBB6963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01A-67E7-4307-B7FB-7AECE7E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B1D9-C498-4BD0-8B96-FA3B79A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C6DD-0CE2-41EB-9150-853F5A97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94AD-743D-46D9-992F-514D919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D8B7-A0B2-4CB6-BEA9-19207D5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08B6-394E-4D4E-A764-96EF5AB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3041-5AB8-4B2E-8C11-893E93C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6588-4ED4-496B-8FBA-10ABD19E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F515-3D3F-43AF-82B7-6A94C585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DC37-2D48-461C-9DCE-60989E35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4312-1F33-4D7D-A397-C114453E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118-2A3E-4AB4-A942-0DA85E7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F9D4-12AD-4B1B-BDF3-9FEC6B8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45EA-C719-4FD8-8F31-720D746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75D0-08CA-4409-90C5-8295DD4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857B-761C-486D-B236-80DD1FA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0F56-492C-4C7F-AE50-7361AAA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C564-CADA-43F3-AE64-FC8B253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014B-4101-4407-A377-251061D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A389-F9F9-4685-8D3A-66A3A73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FC94-751E-4865-AC0D-39E6FEC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B0D2-7ED8-4A9C-A85C-3A328258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EA8-8FD0-41FC-8D5D-689AE91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F244-8C0B-46EF-AAEA-D88166DF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868-07A0-429E-A30A-66978AB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83C-058D-4FF7-859B-5291DB5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F85-E7AF-4FC7-8945-F6E5AAE0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05B-C43B-4EA2-A12E-57D82D52340A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B12E-CD5E-487C-8B11-B2C0E8A2DE69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CA5-2BFA-494D-A7AD-6DDAAA4CF28D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FBC-A84A-4C36-B2A7-327469568554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BE9-1E6A-41D8-82D3-5133A480F15C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73080" y="2127240"/>
            <a:ext cx="4730760" cy="18050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одготовила ученица 1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класса</a:t>
            </a:r>
            <a:endParaRPr b="0" lang="en-US" sz="2200" spc="-1" strike="noStrike">
              <a:solidFill>
                <a:srgbClr val="1d3641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икифорова Вероника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Объект 2" descr=""/>
          <p:cNvPicPr/>
          <p:nvPr/>
        </p:nvPicPr>
        <p:blipFill>
          <a:blip r:embed="rId1"/>
          <a:stretch/>
        </p:blipFill>
        <p:spPr>
          <a:xfrm>
            <a:off x="1189080" y="1279440"/>
            <a:ext cx="6381720" cy="345780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3" descr=""/>
          <p:cNvPicPr/>
          <p:nvPr/>
        </p:nvPicPr>
        <p:blipFill>
          <a:blip r:embed="rId2"/>
          <a:stretch/>
        </p:blipFill>
        <p:spPr>
          <a:xfrm>
            <a:off x="2712960" y="165240"/>
            <a:ext cx="3718080" cy="14554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5" descr=""/>
          <p:cNvPicPr/>
          <p:nvPr/>
        </p:nvPicPr>
        <p:blipFill>
          <a:blip r:embed="rId3"/>
          <a:stretch/>
        </p:blipFill>
        <p:spPr>
          <a:xfrm>
            <a:off x="341280" y="4694400"/>
            <a:ext cx="462744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2400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Окружность называют </a:t>
            </a:r>
            <a:r>
              <a:rPr b="1" lang="ru-RU" sz="2400" spc="-1" strike="noStrike">
                <a:solidFill>
                  <a:srgbClr val="1d3641"/>
                </a:solidFill>
                <a:latin typeface="Calibri"/>
              </a:rPr>
              <a:t>вписанной</a:t>
            </a: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 в угол, если она лежит внутри угла и касается его сторон. 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Центр окружности, вписанной в угол, лежит на биссектрисе этого угла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Окружность называется вписанной в выпуклый многоугольник, если она лежит внутри данного многоугольника и касается всех его сторон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393" name="Picture 2" descr="http://upload.wikimedia.org/wikipedia/commons/thumb/3/3a/Okrugnost_v_mnogoug.png/220px-Okrugnost_v_mnogoug.png"/>
          <p:cNvPicPr/>
          <p:nvPr/>
        </p:nvPicPr>
        <p:blipFill>
          <a:blip r:embed="rId1"/>
          <a:stretch/>
        </p:blipFill>
        <p:spPr>
          <a:xfrm>
            <a:off x="5292720" y="1557360"/>
            <a:ext cx="3024360" cy="350532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3"/>
          <p:cNvSpPr/>
          <p:nvPr/>
        </p:nvSpPr>
        <p:spPr>
          <a:xfrm>
            <a:off x="4643280" y="522936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ужность, вписанная в многоугольник ABC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165240"/>
            <a:ext cx="773136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396720"/>
            <a:ext cx="9180360" cy="13464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5"/>
          <p:cNvSpPr/>
          <p:nvPr/>
        </p:nvSpPr>
        <p:spPr>
          <a:xfrm>
            <a:off x="439560" y="1554120"/>
            <a:ext cx="4780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ждый треугольник можно вписать окружность, притом только од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сумма противоположных сторон выпуклого четырехугольника равна, то в него можно вписать окружность(верно и обратно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юбой правильный многоугольник можно вписать окружность, и притом только од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ужность, вписанная в правильный многоугольник, касается сторон многоугольника в их се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4" descr="http://kak.znate.ru/pars_docs/refs/37/36035/36035-1_4.png"/>
          <p:cNvPicPr/>
          <p:nvPr/>
        </p:nvPicPr>
        <p:blipFill>
          <a:blip r:embed="rId2"/>
          <a:stretch/>
        </p:blipFill>
        <p:spPr>
          <a:xfrm>
            <a:off x="5580000" y="1512720"/>
            <a:ext cx="2448000" cy="209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://www-formula.ru/images/geometry/r_shestiugol1.png"/>
          <p:cNvPicPr/>
          <p:nvPr/>
        </p:nvPicPr>
        <p:blipFill>
          <a:blip r:embed="rId3"/>
          <a:stretch/>
        </p:blipFill>
        <p:spPr>
          <a:xfrm>
            <a:off x="5249880" y="465300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http://www.uznateshe.ru/wp-content/uploads/2013/02/okrujnostvkvadrate1.png"/>
          <p:cNvPicPr/>
          <p:nvPr/>
        </p:nvPicPr>
        <p:blipFill>
          <a:blip r:embed="rId4"/>
          <a:stretch/>
        </p:blipFill>
        <p:spPr>
          <a:xfrm>
            <a:off x="7238880" y="3700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3641"/>
                </a:solidFill>
                <a:latin typeface="Calibri"/>
              </a:rPr>
              <a:t>Описанная окружность</a:t>
            </a: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  многоугольника — окружность, содержащая все вершины многоугольника. Центром является точка (принято обозначать ) пересечения серединных перпендикуляров к сторонам многоугольника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402" name="Прямоугольник 3" descr=""/>
          <p:cNvPicPr/>
          <p:nvPr/>
        </p:nvPicPr>
        <p:blipFill>
          <a:blip r:embed="rId1"/>
          <a:stretch/>
        </p:blipFill>
        <p:spPr>
          <a:xfrm>
            <a:off x="652320" y="231840"/>
            <a:ext cx="7809120" cy="1457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ircumscribed Polygon.svg"/>
          <p:cNvPicPr/>
          <p:nvPr/>
        </p:nvPicPr>
        <p:blipFill>
          <a:blip r:embed="rId2"/>
          <a:stretch/>
        </p:blipFill>
        <p:spPr>
          <a:xfrm>
            <a:off x="5508720" y="191628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20400" y="836280"/>
            <a:ext cx="4824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Можно описать окружность около: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любого прямоугольника 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любой равнобедренной трапеции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любого четырехугольника, у которого сумма противоположных углов равна 180 градусов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d3641"/>
                </a:solidFill>
                <a:latin typeface="Calibri"/>
              </a:rPr>
              <a:t>У четырёхугольника, вписанного в окружность, произведение длин диагоналей равно сумме произведений длин пар противоположных сторон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405" name="Picture 2" descr="Cyclic quadrilateral.svg"/>
          <p:cNvPicPr/>
          <p:nvPr/>
        </p:nvPicPr>
        <p:blipFill>
          <a:blip r:embed="rId1"/>
          <a:stretch/>
        </p:blipFill>
        <p:spPr>
          <a:xfrm>
            <a:off x="5148360" y="148428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68360" y="1628640"/>
            <a:ext cx="49816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Около треугольника можно описать окружность, притом только одну. Её центром будет являться точка пересечения серединных перпендикуляров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407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255600"/>
            <a:ext cx="8609040" cy="1347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upload.wikimedia.org/wikipedia/commons/thumb/e/e0/Circumcentre.svg/220px-Circumcentre.svg.png"/>
          <p:cNvPicPr/>
          <p:nvPr/>
        </p:nvPicPr>
        <p:blipFill>
          <a:blip r:embed="rId2"/>
          <a:stretch/>
        </p:blipFill>
        <p:spPr>
          <a:xfrm>
            <a:off x="5450040" y="1409760"/>
            <a:ext cx="3379680" cy="337824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1" descr=""/>
          <p:cNvPicPr/>
          <p:nvPr/>
        </p:nvPicPr>
        <p:blipFill>
          <a:blip r:embed="rId3"/>
          <a:stretch/>
        </p:blipFill>
        <p:spPr>
          <a:xfrm>
            <a:off x="542880" y="4054320"/>
            <a:ext cx="2157480" cy="1621080"/>
          </a:xfrm>
          <a:prstGeom prst="rect">
            <a:avLst/>
          </a:prstGeom>
          <a:ln w="0">
            <a:noFill/>
          </a:ln>
        </p:spPr>
      </p:pic>
      <p:pic>
        <p:nvPicPr>
          <p:cNvPr id="410" name="TextBox 5" descr=""/>
          <p:cNvPicPr/>
          <p:nvPr/>
        </p:nvPicPr>
        <p:blipFill>
          <a:blip r:embed="rId4"/>
          <a:stretch/>
        </p:blipFill>
        <p:spPr>
          <a:xfrm>
            <a:off x="706320" y="5473800"/>
            <a:ext cx="1824120" cy="64116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6" descr=""/>
          <p:cNvPicPr/>
          <p:nvPr/>
        </p:nvPicPr>
        <p:blipFill>
          <a:blip r:embed="rId5"/>
          <a:stretch/>
        </p:blipFill>
        <p:spPr>
          <a:xfrm>
            <a:off x="3121200" y="5041800"/>
            <a:ext cx="4620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96360" y="907560"/>
            <a:ext cx="814716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У остроугольного треугольника центр описанной окружности лежит внутри, у тупоугольного — вне треугольника, у прямоугольного — на середине гипотенузы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413" name="Picture 2" descr="http://upload.wikimedia.org/wikipedia/commons/thumb/8/88/Triangle_%28Acute%29_Circumscribed.svg/120px-Triangle_%28Acute%29_Circumscribed.svg.png"/>
          <p:cNvPicPr/>
          <p:nvPr/>
        </p:nvPicPr>
        <p:blipFill>
          <a:blip r:embed="rId1"/>
          <a:stretch/>
        </p:blipFill>
        <p:spPr>
          <a:xfrm>
            <a:off x="611280" y="278136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850320" y="50846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4" descr="http://upload.wikimedia.org/wikipedia/commons/thumb/5/58/Triangle_%28Obtuse%29_Circumscribed.svg/120px-Triangle_%28Obtuse%29_Circumscribed.svg.png"/>
          <p:cNvPicPr/>
          <p:nvPr/>
        </p:nvPicPr>
        <p:blipFill>
          <a:blip r:embed="rId2"/>
          <a:stretch/>
        </p:blipFill>
        <p:spPr>
          <a:xfrm>
            <a:off x="3433680" y="278136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4"/>
          <p:cNvSpPr/>
          <p:nvPr/>
        </p:nvSpPr>
        <p:spPr>
          <a:xfrm>
            <a:off x="3719880" y="508464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6" descr="http://upload.wikimedia.org/wikipedia/commons/thumb/8/89/Triangle_%28Right%29_Circumscribed.svg/120px-Triangle_%28Right%29_Circumscribed.svg.png"/>
          <p:cNvPicPr/>
          <p:nvPr/>
        </p:nvPicPr>
        <p:blipFill>
          <a:blip r:embed="rId3"/>
          <a:stretch/>
        </p:blipFill>
        <p:spPr>
          <a:xfrm>
            <a:off x="6384960" y="2781360"/>
            <a:ext cx="2158920" cy="2160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5"/>
          <p:cNvSpPr/>
          <p:nvPr/>
        </p:nvSpPr>
        <p:spPr>
          <a:xfrm>
            <a:off x="6577200" y="50846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115640" y="3715920"/>
            <a:ext cx="59151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1d3641"/>
                </a:solidFill>
                <a:latin typeface="Calibri"/>
              </a:rPr>
              <a:t>Где:</a:t>
            </a:r>
            <a:br>
              <a:rPr sz="2200"/>
            </a:br>
            <a:r>
              <a:rPr b="0" lang="ru-RU" sz="2200" spc="-1" strike="noStrike">
                <a:solidFill>
                  <a:srgbClr val="1d3641"/>
                </a:solidFill>
                <a:latin typeface="Calibri"/>
              </a:rPr>
              <a:t> — стороны треугольника,</a:t>
            </a:r>
            <a:br>
              <a:rPr sz="2200"/>
            </a:br>
            <a:r>
              <a:rPr b="0" lang="ru-RU" sz="2200" spc="-1" strike="noStrike">
                <a:solidFill>
                  <a:srgbClr val="1d3641"/>
                </a:solidFill>
                <a:latin typeface="Calibri"/>
              </a:rPr>
              <a:t> — угол, лежащий против стороны ,</a:t>
            </a:r>
            <a:br>
              <a:rPr sz="2200"/>
            </a:br>
            <a:r>
              <a:rPr b="0" lang="ru-RU" sz="2200" spc="-1" strike="noStrike">
                <a:solidFill>
                  <a:srgbClr val="1d3641"/>
                </a:solidFill>
                <a:latin typeface="Calibri"/>
              </a:rPr>
              <a:t> — площадь треугольника.</a:t>
            </a:r>
            <a:endParaRPr b="0" lang="en-US" sz="22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3641"/>
                </a:solidFill>
                <a:latin typeface="Calibri"/>
              </a:rPr>
              <a:t> — </a:t>
            </a:r>
            <a:r>
              <a:rPr b="0" lang="ru-RU" sz="2200" spc="-1" strike="noStrike">
                <a:solidFill>
                  <a:srgbClr val="1d3641"/>
                </a:solidFill>
                <a:latin typeface="Calibri"/>
              </a:rPr>
              <a:t>полупериметр треугольника.</a:t>
            </a:r>
            <a:endParaRPr b="0" lang="en-US" sz="2200" spc="-1" strike="noStrike">
              <a:solidFill>
                <a:srgbClr val="1d3641"/>
              </a:solidFill>
              <a:latin typeface="Calibri"/>
            </a:endParaRPr>
          </a:p>
        </p:txBody>
      </p:sp>
      <p:pic>
        <p:nvPicPr>
          <p:cNvPr id="420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84120"/>
            <a:ext cx="9034560" cy="151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R = \frac {abc}{4S}"/>
          <p:cNvPicPr/>
          <p:nvPr/>
        </p:nvPicPr>
        <p:blipFill>
          <a:blip r:embed="rId2"/>
          <a:stretch/>
        </p:blipFill>
        <p:spPr>
          <a:xfrm>
            <a:off x="934920" y="1916280"/>
            <a:ext cx="1217880" cy="720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R = \frac {a}{2\sin\alpha}"/>
          <p:cNvPicPr/>
          <p:nvPr/>
        </p:nvPicPr>
        <p:blipFill>
          <a:blip r:embed="rId3"/>
          <a:stretch/>
        </p:blipFill>
        <p:spPr>
          <a:xfrm>
            <a:off x="3235320" y="2008080"/>
            <a:ext cx="1405080" cy="536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R = \frac{abc}{\sqrt{(a+b+c)(-a+b+c)(a-b+c)(a+b-c)}} = \frac{abc}{4\sqrt{p(p-a)(p-b)(p-c)}}"/>
          <p:cNvPicPr/>
          <p:nvPr/>
        </p:nvPicPr>
        <p:blipFill>
          <a:blip r:embed="rId4"/>
          <a:stretch/>
        </p:blipFill>
        <p:spPr>
          <a:xfrm>
            <a:off x="285840" y="3213000"/>
            <a:ext cx="8731080" cy="720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a, b, c"/>
          <p:cNvPicPr/>
          <p:nvPr/>
        </p:nvPicPr>
        <p:blipFill>
          <a:blip r:embed="rId5"/>
          <a:stretch/>
        </p:blipFill>
        <p:spPr>
          <a:xfrm>
            <a:off x="538200" y="4941720"/>
            <a:ext cx="793800" cy="316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\alpha"/>
          <p:cNvPicPr/>
          <p:nvPr/>
        </p:nvPicPr>
        <p:blipFill>
          <a:blip r:embed="rId6"/>
          <a:stretch/>
        </p:blipFill>
        <p:spPr>
          <a:xfrm>
            <a:off x="1093680" y="5300640"/>
            <a:ext cx="165240" cy="12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S"/>
          <p:cNvPicPr/>
          <p:nvPr/>
        </p:nvPicPr>
        <p:blipFill>
          <a:blip r:embed="rId7"/>
          <a:stretch/>
        </p:blipFill>
        <p:spPr>
          <a:xfrm>
            <a:off x="1068480" y="5576760"/>
            <a:ext cx="217440" cy="2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p"/>
          <p:cNvPicPr/>
          <p:nvPr/>
        </p:nvPicPr>
        <p:blipFill>
          <a:blip r:embed="rId8"/>
          <a:stretch/>
        </p:blipFill>
        <p:spPr>
          <a:xfrm>
            <a:off x="1117440" y="6021360"/>
            <a:ext cx="2145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04440" y="155736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Центр окружности, описанной около правильного многоугольника, совпадает с центром окружности, вписанной в тот же многоугольник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Эта точка называется </a:t>
            </a:r>
            <a:r>
              <a:rPr b="0" i="1" lang="ru-RU" sz="2400" spc="-1" strike="noStrike">
                <a:solidFill>
                  <a:srgbClr val="1d3641"/>
                </a:solidFill>
                <a:latin typeface="Calibri"/>
              </a:rPr>
              <a:t>центром правильного многоугольника</a:t>
            </a:r>
            <a:r>
              <a:rPr b="0" lang="ru-RU" sz="2400" spc="-1" strike="noStrike">
                <a:solidFill>
                  <a:srgbClr val="1d3641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12" descr="http://upload.wikimedia.org/wikipedia/commons/thumb/a/a2/Regular_heptagon_1.svg/220px-Regular_heptagon_1.svg.p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3:21:27Z</dcterms:created>
  <dc:creator>Вероника</dc:creator>
  <dc:description/>
  <dc:language>en-US</dc:language>
  <cp:lastModifiedBy>Administration</cp:lastModifiedBy>
  <dcterms:modified xsi:type="dcterms:W3CDTF">2013-10-01T03:19:04Z</dcterms:modified>
  <cp:revision>12</cp:revision>
  <dc:subject/>
  <dc:title>Презентация PowerPoint</dc:title>
</cp:coreProperties>
</file>