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13.png" ContentType="image/png"/>
  <Override PartName="/ppt/media/image37.png" ContentType="image/png"/>
  <Override PartName="/ppt/media/image40.png" ContentType="image/png"/>
  <Override PartName="/ppt/media/image42.png" ContentType="image/png"/>
  <Override PartName="/ppt/media/image2.jpeg" ContentType="image/jpeg"/>
  <Override PartName="/ppt/media/image11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0754-18BD-408B-8D0E-18706A24D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7CB4-EB41-4CED-AF65-EF2810FD7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E7E7-AEC4-4E0D-8E04-10279FF6C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07D8-EDAA-4CCF-8A40-C2862A759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0315-360B-4A15-9C8C-EFB2F7A9B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024F-AF6D-407B-ADA3-25B1B1C75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BD30-D356-474E-8D88-0BBDD27FBA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DA8-EA1D-48C1-B2B0-C5BA4DE8A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1FB5-8402-4563-B8B6-FA3203FAE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B355-D8C5-426F-A0F5-D735A1F3CE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71BC-5840-40B4-8465-7386E074A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B534-9EA5-4FE6-BBD2-1974F3B4D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DD7-3CC1-4F4E-940C-725B894F5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BDF6-9C74-47BF-AD4C-4B02DB239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19DD-2A57-48C8-944E-23C84D8025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C42E-1C38-4CB9-B329-FC08E49B5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FA97-0799-4B92-9730-3539E34FB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6EF9-6D68-4D01-9367-8029A3AEB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F8C1-F414-4798-8ACD-A861D729F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4465-B948-4385-B287-1DFAF5AE7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4758-CF2B-4C25-8DEE-3A5B382D8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8455-3D47-40E5-A968-02FC0177B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0FB-5D08-4161-BBD6-FACC32BB6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AFA-8D38-4D1A-A8F4-7DFDE3BD2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7F3-5C30-4BF0-8586-92B1833B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18E-46DA-45ED-85F9-4A815397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01A-8C0C-4B79-81F4-9A802A08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A9B-6685-4095-BB19-CFE2A595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2F4F-24AE-4799-9BB9-65918C6A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D9D0-EF82-437B-A4E5-6786EE72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2D1A-40BE-4EB6-B75E-50E938B4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7D41-2369-422C-AE2E-2A60021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F96A-C848-45C1-9851-EFCD0C50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FD5A-D094-4202-B94B-2B3DFDF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D2C7-0618-4CF3-900E-2FE0B21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532-ABE5-45F0-B724-6FE31053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440D-EF10-4C49-8CCC-57352502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0DF1-EBF2-4139-9A8B-D91C1C4C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AD0-1B6D-44BA-A23E-3535FA3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B935-C4AC-49F3-AE1D-00DEF21D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BD4C-C451-46B8-B901-393F41C5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CCE-EF81-4582-8854-150C759B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80A-93EF-4739-8EF8-C20513FD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844-4ABC-4A8E-8F3B-8BC5026C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0F7-80E7-4AD1-93B8-C8295363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5C0-3227-4CEE-B409-C4046A40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B9F-68E3-425B-AE60-3868FD5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1B5-0301-430F-ACD8-715F4466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873A-656D-497A-B6FA-756532A41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070D-4527-4626-9B54-E190B1FB1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kremlin.ru/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zdravstvuy_shkola.mp3" descr=""/>
          <p:cNvPicPr/>
          <p:nvPr/>
        </p:nvPicPr>
        <p:blipFill>
          <a:blip r:embed="rId2"/>
          <a:stretch/>
        </p:blipFill>
        <p:spPr>
          <a:xfrm>
            <a:off x="82598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3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7520" y="23839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Georgia"/>
              </a:rPr>
              <a:t>Принятие Конституция РСФСР 1925 года обуславливалось вхождением РСФСР в состав Союза ССР и приведением российского законодательства в соответствие с Конституцией СССР 1924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Georgia"/>
              </a:rPr>
              <a:t>В Конституции РСФСР 1925 года конечной целью было «осуществление коммунизм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-249120" y="171360"/>
            <a:ext cx="7418160" cy="1724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Герб РСФСР"/>
          <p:cNvPicPr/>
          <p:nvPr/>
        </p:nvPicPr>
        <p:blipFill>
          <a:blip r:embed="rId2"/>
          <a:stretch/>
        </p:blipFill>
        <p:spPr>
          <a:xfrm>
            <a:off x="6912000" y="297000"/>
            <a:ext cx="1962000" cy="209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2006640"/>
            <a:ext cx="569448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-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-туции был впоследствии репрессиро-ванный Николай Бухарин. В работе над текстом конституции непосредст-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0_1c0d6_199e7891_XL"/>
          <p:cNvPicPr/>
          <p:nvPr/>
        </p:nvPicPr>
        <p:blipFill>
          <a:blip r:embed="rId1"/>
          <a:srcRect l="2910" t="2463" r="3193" b="7807"/>
          <a:stretch/>
        </p:blipFill>
        <p:spPr>
          <a:xfrm>
            <a:off x="6313320" y="493560"/>
            <a:ext cx="2598840" cy="3598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564000" y="4724280"/>
            <a:ext cx="52610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-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7" descr="Рисунок7.png"/>
          <p:cNvPicPr/>
          <p:nvPr/>
        </p:nvPicPr>
        <p:blipFill>
          <a:blip r:embed="rId2"/>
          <a:srcRect l="5238" t="16022" r="19216" b="0"/>
          <a:stretch/>
        </p:blipFill>
        <p:spPr>
          <a:xfrm>
            <a:off x="536400" y="378000"/>
            <a:ext cx="4399200" cy="133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09160" y="1409760"/>
            <a:ext cx="6629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Конституционно признавалась новая социальная общность — единый советский нар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Советы получили новое название — Советы народных депута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смотря на распад СССР действовала на территории России до 199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Вошла в историю как «конституция развитого социализма» или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6931080" y="741240"/>
            <a:ext cx="2076480" cy="28386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Рисунок8.png"/>
          <p:cNvPicPr/>
          <p:nvPr/>
        </p:nvPicPr>
        <p:blipFill>
          <a:blip r:embed="rId2"/>
          <a:srcRect l="3937" t="16373" r="13860" b="0"/>
          <a:stretch/>
        </p:blipFill>
        <p:spPr>
          <a:xfrm>
            <a:off x="263520" y="0"/>
            <a:ext cx="6735600" cy="145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D:\Мои документы\Загрузки\конституция ссср.jpg"/>
          <p:cNvPicPr/>
          <p:nvPr/>
        </p:nvPicPr>
        <p:blipFill>
          <a:blip r:embed="rId3"/>
          <a:stretch/>
        </p:blipFill>
        <p:spPr>
          <a:xfrm>
            <a:off x="7008840" y="3940200"/>
            <a:ext cx="1851120" cy="26431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3227400" y="5411880"/>
            <a:ext cx="379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а основе Конституции СССР 1977 года в 1978 году была принята Конституция в РСФС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5875200" y="3497400"/>
            <a:ext cx="2922840" cy="32731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Рисунок9.png"/>
          <p:cNvPicPr/>
          <p:nvPr/>
        </p:nvPicPr>
        <p:blipFill>
          <a:blip r:embed="rId2"/>
          <a:srcRect l="4898" t="20902" r="4401" b="0"/>
          <a:stretch/>
        </p:blipFill>
        <p:spPr>
          <a:xfrm>
            <a:off x="623880" y="479520"/>
            <a:ext cx="7939080" cy="8776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Рисунок11.png"/>
          <p:cNvPicPr/>
          <p:nvPr/>
        </p:nvPicPr>
        <p:blipFill>
          <a:blip r:embed="rId3"/>
          <a:stretch/>
        </p:blipFill>
        <p:spPr>
          <a:xfrm>
            <a:off x="258840" y="1293840"/>
            <a:ext cx="8607240" cy="27241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Рисунок12.png"/>
          <p:cNvPicPr/>
          <p:nvPr/>
        </p:nvPicPr>
        <p:blipFill>
          <a:blip r:embed="rId4"/>
          <a:stretch/>
        </p:blipFill>
        <p:spPr>
          <a:xfrm>
            <a:off x="295200" y="3713040"/>
            <a:ext cx="5765760" cy="160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595440" y="1782720"/>
            <a:ext cx="806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Изменения в обществе после 199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Отказ от монопольного положения КП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Закрепление принципа разделения в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ведение института президен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Распад СССР и преобразование ряда автоном-</a:t>
            </a:r>
            <a:br>
              <a:rPr sz="2400"/>
            </a:b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ных областей в автономные республики – субъекты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Рисунок13.png"/>
          <p:cNvPicPr/>
          <p:nvPr/>
        </p:nvPicPr>
        <p:blipFill>
          <a:blip r:embed="rId1"/>
          <a:srcRect l="2786" t="11129" r="2444" b="0"/>
          <a:stretch/>
        </p:blipFill>
        <p:spPr>
          <a:xfrm>
            <a:off x="550800" y="493560"/>
            <a:ext cx="8070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4" descr="Рисунок15.png"/>
          <p:cNvPicPr/>
          <p:nvPr/>
        </p:nvPicPr>
        <p:blipFill>
          <a:blip r:embed="rId1"/>
          <a:srcRect l="11700" t="29323" r="11887" b="0"/>
          <a:stretch/>
        </p:blipFill>
        <p:spPr>
          <a:xfrm>
            <a:off x="1625760" y="465120"/>
            <a:ext cx="5878440" cy="7063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Рисунок16.png"/>
          <p:cNvPicPr/>
          <p:nvPr/>
        </p:nvPicPr>
        <p:blipFill>
          <a:blip r:embed="rId2"/>
          <a:stretch/>
        </p:blipFill>
        <p:spPr>
          <a:xfrm>
            <a:off x="257040" y="1122480"/>
            <a:ext cx="8629920" cy="461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7487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 – 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 – 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 – 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 – 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 – 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 – 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 – 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 – 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 – 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5" descr="Рисунок17.png"/>
          <p:cNvPicPr/>
          <p:nvPr/>
        </p:nvPicPr>
        <p:blipFill>
          <a:blip r:embed="rId1"/>
          <a:srcRect l="3676" t="30563" r="3506" b="0"/>
          <a:stretch/>
        </p:blipFill>
        <p:spPr>
          <a:xfrm>
            <a:off x="638280" y="566640"/>
            <a:ext cx="7881840" cy="63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82160"/>
            <a:ext cx="86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В Преамбуле характеризуются условия и цели принятия Конституции Р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5800" y="1252440"/>
            <a:ext cx="881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Мы, многонациональный народ Российской Федерации,      соединенные общей судьбой на своей земле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утверждая права и свободы человека, гражданский мир и согласие,      сохраняя исторически сложившееся государственное единство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исходя из общепризнанных принципов равноправия и самоопределения народов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чтя память предков, передавших нам любовь и уважение к Отечеству, веру в добро и справедливость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возрождая суверенную государственность России и утверждая незыблемость ее демократической основы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стремясь обеспечить благополучие и процветание России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исходя из ответственности за свою Родину перед нынешним и будущими поколениями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сознавая себя частью мирового сообщества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02a51"/>
                </a:solidFill>
                <a:latin typeface="Arial"/>
              </a:rPr>
              <a:t>принимаем КОНСТИТУЦИЮ РОССИЙСКОЙ ФЕДЕР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5" descr="Рисунок18.png"/>
          <p:cNvPicPr/>
          <p:nvPr/>
        </p:nvPicPr>
        <p:blipFill>
          <a:blip r:embed="rId1"/>
          <a:srcRect l="5106" t="28757" r="5106" b="0"/>
          <a:stretch/>
        </p:blipFill>
        <p:spPr>
          <a:xfrm>
            <a:off x="1278000" y="566640"/>
            <a:ext cx="6588000" cy="790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Рисунок19.png"/>
          <p:cNvPicPr/>
          <p:nvPr/>
        </p:nvPicPr>
        <p:blipFill>
          <a:blip r:embed="rId2"/>
          <a:stretch/>
        </p:blipFill>
        <p:spPr>
          <a:xfrm>
            <a:off x="347760" y="1512720"/>
            <a:ext cx="8448480" cy="34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609480" y="1709640"/>
            <a:ext cx="806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Федеративное устройство нашего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Систему и полномочия законодательной, исполнительной и судебн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3592440" y="5005440"/>
            <a:ext cx="52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202a51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орядок внесения поправок и изменений в Конституцию и ее пере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6" descr="Рисунок20.png"/>
          <p:cNvPicPr/>
          <p:nvPr/>
        </p:nvPicPr>
        <p:blipFill>
          <a:blip r:embed="rId1"/>
          <a:srcRect l="3573" t="10114" r="4454" b="0"/>
          <a:stretch/>
        </p:blipFill>
        <p:spPr>
          <a:xfrm>
            <a:off x="739800" y="203040"/>
            <a:ext cx="75913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"/>
          <p:cNvSpPr/>
          <p:nvPr/>
        </p:nvSpPr>
        <p:spPr>
          <a:xfrm>
            <a:off x="331920" y="790560"/>
            <a:ext cx="85723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00000"/>
                </a:solidFill>
                <a:latin typeface="Georgia"/>
              </a:rPr>
              <a:t>Главная книга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00000"/>
                </a:solidFill>
                <a:latin typeface="Georgia"/>
              </a:rPr>
              <a:t>государств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01680" y="288432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ституции Российской Федерац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2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2"/>
          <p:cNvSpPr/>
          <p:nvPr/>
        </p:nvSpPr>
        <p:spPr>
          <a:xfrm>
            <a:off x="754200" y="23065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легитимность, реальность, верховенство, стабильность, преемственность, </a:t>
            </a:r>
            <a:br>
              <a:rPr sz="2400"/>
            </a:b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рямое действие, основа прав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2" descr="Рисунок21.png"/>
          <p:cNvPicPr/>
          <p:nvPr/>
        </p:nvPicPr>
        <p:blipFill>
          <a:blip r:embed="rId1"/>
          <a:srcRect l="3120" t="7106" r="4537" b="0"/>
          <a:stretch/>
        </p:blipFill>
        <p:spPr>
          <a:xfrm>
            <a:off x="725400" y="318960"/>
            <a:ext cx="7577280" cy="192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754200" y="23065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легитимность, реальность, верховенство, стабильность, преемственность, </a:t>
            </a:r>
            <a:br>
              <a:rPr sz="2400"/>
            </a:b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рямое действие, основа прав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12" descr="Рисунок21.png"/>
          <p:cNvPicPr/>
          <p:nvPr/>
        </p:nvPicPr>
        <p:blipFill>
          <a:blip r:embed="rId1"/>
          <a:srcRect l="3120" t="7106" r="4537" b="0"/>
          <a:stretch/>
        </p:blipFill>
        <p:spPr>
          <a:xfrm>
            <a:off x="725400" y="318960"/>
            <a:ext cx="7577280" cy="1925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3" descr="Рисунок22.png"/>
          <p:cNvPicPr/>
          <p:nvPr/>
        </p:nvPicPr>
        <p:blipFill>
          <a:blip r:embed="rId2"/>
          <a:stretch/>
        </p:blipFill>
        <p:spPr>
          <a:xfrm>
            <a:off x="636480" y="2668680"/>
            <a:ext cx="78710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754200" y="23065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легитимность, реальность, верховенство, стабильность, преемственность, </a:t>
            </a:r>
            <a:br>
              <a:rPr sz="2400"/>
            </a:b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рямое действие, основа прав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3" descr="Рисунок21.png"/>
          <p:cNvPicPr/>
          <p:nvPr/>
        </p:nvPicPr>
        <p:blipFill>
          <a:blip r:embed="rId1"/>
          <a:srcRect l="3120" t="7106" r="4537" b="0"/>
          <a:stretch/>
        </p:blipFill>
        <p:spPr>
          <a:xfrm>
            <a:off x="725400" y="318960"/>
            <a:ext cx="7577280" cy="1925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Рисунок23.png"/>
          <p:cNvPicPr/>
          <p:nvPr/>
        </p:nvPicPr>
        <p:blipFill>
          <a:blip r:embed="rId2"/>
          <a:stretch/>
        </p:blipFill>
        <p:spPr>
          <a:xfrm>
            <a:off x="631800" y="2692440"/>
            <a:ext cx="799632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754200" y="23065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легитимность, реальность, верховенство, стабильность, преемственность, </a:t>
            </a:r>
            <a:br>
              <a:rPr sz="2400"/>
            </a:b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рямое действие, основа прав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3" descr="Рисунок21.png"/>
          <p:cNvPicPr/>
          <p:nvPr/>
        </p:nvPicPr>
        <p:blipFill>
          <a:blip r:embed="rId1"/>
          <a:srcRect l="3120" t="7106" r="4537" b="0"/>
          <a:stretch/>
        </p:blipFill>
        <p:spPr>
          <a:xfrm>
            <a:off x="725400" y="318960"/>
            <a:ext cx="7577280" cy="19256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4" descr="Рисунок24.png"/>
          <p:cNvPicPr/>
          <p:nvPr/>
        </p:nvPicPr>
        <p:blipFill>
          <a:blip r:embed="rId2"/>
          <a:stretch/>
        </p:blipFill>
        <p:spPr>
          <a:xfrm>
            <a:off x="587520" y="2664000"/>
            <a:ext cx="7997760" cy="27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"/>
          <p:cNvSpPr/>
          <p:nvPr/>
        </p:nvSpPr>
        <p:spPr>
          <a:xfrm>
            <a:off x="754200" y="23065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легитимность, реальность, верховенство, стабильность, преемственность, </a:t>
            </a:r>
            <a:br>
              <a:rPr sz="2400"/>
            </a:b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рямое действие, основа прав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2" descr="Рисунок21.png"/>
          <p:cNvPicPr/>
          <p:nvPr/>
        </p:nvPicPr>
        <p:blipFill>
          <a:blip r:embed="rId1"/>
          <a:srcRect l="3120" t="7106" r="4537" b="0"/>
          <a:stretch/>
        </p:blipFill>
        <p:spPr>
          <a:xfrm>
            <a:off x="725400" y="318960"/>
            <a:ext cx="7577280" cy="1925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3" descr="Рисунок25.png"/>
          <p:cNvPicPr/>
          <p:nvPr/>
        </p:nvPicPr>
        <p:blipFill>
          <a:blip r:embed="rId2"/>
          <a:stretch/>
        </p:blipFill>
        <p:spPr>
          <a:xfrm>
            <a:off x="558720" y="3067200"/>
            <a:ext cx="8026560" cy="252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2"/>
          <p:cNvSpPr/>
          <p:nvPr/>
        </p:nvSpPr>
        <p:spPr>
          <a:xfrm>
            <a:off x="754200" y="23065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легитимность, реальность, верховенство, стабильность, преемственность, </a:t>
            </a:r>
            <a:br>
              <a:rPr sz="2400"/>
            </a:b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рямое действие, основа прав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2" descr="Рисунок21.png"/>
          <p:cNvPicPr/>
          <p:nvPr/>
        </p:nvPicPr>
        <p:blipFill>
          <a:blip r:embed="rId1"/>
          <a:srcRect l="3120" t="7106" r="4537" b="0"/>
          <a:stretch/>
        </p:blipFill>
        <p:spPr>
          <a:xfrm>
            <a:off x="725400" y="318960"/>
            <a:ext cx="7577280" cy="1925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3" descr="Рисунок26.png"/>
          <p:cNvPicPr/>
          <p:nvPr/>
        </p:nvPicPr>
        <p:blipFill>
          <a:blip r:embed="rId2"/>
          <a:stretch/>
        </p:blipFill>
        <p:spPr>
          <a:xfrm>
            <a:off x="487440" y="3063960"/>
            <a:ext cx="8169120" cy="267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54200" y="23065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легитимность, реальность, верховенство, стабильность, преемственность, </a:t>
            </a:r>
            <a:br>
              <a:rPr sz="2400"/>
            </a:b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рямое действие, основа прав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12" descr="Рисунок21.png"/>
          <p:cNvPicPr/>
          <p:nvPr/>
        </p:nvPicPr>
        <p:blipFill>
          <a:blip r:embed="rId1"/>
          <a:srcRect l="3120" t="7106" r="4537" b="0"/>
          <a:stretch/>
        </p:blipFill>
        <p:spPr>
          <a:xfrm>
            <a:off x="725400" y="318960"/>
            <a:ext cx="7577280" cy="1925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Рисунок27.png"/>
          <p:cNvPicPr/>
          <p:nvPr/>
        </p:nvPicPr>
        <p:blipFill>
          <a:blip r:embed="rId2"/>
          <a:stretch/>
        </p:blipFill>
        <p:spPr>
          <a:xfrm>
            <a:off x="436680" y="3459240"/>
            <a:ext cx="827064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2"/>
          <p:cNvSpPr/>
          <p:nvPr/>
        </p:nvSpPr>
        <p:spPr>
          <a:xfrm>
            <a:off x="754200" y="23065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легитимность, реальность, верховенство, стабильность, преемственность, </a:t>
            </a:r>
            <a:br>
              <a:rPr sz="2400"/>
            </a:b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рямое действие, основа прав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12" descr="Рисунок21.png"/>
          <p:cNvPicPr/>
          <p:nvPr/>
        </p:nvPicPr>
        <p:blipFill>
          <a:blip r:embed="rId1"/>
          <a:srcRect l="3120" t="7106" r="4537" b="0"/>
          <a:stretch/>
        </p:blipFill>
        <p:spPr>
          <a:xfrm>
            <a:off x="725400" y="318960"/>
            <a:ext cx="7577280" cy="1925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3" descr="Рисунок28.png"/>
          <p:cNvPicPr/>
          <p:nvPr/>
        </p:nvPicPr>
        <p:blipFill>
          <a:blip r:embed="rId2"/>
          <a:stretch/>
        </p:blipFill>
        <p:spPr>
          <a:xfrm>
            <a:off x="290520" y="3425760"/>
            <a:ext cx="8562960" cy="160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3960" y="2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сновы конституционного строя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Documents and Settings\Elena\Desktop\20 лет Конституция\фон.gif"/>
          <p:cNvPicPr/>
          <p:nvPr/>
        </p:nvPicPr>
        <p:blipFill>
          <a:blip r:embed="rId1"/>
          <a:stretch/>
        </p:blipFill>
        <p:spPr>
          <a:xfrm>
            <a:off x="2349360" y="1157400"/>
            <a:ext cx="4199040" cy="25826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598320" y="3614760"/>
            <a:ext cx="79297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02a51"/>
                </a:solidFill>
                <a:latin typeface="Arial"/>
              </a:rPr>
              <a:t>Российская Федерация – Росс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2a51"/>
                </a:solidFill>
                <a:latin typeface="Arial"/>
              </a:rPr>
              <a:t>есть демократическое федеративное правовое государство с республиканской формой правлен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2a51"/>
                </a:solidFill>
                <a:latin typeface="Arial"/>
              </a:rPr>
              <a:t>Статья 1 Конституции РФ</a:t>
            </a:r>
            <a:r>
              <a:rPr b="0" lang="ru-RU" sz="20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сшая ценность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64600" y="11620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75"/>
              </a:spcBef>
              <a:buClr>
                <a:srgbClr val="202a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02a51"/>
                </a:solidFill>
                <a:latin typeface="Arial"/>
              </a:rPr>
              <a:t>Человек, его права и свободы – высшая ценность государст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75"/>
              </a:spcBef>
              <a:buClr>
                <a:srgbClr val="202a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02a51"/>
                </a:solidFill>
                <a:latin typeface="Arial"/>
              </a:rPr>
              <a:t>Российская Федерация – социальное государство, политика которого направлена на создание условий для достойной жизни и свободного развит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02a51"/>
                </a:solidFill>
                <a:latin typeface="Arial"/>
              </a:rPr>
              <a:t>Статья 7 Конституции РФ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Что такое Кон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2240" y="13906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799"/>
              </a:spcBef>
              <a:buClr>
                <a:srgbClr val="202a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Конституция (от лат. с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onstitution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 – устанавливаю) – это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ой закон государства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обладающий высшей  юридическ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400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400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 люди равны перед законом, и каждого из нас защищает государство через по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5" descr="Рисунок29.png"/>
          <p:cNvPicPr/>
          <p:nvPr/>
        </p:nvPicPr>
        <p:blipFill>
          <a:blip r:embed="rId1"/>
          <a:srcRect l="14823" t="31837" r="15019" b="0"/>
          <a:stretch/>
        </p:blipFill>
        <p:spPr>
          <a:xfrm>
            <a:off x="1930320" y="550800"/>
            <a:ext cx="5268960" cy="83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1428840"/>
            <a:ext cx="837108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5" descr="Рисунок30.png"/>
          <p:cNvPicPr/>
          <p:nvPr/>
        </p:nvPicPr>
        <p:blipFill>
          <a:blip r:embed="rId1"/>
          <a:srcRect l="9828" t="21116" r="9828" b="7442"/>
          <a:stretch/>
        </p:blipFill>
        <p:spPr>
          <a:xfrm>
            <a:off x="1379520" y="420840"/>
            <a:ext cx="6384960" cy="871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оссия – федеративное государ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0400" y="11984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Федерация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– это форма национально-государственного устройств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202a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Россия состоит из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равноправных субъектов 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Федерации – республик, краев, областей, городов федерального зна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202a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Россия имеет государственную целостность, т. е. она как государство едина и неделим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202a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Конституция РФ и федеральные законы имеют верховенство на всей территории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зидент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095720" y="1371600"/>
            <a:ext cx="4743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и являетс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лавой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–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арант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РФ, прав и свобод человека и гражда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Ф избирается гражданами России сроком н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6 лет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0" y="4084560"/>
            <a:ext cx="414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a51"/>
                </a:solidFill>
                <a:latin typeface="Arial"/>
              </a:rPr>
              <a:t>В. В. Путин –                                     </a:t>
            </a:r>
            <a:r>
              <a:rPr b="1" lang="ru-RU" sz="1600" spc="-1" strike="noStrike">
                <a:solidFill>
                  <a:srgbClr val="202a51"/>
                </a:solidFill>
                <a:latin typeface="Arial"/>
              </a:rPr>
              <a:t>ныне действующий Президент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a51"/>
                </a:solidFill>
                <a:latin typeface="Arial"/>
              </a:rPr>
              <a:t>Сайт Президента -  </a:t>
            </a:r>
            <a:r>
              <a:rPr b="0" lang="en-US" sz="1800" spc="-1" strike="noStrike" u="sng">
                <a:solidFill>
                  <a:srgbClr val="6379ce"/>
                </a:solidFill>
                <a:uFillTx/>
                <a:latin typeface="Arial"/>
                <a:hlinkClick r:id="rId1"/>
              </a:rPr>
              <a:t>http://www.kremlin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C:\Documents and Settings\Elena\Desktop\През.jpg"/>
          <p:cNvPicPr/>
          <p:nvPr/>
        </p:nvPicPr>
        <p:blipFill>
          <a:blip r:embed="rId2"/>
          <a:stretch/>
        </p:blipFill>
        <p:spPr>
          <a:xfrm>
            <a:off x="719280" y="871560"/>
            <a:ext cx="2143080" cy="317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91600" y="3207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02a51"/>
                </a:solidFill>
                <a:latin typeface="Arial"/>
              </a:rPr>
              <a:t>Соблюдение Конституции Российской Федерации  обеспечивает возможность  каждому человеку в стране жить свободно и уверенно  в завтрашнем д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7720" y="731880"/>
            <a:ext cx="821376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ервые конституционные проекты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02a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«Введение к уложению государственных законов» (План всеобщего государственного образования)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. М. Сперанского </a:t>
            </a: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(1809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02a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«Государственная уставная грамота Российской империи»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. Н. Новосильцева </a:t>
            </a: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(18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D:\Мои документы\Загрузки\ММСперанский.jpg"/>
          <p:cNvPicPr/>
          <p:nvPr/>
        </p:nvPicPr>
        <p:blipFill>
          <a:blip r:embed="rId1"/>
          <a:stretch/>
        </p:blipFill>
        <p:spPr>
          <a:xfrm>
            <a:off x="285840" y="1500120"/>
            <a:ext cx="1996920" cy="2500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:\Мои документы\Загрузки\Новосильцев.jpg"/>
          <p:cNvPicPr/>
          <p:nvPr/>
        </p:nvPicPr>
        <p:blipFill>
          <a:blip r:embed="rId2"/>
          <a:stretch/>
        </p:blipFill>
        <p:spPr>
          <a:xfrm>
            <a:off x="2747880" y="3009960"/>
            <a:ext cx="1876680" cy="23572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214200" y="407196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2a51"/>
                </a:solidFill>
                <a:latin typeface="Georgia"/>
              </a:rPr>
              <a:t>М. М. Сперанский (1772 – 183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 flipV="1" rot="10800000">
            <a:off x="2709360" y="54946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2a51"/>
                </a:solidFill>
                <a:latin typeface="Georgia"/>
              </a:rPr>
              <a:t>Н. Н. Новосильцев (1761 – 18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нституционные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екты декабр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«Русская правда»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.И. Пестел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нституционный проект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.М. Муравьёва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75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02a51"/>
                </a:solidFill>
                <a:latin typeface="Arial"/>
              </a:rPr>
              <a:t>«Манифест                              к русскому народу»                 Северного общест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Elena\Desktop\Пестель.jpg"/>
          <p:cNvPicPr/>
          <p:nvPr/>
        </p:nvPicPr>
        <p:blipFill>
          <a:blip r:embed="rId1"/>
          <a:stretch/>
        </p:blipFill>
        <p:spPr>
          <a:xfrm>
            <a:off x="357120" y="1387440"/>
            <a:ext cx="2021040" cy="257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Elena\Desktop\Муравьев.jpg"/>
          <p:cNvPicPr/>
          <p:nvPr/>
        </p:nvPicPr>
        <p:blipFill>
          <a:blip r:embed="rId2"/>
          <a:stretch/>
        </p:blipFill>
        <p:spPr>
          <a:xfrm>
            <a:off x="2658960" y="2301840"/>
            <a:ext cx="1954440" cy="26431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366840" y="4149720"/>
            <a:ext cx="192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2a51"/>
                </a:solidFill>
                <a:latin typeface="Georgia"/>
              </a:rPr>
              <a:t>П. И. Пес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2a51"/>
                </a:solidFill>
                <a:latin typeface="Georgia"/>
              </a:rPr>
              <a:t>(1793 – 182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649600" y="50180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2a51"/>
                </a:solidFill>
                <a:latin typeface="Georgia"/>
              </a:rPr>
              <a:t>Н. М. Муравь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2a51"/>
                </a:solidFill>
                <a:latin typeface="Georgia"/>
              </a:rPr>
              <a:t>(1795 – 184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32240" y="1273320"/>
            <a:ext cx="661176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5 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7 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8 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5" descr="Рисунок4.png"/>
          <p:cNvPicPr/>
          <p:nvPr/>
        </p:nvPicPr>
        <p:blipFill>
          <a:blip r:embed="rId1"/>
          <a:srcRect l="12064" t="15892" r="12064" b="0"/>
          <a:stretch/>
        </p:blipFill>
        <p:spPr>
          <a:xfrm>
            <a:off x="438120" y="0"/>
            <a:ext cx="8120160" cy="122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Государственный герб СССР"/>
          <p:cNvPicPr/>
          <p:nvPr/>
        </p:nvPicPr>
        <p:blipFill>
          <a:blip r:embed="rId2"/>
          <a:stretch/>
        </p:blipFill>
        <p:spPr>
          <a:xfrm>
            <a:off x="195120" y="1077840"/>
            <a:ext cx="1690920" cy="1733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399960" y="2870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ерб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Герб РСФСР"/>
          <p:cNvPicPr/>
          <p:nvPr/>
        </p:nvPicPr>
        <p:blipFill>
          <a:blip r:embed="rId3"/>
          <a:stretch/>
        </p:blipFill>
        <p:spPr>
          <a:xfrm>
            <a:off x="231840" y="3214800"/>
            <a:ext cx="1619280" cy="17319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7"/>
          <p:cNvSpPr/>
          <p:nvPr/>
        </p:nvSpPr>
        <p:spPr>
          <a:xfrm>
            <a:off x="313200" y="498168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ерб 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108240" y="1006560"/>
            <a:ext cx="573408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10 июля 1918 года на Пятом Всероссийском съезде Советов была принят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ервая конституция РСФСР –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оссийской Социалистической Федеративной Советской Республ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,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на утратила силу в связи с принятием 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49120" y="1328760"/>
            <a:ext cx="2540160" cy="3706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Рисунок5.png"/>
          <p:cNvPicPr/>
          <p:nvPr/>
        </p:nvPicPr>
        <p:blipFill>
          <a:blip r:embed="rId2"/>
          <a:stretch/>
        </p:blipFill>
        <p:spPr>
          <a:xfrm>
            <a:off x="330120" y="0"/>
            <a:ext cx="852012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26680" y="26395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В 1922 году I съезд Советов СССР утвердил 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 1924 года. Конституция была единогласно принята II съездом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ussr"/>
          <p:cNvPicPr/>
          <p:nvPr/>
        </p:nvPicPr>
        <p:blipFill>
          <a:blip r:embed="rId1"/>
          <a:stretch/>
        </p:blipFill>
        <p:spPr>
          <a:xfrm>
            <a:off x="6505560" y="230040"/>
            <a:ext cx="2262240" cy="231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Рисунок6.png"/>
          <p:cNvPicPr/>
          <p:nvPr/>
        </p:nvPicPr>
        <p:blipFill>
          <a:blip r:embed="rId2"/>
          <a:srcRect l="4484" t="16022" r="6173" b="0"/>
          <a:stretch/>
        </p:blipFill>
        <p:spPr>
          <a:xfrm>
            <a:off x="363600" y="522360"/>
            <a:ext cx="615312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школа</dc:creator>
  <dc:description/>
  <dc:language>en-US</dc:language>
  <cp:lastModifiedBy>Елена</cp:lastModifiedBy>
  <dcterms:modified xsi:type="dcterms:W3CDTF">2013-10-03T19:42:22Z</dcterms:modified>
  <cp:revision>61</cp:revision>
  <dc:subject/>
  <dc:title>20 лет Конституции России</dc:title>
</cp:coreProperties>
</file>