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A2D-666F-47CB-9345-9F498036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0CC-A720-421E-BE83-7DD326C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3A3-89FB-4095-BE57-68D452CD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CD5-53F9-4FD0-AF9C-1598BF63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E40-2F1B-4D6A-8A10-DD7BAB8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925-DFC4-4A49-9987-15AC595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216-9DE1-474E-B3F9-34D0323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119-A282-443E-9E61-45C9A07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268-EBA4-46A9-88A9-27834A2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3E1-DA65-49C0-87E7-BC22420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067-9A6F-4C5E-B8EC-08CBB6E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98F-6552-47D7-A962-0A3BC045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4DD-B8A4-4EBD-A634-1184B2CA0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4" descr=""/>
          <p:cNvPicPr/>
          <p:nvPr/>
        </p:nvPicPr>
        <p:blipFill>
          <a:blip r:embed="rId1"/>
          <a:stretch/>
        </p:blipFill>
        <p:spPr>
          <a:xfrm>
            <a:off x="1298520" y="1859040"/>
            <a:ext cx="6431040" cy="2878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64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 сидит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НАВЕТ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вышел на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У ЛИЦ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юшевого - плюше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го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вром - ко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р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, на лугах – на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гал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и -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с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, кричат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на - ве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, школа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ш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а, ноябрь - ноя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ь, дружно - дру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, Александр – Алексан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C:\Users\Альбина\AppData\Local\Microsoft\Windows\Temporary Internet Files\Content.IE5\PJ39GULV\MC900234160[1].wmf"/>
          <p:cNvPicPr/>
          <p:nvPr/>
        </p:nvPicPr>
        <p:blipFill>
          <a:blip r:embed="rId1"/>
          <a:stretch/>
        </p:blipFill>
        <p:spPr>
          <a:xfrm>
            <a:off x="6227640" y="476280"/>
            <a:ext cx="20354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грамма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а возникновения – недоразвитие грамматического строя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падежных оконч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употреблении предлогов, рода, чис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уск членов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последовательности слов в предложен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мысловых связей в предложении и между предлож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51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лята – коз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дерев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столом –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него –около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беж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Users\Альбина\AppData\Local\Microsoft\Windows\Temporary Internet Files\Content.IE5\UOCF2H08\MC900343351[1].wmf"/>
          <p:cNvPicPr/>
          <p:nvPr/>
        </p:nvPicPr>
        <p:blipFill>
          <a:blip r:embed="rId1"/>
          <a:stretch/>
        </p:blipFill>
        <p:spPr>
          <a:xfrm>
            <a:off x="6156360" y="1197000"/>
            <a:ext cx="17431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возникновения – несформированность зрительно-пространственны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букв, состоящего из одного количества одинаковых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и Ш, Ц и Ш, П и Т, А и М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похожих, но по-разному расположенных в пространстве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и Д, Б и Д, Ш и 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дописывание элементов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зеркальное» изображение бук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исывание элементов букв: «и» вместо «ш», «ш» вместо «щ», «л» вместо «м», «х» вместо «ж», «и» вместо «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ение лишних элементов «ш» вместо «и», четыре палочки у «ш» или «щ»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расположении элементов букв в пространстве по отношению друг к другу с возможными видоизменениями самих элементов «в» вместо «д», «б» вместо «д», включая сюда и зеркальное изображение бук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:\Users\Альбина\AppData\Local\Microsoft\Windows\Temporary Internet Files\Content.IE5\8QBL8FDI\MC900355143[1].wmf"/>
          <p:cNvPicPr/>
          <p:nvPr/>
        </p:nvPicPr>
        <p:blipFill>
          <a:blip r:embed="rId1"/>
          <a:stretch/>
        </p:blipFill>
        <p:spPr>
          <a:xfrm>
            <a:off x="1476360" y="665280"/>
            <a:ext cx="183024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шанная форма дис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формированность не одной, а сразу двух или нескольких операций письма, что значительно усложняет общую картину 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C:\Users\Альбина\AppData\Local\Microsoft\Windows\Temporary Internet Files\Content.IE5\HFH13X0M\MC900412390[1].wmf"/>
          <p:cNvPicPr/>
          <p:nvPr/>
        </p:nvPicPr>
        <p:blipFill>
          <a:blip r:embed="rId1"/>
          <a:stretch/>
        </p:blipFill>
        <p:spPr>
          <a:xfrm>
            <a:off x="539640" y="3429000"/>
            <a:ext cx="2217960" cy="1901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ути корр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ьное произношение всех звуков родного языка в словах и во фразовой ре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зрительного и слухового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звукового анализа и синтеза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грамматического строя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Управляющая кнопка: назад 3"/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128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128"/>
                </a:solidFill>
                <a:latin typeface="Arial"/>
              </a:rPr>
              <a:t>Виды дисгра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128"/>
                </a:solidFill>
                <a:latin typeface="Arial"/>
              </a:rPr>
              <a:t>Пути коррекции  и профил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пецифическое расстройство письменной речи, проявляющееся в многочисленных типичных ошибках стойкого харак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словлено несформированностью высших психических функций, участвующих в процессе овладения навыками письм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назад 3"/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1073160" y="1170000"/>
            <a:ext cx="714384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назад 3"/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Альбина\AppData\Local\Microsoft\Windows\Temporary Internet Files\Content.IE5\PJ39GULV\MC900432665[1].png"/>
          <p:cNvPicPr/>
          <p:nvPr/>
        </p:nvPicPr>
        <p:blipFill>
          <a:blip r:embed="rId2"/>
          <a:stretch/>
        </p:blipFill>
        <p:spPr>
          <a:xfrm>
            <a:off x="214200" y="586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Users\Альбина\AppData\Local\Microsoft\Windows\Temporary Internet Files\Content.IE5\8QBL8FDI\MC900232988[1].wmf"/>
          <p:cNvPicPr/>
          <p:nvPr/>
        </p:nvPicPr>
        <p:blipFill>
          <a:blip r:embed="rId3"/>
          <a:stretch/>
        </p:blipFill>
        <p:spPr>
          <a:xfrm>
            <a:off x="3627360" y="3429000"/>
            <a:ext cx="1844640" cy="183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ус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является нарушение дифференциации, распознавания близких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исьме проявляется в заменах букв, обозначающих свистящие и шипящие, звонкие и глухие, твердые и мягкие (б-п, д-т, з-с, в-ф, г-к, ж-ш, ц-с, ц-т, ч-щ, о-у е-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мена букв, соответствующих фонетически близким звука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истящие-шипящ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вонкие-глух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М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Д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правильное обозначении мягкости      согласных на письм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и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", "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ит", "бо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Альбина\AppData\Local\Microsoft\Windows\Temporary Internet Files\Content.IE5\PJ39GULV\MC900433868[1].png"/>
          <p:cNvPicPr/>
          <p:nvPr/>
        </p:nvPicPr>
        <p:blipFill>
          <a:blip r:embed="rId1"/>
          <a:stretch/>
        </p:blipFill>
        <p:spPr>
          <a:xfrm>
            <a:off x="7020000" y="404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тикуляторно-акустическая дис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вида нарушений является неправильное произношение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пишет слова так, как их произносит. Отражает дефектное произношение на пись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75120" y="1197000"/>
            <a:ext cx="6068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ребёнок говор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САР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ШАР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АК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РАК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чаще всего именно так он и пишет эт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Альбина\AppData\Local\Microsoft\Windows\Temporary Internet Files\Content.IE5\8QBL8FDI\MC900434719[1].png"/>
          <p:cNvPicPr/>
          <p:nvPr/>
        </p:nvPicPr>
        <p:blipFill>
          <a:blip r:embed="rId1"/>
          <a:stretch/>
        </p:blipFill>
        <p:spPr>
          <a:xfrm>
            <a:off x="38160" y="40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Альбина\AppData\Local\Microsoft\Windows\Temporary Internet Files\Content.IE5\HFH13X0M\MC900232962[1].wmf"/>
          <p:cNvPicPr/>
          <p:nvPr/>
        </p:nvPicPr>
        <p:blipFill>
          <a:blip r:embed="rId2"/>
          <a:stretch/>
        </p:blipFill>
        <p:spPr>
          <a:xfrm>
            <a:off x="2556000" y="517680"/>
            <a:ext cx="18936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сграфия на почве нарушений языкового анализа и син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а возникновения – затруднения при делении предложений на слова, слов на слоги, зву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со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и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я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, добавления, перестановки слог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ь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предлогов с другими слов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ьное написание приставки и кор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Альбина</cp:lastModifiedBy>
  <dcterms:modified xsi:type="dcterms:W3CDTF">2013-10-03T12:24:24Z</dcterms:modified>
  <cp:revision>43</cp:revision>
  <dc:subject/>
  <dc:title>Заголовок слайда</dc:title>
</cp:coreProperties>
</file>