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4C9-5C55-4350-8C5D-E1DA96F0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01F-42C8-4AEC-B5C7-DDD459D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DEB-A0ED-46F8-A5ED-D6D1536C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A3D-AC7A-48C8-A6E2-C091A32A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C2E-6CE6-4B67-AD4F-9C1CBEB9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3D6D-8436-46B3-B84D-B56E522B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C6AD-94CC-4A27-85B2-CD6C89CB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712A-9A6F-4727-B6B7-FB94BFC6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103A-B270-4FA5-9D65-48821F7A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E8EF-103F-4E2D-9730-FF5559A5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387B-0D8E-4FAF-B8BE-439B784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8C2-3BDB-4774-9260-C7931174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004-E4C6-491F-8E5B-010D967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3763-3329-4BBB-B78A-92E100F6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0E18-894A-45C0-BD9F-AFB2A29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B98-B839-4BEC-85D8-43711255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4109-AC0A-4867-90A1-FCDCCA30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024B-8870-47D0-A9FC-6D435EB9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DB89-6439-477D-99DB-6694533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533B-C8CA-45D4-84E9-1BD9B37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F404-C256-4AB4-A97C-F6B7E393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D23A-35CD-4E84-AEA9-29CFBACB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D11-7E85-409E-864D-597AB98B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8F09-D105-4B87-B969-3CA6C1B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2961-9842-4119-A16F-22DFE2C5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2239-DA53-434F-B28A-A75639D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4BDE-DCE7-47DD-8A5C-7837CEF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802B-C78E-461C-BDB7-2C5F303B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7EF9-B41D-41C7-865C-90ECA186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782C-6571-4319-8A57-8A0B44C1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6524-4DEB-4C1E-BB07-4905F646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1B99E-8CFC-410C-BF3E-B312D11A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750FA-FD37-41E7-A06D-18A9B334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D05-07C5-4032-8C21-9315FD86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2175-8DF0-448F-96F1-F722FEF8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2E10-6FE3-4769-9835-7E2636A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187B-9947-458B-861A-8C19A5E8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B1CA-7C0B-4E85-B154-5A44FFCF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AF06-372F-449B-ACC0-15A1E29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97E7-D91C-41B7-8B3D-6DB12D76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8B28-B4EF-49E3-B8BB-3D2CFFC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D030-9697-4B6C-89EB-6A12CA2D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79F1-E8C2-4BD1-AA48-3EE2B1C1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18523-75D2-4E78-B673-96CA874C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A36-4E1A-4AA7-84A5-63D2606E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A933-9C16-45AC-A7BA-56273DBA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E243-6CD9-42C5-9B7B-3D8DCF01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69E4D-6401-4A37-90C7-C9AAB4F4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0CD5-FF54-4663-876A-21DA8D27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4D4C-ACAA-4326-A0C7-EA54250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F16C-C5AE-40CB-B324-771315B3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16B4A-3585-42B9-9AE1-28A5BC4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7D96E-43FD-41CF-939D-9EADC4C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E543E-21A3-4CE3-8CD0-51CFD06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7DF4-E4A5-49F2-9E81-D90A5D50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3BE-00BE-408D-9E0C-A766FD09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CA0F-D6B7-4DC1-B0CD-0DB3E6E0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CE5-5FD1-4A16-B3DE-554F3DE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B3D-A978-402A-923C-1BF137D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D3C-9CCB-4EF7-8EFE-F5A7A48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2445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952B-414E-44BB-8E1B-89AF080948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2445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A49C-EFF8-4744-B607-52A150B69A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2445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CD9-94CD-4756-ABC2-2BE064151B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2445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D8AE-D850-4424-8DEE-6507EA157A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2445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7CAF-104A-4593-B14E-3C0B3B681BB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24456"/>
                </a:solidFill>
                <a:latin typeface="Cambria"/>
              </a:rPr>
              <a:t>Подготовила: ученица 11 класса «Б» МБОУ сош №30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24456"/>
                </a:solidFill>
                <a:latin typeface="Cambria"/>
              </a:rPr>
              <a:t>Тартачная Дарь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24456"/>
                </a:solidFill>
                <a:latin typeface="Cambria"/>
              </a:rPr>
              <a:t>Учитель: Кутоманова Е.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24456"/>
                </a:solidFill>
                <a:latin typeface="Cambria"/>
              </a:rPr>
              <a:t>2013 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омашняя работа по алгебре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914400" y="549360"/>
            <a:ext cx="77724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324000" cy="4096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371520" cy="447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3"/>
          <a:stretch/>
        </p:blipFill>
        <p:spPr>
          <a:xfrm>
            <a:off x="1332000" y="549360"/>
            <a:ext cx="1095120" cy="447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1098720" y="1484280"/>
            <a:ext cx="3309840" cy="1749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5"/>
          <a:stretch/>
        </p:blipFill>
        <p:spPr>
          <a:xfrm>
            <a:off x="826920" y="3645000"/>
            <a:ext cx="273060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26560" y="4797000"/>
            <a:ext cx="78598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ешений нет, т.к. график функции у=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ambria"/>
              </a:rPr>
              <a:t>х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расположен выше график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т: решений не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5357880" y="5253120"/>
            <a:ext cx="857160" cy="393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2"/>
          <a:stretch/>
        </p:blipFill>
        <p:spPr>
          <a:xfrm>
            <a:off x="1822320" y="115920"/>
            <a:ext cx="5673960" cy="468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№</a:t>
            </a: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57,17 а)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280" y="4220640"/>
            <a:ext cx="74883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усть         =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&gt;0,</a:t>
            </a:r>
            <a:r>
              <a:rPr b="0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тог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7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≤ 10,5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≤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т.к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&gt;1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то х≤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твет: х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≤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781440" cy="4190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4210200" cy="409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3819600" cy="4096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4"/>
          <a:stretch/>
        </p:blipFill>
        <p:spPr>
          <a:xfrm>
            <a:off x="826920" y="2060640"/>
            <a:ext cx="2372040" cy="752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5"/>
          <a:stretch/>
        </p:blipFill>
        <p:spPr>
          <a:xfrm>
            <a:off x="846000" y="2813040"/>
            <a:ext cx="2800440" cy="760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" descr=""/>
          <p:cNvPicPr/>
          <p:nvPr/>
        </p:nvPicPr>
        <p:blipFill>
          <a:blip r:embed="rId6"/>
          <a:stretch/>
        </p:blipFill>
        <p:spPr>
          <a:xfrm>
            <a:off x="1547640" y="4005360"/>
            <a:ext cx="457200" cy="576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"/>
          <p:cNvPicPr/>
          <p:nvPr/>
        </p:nvPicPr>
        <p:blipFill>
          <a:blip r:embed="rId7"/>
          <a:stretch/>
        </p:blipFill>
        <p:spPr>
          <a:xfrm>
            <a:off x="1476360" y="4869000"/>
            <a:ext cx="131760" cy="576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9" descr=""/>
          <p:cNvPicPr/>
          <p:nvPr/>
        </p:nvPicPr>
        <p:blipFill>
          <a:blip r:embed="rId8"/>
          <a:stretch/>
        </p:blipFill>
        <p:spPr>
          <a:xfrm>
            <a:off x="755640" y="5229360"/>
            <a:ext cx="1084320" cy="720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5" descr=""/>
          <p:cNvPicPr/>
          <p:nvPr/>
        </p:nvPicPr>
        <p:blipFill>
          <a:blip r:embed="rId9"/>
          <a:stretch/>
        </p:blipFill>
        <p:spPr>
          <a:xfrm>
            <a:off x="822240" y="3456000"/>
            <a:ext cx="1805040" cy="8301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5" descr=""/>
          <p:cNvPicPr/>
          <p:nvPr/>
        </p:nvPicPr>
        <p:blipFill>
          <a:blip r:embed="rId10"/>
          <a:stretch/>
        </p:blipFill>
        <p:spPr>
          <a:xfrm>
            <a:off x="2500200" y="5429160"/>
            <a:ext cx="171720" cy="7430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40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б)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5280" y="3933360"/>
            <a:ext cx="82915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усть        =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, 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0,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тог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у ≥ 2,8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у ≥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≥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т.к 0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&lt;     &lt;1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о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≤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твет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x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≤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629160" cy="419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4000320" cy="4093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2952720" cy="8762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2857320" cy="7905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1" descr=""/>
          <p:cNvPicPr/>
          <p:nvPr/>
        </p:nvPicPr>
        <p:blipFill>
          <a:blip r:embed="rId5"/>
          <a:stretch/>
        </p:blipFill>
        <p:spPr>
          <a:xfrm>
            <a:off x="1403280" y="3716280"/>
            <a:ext cx="628560" cy="7905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6"/>
          <a:stretch/>
        </p:blipFill>
        <p:spPr>
          <a:xfrm>
            <a:off x="684360" y="3068640"/>
            <a:ext cx="1647720" cy="7905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"/>
          <p:cNvPicPr/>
          <p:nvPr/>
        </p:nvPicPr>
        <p:blipFill>
          <a:blip r:embed="rId7"/>
          <a:stretch/>
        </p:blipFill>
        <p:spPr>
          <a:xfrm>
            <a:off x="1042920" y="4797360"/>
            <a:ext cx="17136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1" descr=""/>
          <p:cNvPicPr/>
          <p:nvPr/>
        </p:nvPicPr>
        <p:blipFill>
          <a:blip r:embed="rId8"/>
          <a:stretch/>
        </p:blipFill>
        <p:spPr>
          <a:xfrm>
            <a:off x="426960" y="5300640"/>
            <a:ext cx="514440" cy="649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"/>
          <p:cNvPicPr/>
          <p:nvPr/>
        </p:nvPicPr>
        <p:blipFill>
          <a:blip r:embed="rId9"/>
          <a:stretch/>
        </p:blipFill>
        <p:spPr>
          <a:xfrm>
            <a:off x="1258920" y="5373720"/>
            <a:ext cx="150840" cy="64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"/>
          <p:cNvPicPr/>
          <p:nvPr/>
        </p:nvPicPr>
        <p:blipFill>
          <a:blip r:embed="rId10"/>
          <a:stretch/>
        </p:blipFill>
        <p:spPr>
          <a:xfrm>
            <a:off x="2643120" y="5214960"/>
            <a:ext cx="1713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1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1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1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1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1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1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1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1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1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57.23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4000" y="836640"/>
            <a:ext cx="8002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2000160" cy="4096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24000" cy="409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5076720" y="3716280"/>
            <a:ext cx="1276560" cy="409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"/>
          <p:cNvPicPr/>
          <p:nvPr/>
        </p:nvPicPr>
        <p:blipFill>
          <a:blip r:embed="rId4"/>
          <a:stretch/>
        </p:blipFill>
        <p:spPr>
          <a:xfrm>
            <a:off x="593640" y="1747800"/>
            <a:ext cx="3835440" cy="1968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"/>
          <p:cNvPicPr/>
          <p:nvPr/>
        </p:nvPicPr>
        <p:blipFill>
          <a:blip r:embed="rId5"/>
          <a:stretch/>
        </p:blipFill>
        <p:spPr>
          <a:xfrm>
            <a:off x="593640" y="4340160"/>
            <a:ext cx="2359080" cy="1811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24000" y="4869000"/>
            <a:ext cx="8362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фик функций у =      расположен выше графика функции у =                   на (2;∞) и имеет с ним общую точку при х = 2 , т. е х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2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твет: х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324000" cy="409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2"/>
          <a:stretch/>
        </p:blipFill>
        <p:spPr>
          <a:xfrm>
            <a:off x="2556000" y="5300640"/>
            <a:ext cx="1276200" cy="409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3"/>
          <a:stretch/>
        </p:blipFill>
        <p:spPr>
          <a:xfrm>
            <a:off x="1835280" y="115920"/>
            <a:ext cx="5553000" cy="4825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14400" y="549360"/>
            <a:ext cx="77724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1095480" cy="4478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24000" cy="4096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4"/>
          <a:stretch/>
        </p:blipFill>
        <p:spPr>
          <a:xfrm>
            <a:off x="1116000" y="1390680"/>
            <a:ext cx="3311640" cy="1751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"/>
          <p:cNvPicPr/>
          <p:nvPr/>
        </p:nvPicPr>
        <p:blipFill>
          <a:blip r:embed="rId5"/>
          <a:stretch/>
        </p:blipFill>
        <p:spPr>
          <a:xfrm>
            <a:off x="900000" y="3716280"/>
            <a:ext cx="2735280" cy="1808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4920" y="5157360"/>
            <a:ext cx="82882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фик функций у =       расположен выше графика функции у =     на [0;∞) , т. е х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≥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0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твет: х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≥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3564000" y="5229360"/>
            <a:ext cx="323640" cy="409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tretch/>
        </p:blipFill>
        <p:spPr>
          <a:xfrm>
            <a:off x="2556000" y="558972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1619280" y="115920"/>
            <a:ext cx="5977080" cy="50212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4000" y="836640"/>
            <a:ext cx="8002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Рассмотрим функцию у =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24000" cy="4096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1276560" cy="4096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2000520" cy="409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"/>
          <p:cNvPicPr/>
          <p:nvPr/>
        </p:nvPicPr>
        <p:blipFill>
          <a:blip r:embed="rId4"/>
          <a:stretch/>
        </p:blipFill>
        <p:spPr>
          <a:xfrm>
            <a:off x="468360" y="1751040"/>
            <a:ext cx="3835440" cy="1968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4" descr=""/>
          <p:cNvPicPr/>
          <p:nvPr/>
        </p:nvPicPr>
        <p:blipFill>
          <a:blip r:embed="rId5"/>
          <a:stretch/>
        </p:blipFill>
        <p:spPr>
          <a:xfrm>
            <a:off x="571680" y="4286160"/>
            <a:ext cx="2358720" cy="1811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50920" y="4723920"/>
            <a:ext cx="843264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фик функций у =                  расположен выше графика функции у =      на (-∞;2) и имеет с ним общую точку при х = 2 , т. е х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≤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2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твет: х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≤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3348000" y="4797360"/>
            <a:ext cx="1276560" cy="409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875040" y="5181480"/>
            <a:ext cx="324000" cy="409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"/>
          <p:cNvPicPr/>
          <p:nvPr/>
        </p:nvPicPr>
        <p:blipFill>
          <a:blip r:embed="rId3"/>
          <a:stretch/>
        </p:blipFill>
        <p:spPr>
          <a:xfrm>
            <a:off x="1798560" y="115920"/>
            <a:ext cx="5548320" cy="46814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оманова Е.М.</cp:lastModifiedBy>
  <dcterms:modified xsi:type="dcterms:W3CDTF">2013-02-05T13:05:05Z</dcterms:modified>
  <cp:revision>39</cp:revision>
  <dc:subject/>
  <dc:title>Домашняя работа по алгебре</dc:title>
</cp:coreProperties>
</file>