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2C0-5254-472B-9EC2-44D796B5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0D1-CAF0-4792-8571-282A1BE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A25-377D-4D1E-A82E-0C2E64B3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C7B-69FF-41AF-9A0E-84E24C74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8BA-04E0-487B-ACEA-8C61FDD5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F25-E172-4516-9CF2-238B794D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B45-5CB7-421E-9116-D8F2A87F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CF4-A2AC-41C8-819D-DFB87366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E46-BF5A-473E-B650-FF1AC063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266-AC10-4487-82EB-D7B4F2E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00B-CDB7-4481-88FA-316DCE4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2D8-0ED6-4A69-BF2A-B1620E2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7F3-9222-4CAE-BFCB-5D420068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698184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00000"/>
                </a:solidFill>
                <a:latin typeface="Comic Sans MS"/>
              </a:rPr>
              <a:t>ENGLISH IDIO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втор: Бобыле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тьяна Геннади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848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Я ВОРО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white cr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one unusual, extraordinary; not like others; an outsi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00000" y="3645000"/>
            <a:ext cx="3166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688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765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ТЬ НА СЕДЬМОМ НЕБ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be in the seventh heave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overfilled with joy, to be supremely happy or satis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64000" y="3885840"/>
            <a:ext cx="22320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968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765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ЛИТЬСЯ ИЗ РУ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fall out of one's han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hing doesn't go well because one is awkward, clumsy, doesn't feel like doing it, or doesn't have his heart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19280" y="3886200"/>
            <a:ext cx="2881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465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АДЫВАТЬ ДУШУ во что-либ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put one's soul into someth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ut all one's efforts into an undertaking; to do something whole-hearte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59280" y="2565000"/>
            <a:ext cx="2304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ЙТИ ИЗ СЕБ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come out of oneself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carried away by excitement; to lose control of oneself; to be wrought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03280" y="3284280"/>
            <a:ext cx="21603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4032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6:25:57Z</dcterms:created>
  <dc:creator>Татьяна</dc:creator>
  <dc:description/>
  <dc:language>en-US</dc:language>
  <cp:lastModifiedBy>Татьяна</cp:lastModifiedBy>
  <dcterms:modified xsi:type="dcterms:W3CDTF">2013-10-03T16:55:34Z</dcterms:modified>
  <cp:revision>3</cp:revision>
  <dc:subject/>
  <dc:title>Слайд 1</dc:title>
</cp:coreProperties>
</file>