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76B-53E4-440F-AC2D-C9EA39FC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1E7-45F0-4E07-9F87-CF444366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18B-243C-47C5-A6A1-D8D90DD7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D6B-AE86-474E-9CEE-052BC8FC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CE2-9470-488B-9091-32B04630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3B3-28AB-4C07-A0D7-73A95C2A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D66-7901-4A57-998C-BEE0C9BD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4A3-BB34-4484-AFF5-D85C9EE7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B66-E4FC-4E0D-981E-03C15CD5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987-1FFD-424B-B21A-6890A3D6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867-F1F0-4C66-BCA8-E422665E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C0E-0365-4123-A219-ED84C100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FA23-5904-49BD-8E1C-0E1617BA7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8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лилиния 3" descr=""/>
          <p:cNvPicPr/>
          <p:nvPr/>
        </p:nvPicPr>
        <p:blipFill>
          <a:blip r:embed="rId2"/>
          <a:stretch/>
        </p:blipFill>
        <p:spPr>
          <a:xfrm>
            <a:off x="-457200" y="974880"/>
            <a:ext cx="3359160" cy="1635120"/>
          </a:xfrm>
          <a:prstGeom prst="rect">
            <a:avLst/>
          </a:prstGeom>
          <a:ln w="0">
            <a:noFill/>
          </a:ln>
        </p:spPr>
      </p:pic>
      <p:pic>
        <p:nvPicPr>
          <p:cNvPr id="42" name="Полилиния 4" descr=""/>
          <p:cNvPicPr/>
          <p:nvPr/>
        </p:nvPicPr>
        <p:blipFill>
          <a:blip r:embed="rId3"/>
          <a:stretch/>
        </p:blipFill>
        <p:spPr>
          <a:xfrm>
            <a:off x="6083280" y="4479840"/>
            <a:ext cx="33354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8.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Назовите плод капусты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ручо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б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онти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в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орнеплод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г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уковиц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9.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Что называют застекленным уголком моря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аквариум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б) 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бассейн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в) 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стакан с водой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г)  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река подо льд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8120"/>
            <a:ext cx="83055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Молекула воды пишется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б) О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Н   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в) 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г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ffff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Что оставалось после разлива Нила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грязь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б)  ил  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в)  песо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г)  морская капуст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12.  Чем озеро отличается от моря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ничем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б)  всем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в)  стоком в океан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г)  притоком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609480" y="2341440"/>
            <a:ext cx="7772400" cy="225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:\мое\с флэшкис ф\6в класс\картинки\картинки на школьную тему\AMERI006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4724280"/>
            <a:ext cx="1619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1.  Что строили по берегам Нила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Дамб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б)  Мост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в)  Лестниц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г)  Опо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2.  Река в европейской части России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Нил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б) Амазонк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в)  Волг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г)  Анг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3.   К какому классу животных относят черепах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Земноводны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б) Млекопитающи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в)  Хищник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г)  Пресмыкающиес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4.   Как можно очистить воду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Замораживанием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б)  Активированным углем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в)  Переливанием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г) Кипячение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762120" y="841320"/>
            <a:ext cx="7772400" cy="248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мое\с флэшкис ф\6в класс\картинки\картинки на школьную тему\ANTN071.WMF"/>
          <p:cNvPicPr/>
          <p:nvPr/>
        </p:nvPicPr>
        <p:blipFill>
          <a:blip r:embed="rId2"/>
          <a:stretch/>
        </p:blipFill>
        <p:spPr>
          <a:xfrm>
            <a:off x="2209680" y="2895480"/>
            <a:ext cx="4672080" cy="35308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3"/>
          <a:stretch/>
        </p:blipFill>
        <p:spPr>
          <a:xfrm>
            <a:off x="2882880" y="255600"/>
            <a:ext cx="29275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5.  Крупнейшая ягода, на 90% состоящая из воды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Малин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б)  Арбуз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в)  Дын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г) Черн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6.   Золотое правило растворения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Подобное растворяет вс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б)  Подобное растворяет   подобно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в)  Подобное не растворяет подобно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г)   подобное растворяет природно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980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7.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акие реки относятся к Двуречью?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   А) Тигр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   б) Инд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   в)Ганг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    г) Евфрат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8.Какие водоемы называют искусственными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рек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б) озеро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в)канал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г)проли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636480" y="31590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9.   Где скорость крови набольшая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в аорт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б) в вен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в)  в капилляр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г)   в сосудах головного мозг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10. Какую воду употребляют в пищ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Чист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Структурирован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Кипяче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Газированну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1. Устройство, обеспечивающее дыхание человеку под вод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Ма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Аквала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Труб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Лас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2. На берегу этой реки стояла Вавилонская баш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Тиг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Евф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Н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Д) Дун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3. Кислотные дожди быва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в ле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в горных пещер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в крупных город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в пусты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4. Где сосредоточены максимальные ресурсы пресной во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ре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оз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лед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подземные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еред приготовлением каши крупу: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а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мываю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б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сеиваю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в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уша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г)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жариваю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5. Количество хромосом в клетках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6. Люди, купающиеся зим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тюл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мор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нер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морские ко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7. Норма приема воды в су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1 – 1,5 ли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2 – 2,5 ли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3 – 3,5 ли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4 – 4,5 ли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8. Великие китайские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Га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Меко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Хуанхэ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Янц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19.Какие волны не являются ветровым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Бр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Цу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При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Прил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0. Какое дыхание у лягуш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Одинар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Двой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Трой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Поверхност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1. В какой воде промывают круп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Горяч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Холод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Подогре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Кипяче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2. Водный стад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Бассей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Аквапар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ельфина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Ван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3. В водах какой реки был крещен Иисус Христо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Иор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Тиг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Евф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Ин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4. Кто изобрел акваланг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А) Дроз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Б) Аккенбор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В) Кус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Г) Архим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2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Вода является растворителем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еталлов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б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ксидов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в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жиров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г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исло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6. При какой температуре по шкале Цельсия наступает максимальная плотность во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+1 град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+2 град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+ 3 град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+ 4 град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7. В какой реке погиб Ермак Тимофеевич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666520"/>
            <a:ext cx="81532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Анг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Л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Енис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Ирты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8. Какая река в России считается самой «русской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А) Об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Б) Вол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В) Л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Г) Вазу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29. Что растворяет вода в мировом океа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Пес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Раков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Ры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0. Из какого стихотворения взяты строки: «Играют волны, ветер свищет, И мачта гнется и скрипит…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12372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Лис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Пар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Мо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Ку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1. Какое море раньше называлось Русски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51460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Чер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Бе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Крас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Желт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2. Река, которая стала для Некрасова род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895480"/>
            <a:ext cx="84582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Об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Вол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3. Максимальное количество воды используется 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Промышл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Отдыхе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Сельском хозяйст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Гиги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4. Макароны при варке засыпают в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Холодную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Горячую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Теплую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Кипящую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5. На берегах какой реки стоит первая столица Руси Кие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2361960"/>
            <a:ext cx="83818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ун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Моск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12372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3.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кие птицы спасли Рим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а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тк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б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ус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в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рон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г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ал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36. Эндемичные виды рыб оз.Байк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438280"/>
            <a:ext cx="83059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Ому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Голомя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Щ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Бы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7. Назовите правильное произнесени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2590920"/>
            <a:ext cx="83818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За в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По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Объяснит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8. Мороженую рыбу следует оттаивать 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361960"/>
            <a:ext cx="83059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Горячей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Холодной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Теплой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Кипящей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39. Вода необходима для производст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2514600"/>
            <a:ext cx="83818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Уг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Стек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Серной кисл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С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40. Пословица: «Кругом вода, а с питьем  - беда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2514600"/>
            <a:ext cx="83818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Мо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Пусты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Мир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Р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41. По каким рекам и озерам проходил путь «из варяг в гре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590920"/>
            <a:ext cx="8153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Иль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Н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42. Почему без воды человек не может прожить более 5 су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361960"/>
            <a:ext cx="83059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Вода питает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Человек станет гряз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Вода – растворитель многих веществ в организме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Вода – среда обитания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43. На берегах какой реки решился исход Великой Отечественной вой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51460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А) Вол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Б) Дне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В) Дун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Г) Эль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олилиния 3" descr=""/>
          <p:cNvPicPr/>
          <p:nvPr/>
        </p:nvPicPr>
        <p:blipFill>
          <a:blip r:embed="rId2"/>
          <a:stretch/>
        </p:blipFill>
        <p:spPr>
          <a:xfrm>
            <a:off x="-463680" y="974880"/>
            <a:ext cx="3603600" cy="1635120"/>
          </a:xfrm>
          <a:prstGeom prst="rect">
            <a:avLst/>
          </a:prstGeom>
          <a:ln w="0">
            <a:noFill/>
          </a:ln>
        </p:spPr>
      </p:pic>
      <p:pic>
        <p:nvPicPr>
          <p:cNvPr id="137" name="Полилиния 4" descr=""/>
          <p:cNvPicPr/>
          <p:nvPr/>
        </p:nvPicPr>
        <p:blipFill>
          <a:blip r:embed="rId3"/>
          <a:stretch/>
        </p:blipFill>
        <p:spPr>
          <a:xfrm>
            <a:off x="5821200" y="4479840"/>
            <a:ext cx="3571920" cy="1635120"/>
          </a:xfrm>
          <a:prstGeom prst="rect">
            <a:avLst/>
          </a:prstGeom>
          <a:ln w="0">
            <a:noFill/>
          </a:ln>
        </p:spPr>
      </p:pic>
      <p:pic>
        <p:nvPicPr>
          <p:cNvPr id="138" name="Полилиния 5" descr=""/>
          <p:cNvPicPr/>
          <p:nvPr/>
        </p:nvPicPr>
        <p:blipFill>
          <a:blip r:embed="rId4"/>
          <a:stretch/>
        </p:blipFill>
        <p:spPr>
          <a:xfrm>
            <a:off x="1457280" y="-317520"/>
            <a:ext cx="5711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4.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кая река самая хищная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иг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б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в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в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опард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г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р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кую страну в древности называли «Дар Нила»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иопи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б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реци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в)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ссири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г)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Египет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Какой оболочкой Земли является «гидросфера»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живая оболочка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дная оболочк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в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вердая оболочк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г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азообразная оболо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Что является первичной обработкой овощей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ушк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б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мывание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в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резка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Г)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5:48:25Z</dcterms:created>
  <dc:creator>Тратата</dc:creator>
  <dc:description/>
  <dc:language>en-US</dc:language>
  <cp:lastModifiedBy>NET01</cp:lastModifiedBy>
  <dcterms:modified xsi:type="dcterms:W3CDTF">2013-10-03T04:37:51Z</dcterms:modified>
  <cp:revision>92</cp:revision>
  <dc:subject/>
  <dc:title>ОТБОРОЧНЫЙ ТУР</dc:title>
</cp:coreProperties>
</file>