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CFA1-8460-46CD-B2C7-2190C0ED3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F4BE-2391-4AAA-8A32-82E1B452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2C5F-ED42-4CF9-8CD2-890932650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1AC4-9750-4C96-874E-71CF665B4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ABB7-3E32-4877-B243-4EB6220C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B03E-8AF7-4751-98A9-BEC3A50C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6B1E-A907-4B09-BACE-2FB44FFF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3AC1-4FB8-46F8-A1AE-120ED0C7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EF7D-19E6-466A-A3F1-847EDD7D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7847-81A6-471D-8082-D399FAAA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4F24-88D0-48A1-B1DC-226455F1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55E1-A114-452C-9008-DD67F329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1902-E341-4796-BD65-18E99AB32C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8.xml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олилиния 3" descr=""/>
          <p:cNvPicPr/>
          <p:nvPr/>
        </p:nvPicPr>
        <p:blipFill>
          <a:blip r:embed="rId2"/>
          <a:stretch/>
        </p:blipFill>
        <p:spPr>
          <a:xfrm>
            <a:off x="-457200" y="974880"/>
            <a:ext cx="3359160" cy="1635120"/>
          </a:xfrm>
          <a:prstGeom prst="rect">
            <a:avLst/>
          </a:prstGeom>
          <a:ln w="0">
            <a:noFill/>
          </a:ln>
        </p:spPr>
      </p:pic>
      <p:pic>
        <p:nvPicPr>
          <p:cNvPr id="42" name="Полилиния 4" descr=""/>
          <p:cNvPicPr/>
          <p:nvPr/>
        </p:nvPicPr>
        <p:blipFill>
          <a:blip r:embed="rId3"/>
          <a:stretch/>
        </p:blipFill>
        <p:spPr>
          <a:xfrm>
            <a:off x="6083280" y="4479840"/>
            <a:ext cx="333540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274284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8.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Назовите плод капусты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а)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тручок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б)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зонтик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в)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орнеплод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г)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луковиц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9.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Что называют застекленным уголком моря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а)  </a:t>
            </a:r>
            <a:r>
              <a:rPr b="0" lang="en-US" sz="3600" spc="-1" strike="noStrike">
                <a:solidFill>
                  <a:srgbClr val="f2f2f2"/>
                </a:solidFill>
                <a:latin typeface="Arial"/>
              </a:rPr>
              <a:t>аквариум</a:t>
            </a:r>
            <a:br>
              <a:rPr sz="3600"/>
            </a:b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б)  </a:t>
            </a:r>
            <a:r>
              <a:rPr b="0" lang="en-US" sz="3600" spc="-1" strike="noStrike">
                <a:solidFill>
                  <a:srgbClr val="f2f2f2"/>
                </a:solidFill>
                <a:latin typeface="Arial"/>
              </a:rPr>
              <a:t>бассейн</a:t>
            </a:r>
            <a:br>
              <a:rPr sz="3600"/>
            </a:b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в)  </a:t>
            </a:r>
            <a:r>
              <a:rPr b="0" lang="en-US" sz="3600" spc="-1" strike="noStrike">
                <a:solidFill>
                  <a:srgbClr val="f2f2f2"/>
                </a:solidFill>
                <a:latin typeface="Arial"/>
              </a:rPr>
              <a:t>стакан с водой</a:t>
            </a:r>
            <a:br>
              <a:rPr sz="3600"/>
            </a:b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г)   </a:t>
            </a:r>
            <a:r>
              <a:rPr b="0" lang="en-US" sz="3600" spc="-1" strike="noStrike">
                <a:solidFill>
                  <a:srgbClr val="f2f2f2"/>
                </a:solidFill>
                <a:latin typeface="Arial"/>
              </a:rPr>
              <a:t>река подо льд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3048120"/>
            <a:ext cx="83055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>
              <a:lnSpc>
                <a:spcPct val="100000"/>
              </a:lnSpc>
              <a:buClr>
                <a:srgbClr val="ffff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Молекула воды пишется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а)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 б) О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Н    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в) 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Н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г)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Н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>
              <a:buClr>
                <a:srgbClr val="ffff00"/>
              </a:buClr>
              <a:buFont typeface="Calibri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Что оставалось после разлива Нила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а)  грязь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б)  ил   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в)  песок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г)  морская капуста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12.  Чем озеро отличается от моря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а)  ничем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б)  всем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в)  стоком в океан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г)  притоком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609480" y="2341440"/>
            <a:ext cx="7772400" cy="2254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E:\мое\с флэшкис ф\6в класс\картинки\картинки на школьную тему\AMERI006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010280" y="4724280"/>
            <a:ext cx="161928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1.  Что строили по берегам Нила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а)  Дамбы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б)  Мосты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в)  Лестницы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г)  Опор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2.  Река в европейской части России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а) Нил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б) Амазонка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в)  Волга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г)  Анга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3.   К какому классу животных относят черепах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а)  Земноводные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б) Млекопитающие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в)  Хищники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г)  Пресмыкающиес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4.   Как можно очистить воду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а) Замораживанием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б)  Активированным углем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в)  Переливанием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г) Кипячение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1"/>
          <a:stretch/>
        </p:blipFill>
        <p:spPr>
          <a:xfrm>
            <a:off x="762120" y="841320"/>
            <a:ext cx="7772400" cy="2487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E:\мое\с флэшкис ф\6в класс\картинки\картинки на школьную тему\ANTN071.WMF"/>
          <p:cNvPicPr/>
          <p:nvPr/>
        </p:nvPicPr>
        <p:blipFill>
          <a:blip r:embed="rId2"/>
          <a:stretch/>
        </p:blipFill>
        <p:spPr>
          <a:xfrm>
            <a:off x="2209680" y="2895480"/>
            <a:ext cx="4672080" cy="353088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3" descr=""/>
          <p:cNvPicPr/>
          <p:nvPr/>
        </p:nvPicPr>
        <p:blipFill>
          <a:blip r:embed="rId3"/>
          <a:stretch/>
        </p:blipFill>
        <p:spPr>
          <a:xfrm>
            <a:off x="2882880" y="255600"/>
            <a:ext cx="292752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5.  Крупнейшая ягода, на 90% состоящая из воды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а) Малина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б)  Арбуз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в)  Дыня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г) Черни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6.   Золотое правило растворения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а)  Подобное растворяет все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 б)  Подобное растворяет   подобное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 в)  Подобное не растворяет подобное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 г)   подобное растворяет природно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9807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7.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Какие реки относятся к Двуречью?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      А) Тигр</a:t>
            </a: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      б) Инд</a:t>
            </a: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      в)Ганг</a:t>
            </a: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       г) Евфрат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8.Какие водоемы называют искусственными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А)река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б) озеро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в)канал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г)проли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636480" y="315900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9.   Где скорость крови набольшая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а)  в аорте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 б) в вене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 в)  в капилляре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 г)   в сосудах головного мозг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Calibri"/>
              </a:rPr>
              <a:t>10. Какую воду употребляют в пищу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Чисту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Структурированну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Кипячену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Газированну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11. Устройство, обеспечивающее дыхание человеку под вод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Ма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Аквалан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Труб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Лас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12. На берегу этой реки стояла Вавилонская баш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Тиг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Евфр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Ни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Д) Дуна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13. Кислотные дожди бываю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в ле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в горных пещер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в крупных город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в пусты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14. Где сосредоточены максимальные ресурсы пресной вод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ре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оз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ледн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подземные во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Перед приготовлением каши крупу: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       а)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ромывают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       б)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росеивают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       в)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ушат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       г)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бжаривают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15. Количество хромосом в клетках челове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4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4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4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4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16. Люди, купающиеся зим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тюл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морж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нерп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морские ко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17. Норма приема воды в сут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1 – 1,5 лит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2 – 2,5 лит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3 – 3,5 лит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4 – 4,5 лит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18. Великие китайские ре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Ган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Мекон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Хуанхэ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Янцз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19.Какие волны не являются ветровым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Бри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Цун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Приб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Прили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20. Какое дыхание у лягушк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Одинар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Двой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Трой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Поверхност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21. В какой воде промывают круп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Горяч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Холодн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Подогрет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Кипячен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22. Водный стади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Бассей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Аквапар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Дельфинар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Ван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23. В водах какой реки был крещен Иисус Христос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Иорд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Тиг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Евфр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Ин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24. Кто изобрел акваланг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А) Дрозд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Б) Аккенборр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В) Куст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Г) Архиме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2.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Вода является растворителем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а)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металлов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б)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ксидов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в)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жиров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г)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исло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26. При какой температуре по шкале Цельсия наступает максимальная плотность вод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+1 граду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+2 граду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+ 3 граду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+ 4 граду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27. В какой реке погиб Ермак Тимофеевич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666520"/>
            <a:ext cx="815328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Анга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Л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Енис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Ирты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28. Какая река в России считается самой «русской»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А) Об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Б) Вол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В) Л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Г) Вазу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29. Что растворяет вода в мировом океан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Пес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Раков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Газ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Ры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28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30. Из какого стихотворения взяты строки: «Играют волны, ветер свищет, И мачта гнется и скрипит…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3123720"/>
            <a:ext cx="8305920" cy="30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Лист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Пару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Мо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Куб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31. Какое море раньше называлось Русски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514600"/>
            <a:ext cx="83059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Чер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Бе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Крас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Желт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32. Река, которая стала для Некрасова родн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2895480"/>
            <a:ext cx="84582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Об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Вол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Д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Днеп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33. Максимальное количество воды используется в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Промышлен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Отдыхе чело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Сельском хозяйст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Гигие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34. Макароны при варке засыпают в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2438280"/>
            <a:ext cx="84582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Холодную в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Горячую в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Теплую в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Кипящую в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35. На берегах какой реки стоит первая столица Руси Киев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2361960"/>
            <a:ext cx="83818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Д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Днеп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Дуна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Моск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12372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3.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Какие птицы спасли Рим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а)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утки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б)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гуси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в)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ороны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г)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гал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eece1"/>
                </a:solidFill>
                <a:latin typeface="Calibri"/>
              </a:rPr>
              <a:t>36. Эндемичные виды рыб оз.Байк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2438280"/>
            <a:ext cx="830592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Ому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Голомя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Щу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Бы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37. Назовите правильное произнесение выраж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2590920"/>
            <a:ext cx="838188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За вод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По в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Объяснит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38. Мороженую рыбу следует оттаивать в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2361960"/>
            <a:ext cx="83059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Горячей в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Холодной в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Теплой в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Кипящей в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39. Вода необходима для производств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2514600"/>
            <a:ext cx="838188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Уг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Стек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Серной кисл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Со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40. Пословица: «Кругом вода, а с питьем  - беда!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6840" y="2514600"/>
            <a:ext cx="838188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Мо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Пусты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Мира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Р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41. По каким рекам и озерам проходил путь «из варяг в грек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2590920"/>
            <a:ext cx="815328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Ильме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Не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Д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Днеп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42. Почему без воды человек не может прожить более 5 суток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2361960"/>
            <a:ext cx="83059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Вода питает чело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Человек станет грязны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Вода – растворитель многих веществ в организме чело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Вода – среда обитания чело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43. На берегах какой реки решился исход Великой Отечественной войн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2514600"/>
            <a:ext cx="83059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Вол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Днеп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Дуна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Эльб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Полилиния 3" descr=""/>
          <p:cNvPicPr/>
          <p:nvPr/>
        </p:nvPicPr>
        <p:blipFill>
          <a:blip r:embed="rId2"/>
          <a:stretch/>
        </p:blipFill>
        <p:spPr>
          <a:xfrm>
            <a:off x="-463680" y="974880"/>
            <a:ext cx="3603600" cy="1635120"/>
          </a:xfrm>
          <a:prstGeom prst="rect">
            <a:avLst/>
          </a:prstGeom>
          <a:ln w="0">
            <a:noFill/>
          </a:ln>
        </p:spPr>
      </p:pic>
      <p:pic>
        <p:nvPicPr>
          <p:cNvPr id="137" name="Полилиния 4" descr=""/>
          <p:cNvPicPr/>
          <p:nvPr/>
        </p:nvPicPr>
        <p:blipFill>
          <a:blip r:embed="rId3"/>
          <a:stretch/>
        </p:blipFill>
        <p:spPr>
          <a:xfrm>
            <a:off x="5821200" y="4479840"/>
            <a:ext cx="3571920" cy="1635120"/>
          </a:xfrm>
          <a:prstGeom prst="rect">
            <a:avLst/>
          </a:prstGeom>
          <a:ln w="0">
            <a:noFill/>
          </a:ln>
        </p:spPr>
      </p:pic>
      <p:pic>
        <p:nvPicPr>
          <p:cNvPr id="138" name="Полилиния 5" descr=""/>
          <p:cNvPicPr/>
          <p:nvPr/>
        </p:nvPicPr>
        <p:blipFill>
          <a:blip r:embed="rId4"/>
          <a:stretch/>
        </p:blipFill>
        <p:spPr>
          <a:xfrm>
            <a:off x="1457280" y="-317520"/>
            <a:ext cx="57117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4.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Какая река самая хищная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а)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игр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б)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Лев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в)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Леопард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г)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р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>
              <a:lnSpc>
                <a:spcPct val="100000"/>
              </a:lnSpc>
              <a:buClr>
                <a:srgbClr val="ffff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Какую страну в древности называли «Дар Нила»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а)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Эфиопия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б)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Греция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в)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Ассирия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г)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Египет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>
              <a:lnSpc>
                <a:spcPct val="100000"/>
              </a:lnSpc>
              <a:buClr>
                <a:srgbClr val="ffff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Какой оболочкой Земли является «гидросфера»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а)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живая оболочка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б)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одная оболочка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в)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твердая оболочка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г)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газообразная оболоч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>
              <a:lnSpc>
                <a:spcPct val="100000"/>
              </a:lnSpc>
              <a:buClr>
                <a:srgbClr val="ffff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Что является первичной обработкой овощей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а)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ушка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  б)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ромывание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  в)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арезка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  Г)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ист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5:48:25Z</dcterms:created>
  <dc:creator>Тратата</dc:creator>
  <dc:description/>
  <dc:language>en-US</dc:language>
  <cp:lastModifiedBy>NET01</cp:lastModifiedBy>
  <dcterms:modified xsi:type="dcterms:W3CDTF">2013-10-03T04:37:51Z</dcterms:modified>
  <cp:revision>92</cp:revision>
  <dc:subject/>
  <dc:title>ОТБОРОЧНЫЙ ТУР</dc:title>
</cp:coreProperties>
</file>