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5.gif" ContentType="image/gif"/>
  <Override PartName="/ppt/media/image28.jpeg" ContentType="image/jpeg"/>
  <Override PartName="/ppt/media/image6.jpeg" ContentType="image/jpeg"/>
  <Override PartName="/ppt/media/image27.jpeg" ContentType="image/jpeg"/>
  <Override PartName="/ppt/media/image9.png" ContentType="image/png"/>
  <Override PartName="/ppt/media/image5.gif" ContentType="image/gif"/>
  <Override PartName="/ppt/media/image14.jpeg" ContentType="image/jpeg"/>
  <Override PartName="/ppt/media/image13.gif" ContentType="image/gif"/>
  <Override PartName="/ppt/media/image16.jpeg" ContentType="image/jpeg"/>
  <Override PartName="/ppt/media/image26.jpeg" ContentType="image/jpeg"/>
  <Override PartName="/ppt/media/image23.gif" ContentType="image/gif"/>
  <Override PartName="/ppt/media/image20.jpeg" ContentType="image/jpeg"/>
  <Override PartName="/ppt/media/image21.gif" ContentType="image/gif"/>
  <Override PartName="/ppt/media/image19.gif" ContentType="image/gif"/>
  <Override PartName="/ppt/media/image3.jpeg" ContentType="image/jpeg"/>
  <Override PartName="/ppt/media/image24.jpeg" ContentType="image/jpeg"/>
  <Override PartName="/ppt/media/image17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8B2-668F-4D3F-A7C3-A7AFAF07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556-3DDA-4D13-AEFE-FB847C89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E56-E870-4048-B972-FC939060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777-8652-4FC5-BC6A-3DEB0E8C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96D-92E4-4452-86A2-D0A5E9A5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82B-5A81-4634-9D0A-25BBFC7B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13F-ECCB-47B1-8EF0-8920070A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78A-C3C0-4032-BE29-6C49AA64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88F-A579-488C-BCAA-B571ED9E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5D1-648F-479C-A1B7-A6D416B8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8D6-C6CC-47DA-B928-D05FF0D1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737-1470-4257-B6BD-594D8F6A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54A6-FB90-40FA-B7E3-9D7228848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img.photobucket.com/albums/v11/VonTure/Random/space_arp.jpg&amp;imgrefurl=http://www.lionblog.net.ru/eto_interesno_/1146056711-sxema-vselennoj.html&amp;usg=__UbN5q_otxxgm427tgd21UijyPi0=&amp;h=560&amp;w=700&amp;sz=153&amp;hl=ru&amp;start=40&amp;um=1&amp;itbs=1&amp;tbnid=wFP3ppcZNz-W0M:&amp;tbnh=112&amp;tbnw=140&amp;prev=/images%3Fq%3D%25D0%259F%25D1%2580%25D0%25B8%25D0%25BA%25D0%25BE%25D0%25BB%25D1%258C%25D0%25BD%25D1%258B%25D0%25B5%2B%25D0%25BA%25D0%25BE%25D1%2581%25D0%25BC%25D0%25B8%25D1%2587%25D0%25B5%25D1%2581%25D0%25BA%25D0%25B8%25D0%25B5%2B%25D0%25BA%25D0%25B0%25D1%2580%25D1%2582%25D0%25B8%25D0%25BD%25D0%25BA%25D0%25B8%26ndsp%3D20%26hl%3Dru%26lr%3D%26sa%3DN%26start%3D20%26um%3D1%26newwindow%3D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pic.ipicture.ru/uploads/081029/fyN3uNekJN.jpg&amp;imgrefurl=http://my-z.ru/prikoly/programmy/718-satellite-tv-for-pc-2008.1-elite-edition-pro.html&amp;usg=__3Yu-NvMPbd2cSCwqzdWCsYfyHAU=&amp;h=400&amp;w=550&amp;sz=34&amp;hl=ru&amp;start=114&amp;um=1&amp;itbs=1&amp;tbnid=Pn8z54Epk7geCM:&amp;tbnh=97&amp;tbnw=133&amp;prev=/images%3Fq%3D%25D0%259F%25D1%2580%25D0%25B8%25D0%25BA%25D0%25BE%25D0%25BB%25D1%258C%25D0%25BD%25D1%258B%25D0%25B5%2B%25D0%25BA%25D0%25BE%25D1%2581%25D0%25BC%25D0%25B8%25D1%2587%25D0%25B5%25D1%2581%25D0%25BA%25D0%25B8%25D0%25B5%2B%25D0%25BA%25D0%25B0%25D1%2580%25D1%2582%25D0%25B8%25D0%25BD%25D0%25BA%25D0%25B8%26ndsp%3D20%26hl%3Dru%26lr%3D%26sa%3DN%26start%3D100%26um%3D1%26newwindow%3D1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133720" y="53352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смическая тех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2057400"/>
            <a:ext cx="7925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полнили:Кветень и Ситков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3429000"/>
            <a:ext cx="739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физики:Бухалова Марина  Никола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426708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76720" y="3886200"/>
            <a:ext cx="2057400" cy="99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ТЕЛИ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" y="730800"/>
            <a:ext cx="56386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.09.70 возвращаемый аппарат АМС "Луна-16" стартовал с поверхности Луны. Перед стартом был произведен забор образцов лунного грунта, которые 24.09.70 были доставлены на Землю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 10.11.70. Ракета-носитель "Протон-К" вывела на траекторию полета к Луне автоматическую межпланетную станцию "Луна-17" с самоходным аппаратом "Луноход-1" на борту. 17.11.70 "Луна-17" совершила мягкую посадку на Луну. Через два с половиной часа "Луноход-1" по трапу сошел с посадочной платформы, приступив к выполнению программы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2.12.1971. Спускаемый аппарат автоматической межпланетной станции "Марс-3" совершил мягкую посадку на поверхность Марса. Через 1,5 минуты после посадки станция была приведена в рабочее состояние и начала передавать на Землю видеосигнал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Луноход-1"/>
          <p:cNvPicPr/>
          <p:nvPr/>
        </p:nvPicPr>
        <p:blipFill>
          <a:blip r:embed="rId2"/>
          <a:stretch/>
        </p:blipFill>
        <p:spPr>
          <a:xfrm>
            <a:off x="6019920" y="274320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838080" y="152280"/>
            <a:ext cx="5924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кета-носитель"Протон-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486080" cy="1371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915840"/>
            <a:ext cx="53341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.05.1987. С космодрома Байконур осуществлен первый испытательный пуск ракеты-носителя "Энергия". Пуск РН прошел успешн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.11.1988. Осуществлен пуск ракеты-носителя "Энергия-Буран", которая вывела на околоземную орбиту советский МТКК "Буран". Многоразовый корабль "Буран" вперые в мире осуществил автоматическую посадку на Землю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кетно-космическая система "Энергия-Буран" на многие годы опередила свое время, а по ряду характеристик значительно превзошла средства космической техники, эксплуатируемые в СШ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Ракетно-космическая система Энергия-Буран"/>
          <p:cNvPicPr/>
          <p:nvPr/>
        </p:nvPicPr>
        <p:blipFill>
          <a:blip r:embed="rId2"/>
          <a:stretch/>
        </p:blipFill>
        <p:spPr>
          <a:xfrm rot="342000">
            <a:off x="6324120" y="175212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066680" y="304920"/>
            <a:ext cx="7315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кета-носитель"Энергия"и "Энергия- Буран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791320" y="480060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 rot="20963400">
            <a:off x="380880" y="2209320"/>
            <a:ext cx="83059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ВНИМАНИЕ!!!!!!!!!!!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"/>
            <a:ext cx="2362320" cy="1676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76520" y="4191120"/>
            <a:ext cx="3733560" cy="2482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1144080"/>
            <a:ext cx="50292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4.10.1957. С космодрома Байконур осуществлен пуск ракеты-носителя "Спутник",   </a:t>
            </a: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 которая вывела на околоземную орбиту Первый в мире искусственный спутник Земли. Этот старт открыл космическую эру в истории человечества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3.11.1957 был запущен Второй советский ИСЗ - первый в мире искусственный спутник Земли с живым существом. На его борту находилась собака Лайка. Третий советский ИСЗ (15.05.1958) был первым в мире спутником для проведения научных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52480" y="304920"/>
            <a:ext cx="520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кета-носитель"Спутни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4" name="" descr="Запуск Первого в мире искусственного спутника Земли"/>
          <p:cNvPicPr/>
          <p:nvPr/>
        </p:nvPicPr>
        <p:blipFill>
          <a:blip r:embed="rId2"/>
          <a:stretch/>
        </p:blipFill>
        <p:spPr>
          <a:xfrm rot="877800">
            <a:off x="5334120" y="1143000"/>
            <a:ext cx="281916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Первый искусственный спутник Земли - советский!"/>
          <p:cNvPicPr/>
          <p:nvPr/>
        </p:nvPicPr>
        <p:blipFill>
          <a:blip r:embed="rId3"/>
          <a:stretch/>
        </p:blipFill>
        <p:spPr>
          <a:xfrm rot="21237600">
            <a:off x="5638320" y="3428640"/>
            <a:ext cx="245916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8220240" y="2666880"/>
            <a:ext cx="923760" cy="1514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1296360"/>
            <a:ext cx="5410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2.01.1959. С космодрома Байконур стартовала ракета-носитель "Восток", которая вывела на траекторию полета к Луне советскую автоматическую межпланетную станцию "Луна-1". 04.01.1959 "Луна-1" прошла на расстоянии 6000 километров от поверхности Луны и вышла на гелиоцентрическую орбиту. Она стала первым в мире искусственным спутником Солнца.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 12.09.1959 к Луне стартовала АМС "Луна-2". На следующий день "Луна-2" впервые в мире достигла поверхности Луны, доставив на Луну вымпел с изображением герба СССР. 07.10.1959 АМС "Луна-3" передала на Землю первые снимки обратной (невидимой) стороны Луны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Первые вымпелы, доставленные на Луну межпланетной станцией Луна-2"/>
          <p:cNvPicPr/>
          <p:nvPr/>
        </p:nvPicPr>
        <p:blipFill>
          <a:blip r:embed="rId2"/>
          <a:stretch/>
        </p:blipFill>
        <p:spPr>
          <a:xfrm rot="20835600">
            <a:off x="6759360" y="1599840"/>
            <a:ext cx="1600200" cy="149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90720" y="304920"/>
            <a:ext cx="662940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кета -носитель " Восто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3" name="" descr="Первый в мире искусственный спутник Солнца"/>
          <p:cNvPicPr/>
          <p:nvPr/>
        </p:nvPicPr>
        <p:blipFill>
          <a:blip r:embed="rId3"/>
          <a:stretch/>
        </p:blipFill>
        <p:spPr>
          <a:xfrm rot="20752800">
            <a:off x="6400440" y="403848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257800" y="3124080"/>
            <a:ext cx="1600200" cy="9144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438280" y="76320"/>
            <a:ext cx="320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Восток-2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05160"/>
            <a:ext cx="56386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04.1961. Этот день стал днем торжества человеческого разума. Впервые в мире космический корабль с человеком на борту ворвался в просторы Вселенной. Ракета-носитель "Восток" вывела на околоземную орбиту советский космический корабль "Восток" с советским космонавтом Юрием Гагариным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 06.08.1961 начался полет советского космического корабля "Восток-2" с Г.Титовым. Он длился 1 сутки 1 час 18 минут. Во время этого полета была выполнена первая киносъемка Земли из Космоса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10.1964 РН "Восход" вывела на орбиту советский корабль "Восход". Первый в мире полет многоместного космического корабля. Космонавты В.Комаров, К.Феоктистов, Б.Егоров впервые в мире совершали полет без скафандров. 18.03.1965 космонавт А.Леонов ("Восход-2") впервые вышел в открытый Космос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Первые снимки Земли, сделанные из Космоса"/>
          <p:cNvPicPr/>
          <p:nvPr/>
        </p:nvPicPr>
        <p:blipFill>
          <a:blip r:embed="rId2"/>
          <a:stretch/>
        </p:blipFill>
        <p:spPr>
          <a:xfrm rot="20865000">
            <a:off x="64008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Первые снимки Земли, сделанные из Космоса"/>
          <p:cNvPicPr/>
          <p:nvPr/>
        </p:nvPicPr>
        <p:blipFill>
          <a:blip r:embed="rId3"/>
          <a:stretch/>
        </p:blipFill>
        <p:spPr>
          <a:xfrm>
            <a:off x="-4506840" y="2682720"/>
            <a:ext cx="438120" cy="704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12 апреля 1961 года. Стартует ракета с первым космонавтом планеты на борту"/>
          <p:cNvPicPr/>
          <p:nvPr/>
        </p:nvPicPr>
        <p:blipFill>
          <a:blip r:embed="rId4"/>
          <a:stretch/>
        </p:blipFill>
        <p:spPr>
          <a:xfrm rot="1130400">
            <a:off x="6477120" y="2971440"/>
            <a:ext cx="213336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 rot="21283200">
            <a:off x="6477120" y="5181120"/>
            <a:ext cx="1828800" cy="144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1754280"/>
            <a:ext cx="6553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.02.1961. С космодрома Байконур осуществлен пуск ракеты-носителя "Молния", которая впервые в истории вывела на на траекторию полета к Венере советскую автоматическую межпланетную станцию "Венера-1". В ходе этого полета впервые в мире осуществлена двусторонняя связь со станцией, удаленной на 1400000 км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1.11.1962. Состоялся первый успешный пуск в сторону Марса. АМС "Марс-1" провела исследования межпланетного пространства, проверила дальнюю космическую связь (10000000 км), а 19.07.1963 она совершила первый в мире пролет Марс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.11.1965. РН "Молния" вывела на траекторию полета к Венере станцию "Венера-2". Она пролетела на расстоянии 24000 км от Венеры. А 01.03.1966 станция "Венера-3" впервые достигла поверхности Венеры, доставив вымпел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76520" y="228600"/>
            <a:ext cx="6476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кета-носитель" Молн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9" name="" descr="12.02.1961. Готовится к старту ракета-носитель с межпоанетной станцией Венера-1"/>
          <p:cNvPicPr/>
          <p:nvPr/>
        </p:nvPicPr>
        <p:blipFill>
          <a:blip r:embed="rId2"/>
          <a:stretch/>
        </p:blipFill>
        <p:spPr>
          <a:xfrm rot="240000">
            <a:off x="6552720" y="3047760"/>
            <a:ext cx="2286000" cy="1657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38600">
            <a:off x="7120080" y="151740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764280"/>
            <a:ext cx="6172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3.02.1966. Советская автоматическая станция "Луна-9" первой в мире совершила мягкую посадку на поверхности Луны, после чего передала панорамное изображение поверхности Луны. 03.04.1966 станция "Луна-10" стала первым в мире искусственным спутником Луны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.10.1967. Советская автоматическая межпланетная станция "Венера-4" достигла Венеры. Спускаемый аппарат АМС совершил плавный спуск в атмосфере Венеры и достиг ее поверхности. Сигнал со станции во время спуска принимался до высоты 24,96 км. 16 и 17.05.1969 "Венера-5" и "Венера-6" совершили плавный спуск в атмосфере Венеры, передавая научную информацию до высоты 10 километров от поверхности. 15.12.70 спускаемый аппарат АМС "Венера-7" совершил плавный спуск на парашюте в атмосфере Венеры, достиг поверхности, после чего сигналы с аппарата принимались еще в течение 23 минут. 22.07.1972 АМС "Венера-8" впервые осуществила посадку на освещенную сторону планеты Ве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Станция Луна-9 впервые передала на Землю круговой обзор лунной поверхности в районе прилунения"/>
          <p:cNvPicPr/>
          <p:nvPr/>
        </p:nvPicPr>
        <p:blipFill>
          <a:blip r:embed="rId2"/>
          <a:stretch/>
        </p:blipFill>
        <p:spPr>
          <a:xfrm rot="21379800">
            <a:off x="6858000" y="1752120"/>
            <a:ext cx="182880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362320" y="152280"/>
            <a:ext cx="3504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"Лу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315200" y="4495680"/>
            <a:ext cx="1447920" cy="165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1296360"/>
            <a:ext cx="6705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.07.1965. С космодрома Байконур осуществлен пуск ракеты-носителя "УР-500" ("Протон"), которая вывела на околоземную орбиту советский спутник для изучения космических лучей и взаимодействия с веществом сверхвысоких энергий "Протон-1"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 02.11.1965 "УР-500", которая вывела на орбиту советский спутник "Протон-2"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2.03.1968. РН "Протон-К" с разгонным блоком "Д" вывела на траекторию полета к Луне советский беспилотный космический корабль "Зонд-4". 05.03.1968. Советский космический корабль "Зонд-4" совершил облет Луны и перешел на траекторию возвращения к Земле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09.1968. С космодрома Байконур стартовала РН "Протон-К", которая вывела на траекторию полета к Луне советский беспилотный космический корабль "Зонд-5". На его борту находились живые существа: черепахи, плодовые мушки, черви, растения, бакте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ИСЗ Протон"/>
          <p:cNvPicPr/>
          <p:nvPr/>
        </p:nvPicPr>
        <p:blipFill>
          <a:blip r:embed="rId2"/>
          <a:stretch/>
        </p:blipFill>
        <p:spPr>
          <a:xfrm rot="21238800">
            <a:off x="6629400" y="1447920"/>
            <a:ext cx="1828800" cy="1847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762120" y="228600"/>
            <a:ext cx="62481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кета-носитель"Протон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162920" y="4267080"/>
            <a:ext cx="1466640" cy="129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840240"/>
            <a:ext cx="594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.09.1968 "Зонд-5" совершил облет Луны, пройдя на минимальном расстоянии от ее поверхности 1960 километров. С расстояния 90 000 километров была произведена съемка Земли с высоким разрешением. 21.09.1968 спускаемый аппарат "Зонд-5" приводнился в Индийском океане. Впервые в мире станция, облетев Луну, успешно возвратилась на Землю со второй космической скоростью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11.1968. Был запущен "Зонд-6", который 14.11.1968 осуществил облет Луны, пройдя на расстоянии 2420 километров от ее поверхности. В ходе пролета были сделаны панорамные фотографии видимой и обратной сторон поверхности Луны. 17.11.1968 "Зонд-6" совершил посадку в заданном районе на территории СССР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етский космический корабль "Зонд-7" 11.08.1969 облетел Луну при минимальном расстоянии от ее поверхности около 1200 километров, а 14.08.1969 совершил посадку в заданном районе СССР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1600" y="304920"/>
            <a:ext cx="58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ускаемый аппарат"Зонд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0" name="" descr="Фото Земли, полученное с борта станции Зонд-7"/>
          <p:cNvPicPr/>
          <p:nvPr/>
        </p:nvPicPr>
        <p:blipFill>
          <a:blip r:embed="rId2"/>
          <a:stretch/>
        </p:blipFill>
        <p:spPr>
          <a:xfrm rot="21355200">
            <a:off x="6324480" y="12949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19920" y="4419720"/>
            <a:ext cx="312408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1144800"/>
            <a:ext cx="586728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11.1968. Был запущен "Зонд-6", который 14.11.1968 осуществил облет Луны, пройдя на расстоянии 2420 километров от ее поверхности. В ходе пролета были сделаны панорамные фотографии видимой и обратной сторон поверхности Луны. 17.11.1968 "Зонд-6" совершил посадку в заданном районе на территории СССР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етский космический корабль "Зонд-7" 11.08.1969 облетел Луну при минимальном расстоянии от ее поверхности около 1200 километров, а 14.08.1969 совершил посадку в заданном районе СССР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 12.09.70. С космодрома Байконур осуществлен пуск ракеты-носителя "Протон-К", которая вывела на траекторию полета к Луне советскую автоматическую межпланетную станцию "Луна-16". 20.09.70 автоматическая межпланетная станция "Луна-16" совершила мягкую посадку на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Станция Луна-16"/>
          <p:cNvPicPr/>
          <p:nvPr/>
        </p:nvPicPr>
        <p:blipFill>
          <a:blip r:embed="rId2"/>
          <a:stretch/>
        </p:blipFill>
        <p:spPr>
          <a:xfrm rot="733200">
            <a:off x="6705360" y="17524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828800" y="152280"/>
            <a:ext cx="5334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 снова"Зонд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400800" y="4343400"/>
            <a:ext cx="1704960" cy="20574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иткова и кветень</dc:creator>
  <dc:description/>
  <cp:keywords>бухалова марина николаевна</cp:keywords>
  <dc:language>en-US</dc:language>
  <cp:lastModifiedBy>э</cp:lastModifiedBy>
  <dcterms:modified xsi:type="dcterms:W3CDTF">2011-04-23T06:37:04Z</dcterms:modified>
  <cp:revision>7</cp:revision>
  <dc:subject/>
  <dc:title>космическая техн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