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5.jpeg" ContentType="image/jpeg"/>
  <Override PartName="/ppt/media/image18.wmf" ContentType="image/x-wmf"/>
  <Override PartName="/ppt/media/image26.jpeg" ContentType="image/jpeg"/>
  <Override PartName="/ppt/media/image28.jpeg" ContentType="image/jpeg"/>
  <Override PartName="/ppt/media/image7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png" ContentType="image/png"/>
  <Override PartName="/ppt/media/image22.gif" ContentType="image/gif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6.wmf" ContentType="image/x-wmf"/>
  <Override PartName="/ppt/media/image17.wmf" ContentType="image/x-wm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F9F-C9E6-45EC-8B15-A68926A07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934-D4A3-4213-9E84-D395CD4004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A53-9373-498E-9564-38617CC3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0AF-A817-49BF-B871-974CA0C6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BCE-E022-4587-ADC0-C528BAA7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76D-7273-4819-915A-930D82DB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3EF5-E46B-464C-8553-92A4E04B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3831-179D-4839-B565-16AFD13D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9502-7E39-480B-BE47-767A007C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710E-FC20-4F7E-86D4-549F16F1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0F18-6C20-46AA-9AE8-23FD513F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C18-4FF4-4167-A6E1-205D686B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1EBD-CC6A-4B50-B9A2-C6B2C17E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ADB-F579-47B4-A9C4-FFB8ED2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BBDE-C082-48F3-B8B2-ADA8762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63A3-2D96-4FB8-A005-A7355B8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8D06-6088-4F3C-A2FC-6DBA919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326F-75BB-426F-B313-CDEA7B0B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D67C-4B2D-4642-93A8-4BC84A9D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900F-00E9-4A60-B6C0-BEE3297C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D9EA-6B72-428E-AC57-75238EAF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CE95-1529-45F2-884F-04F1C6D3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1DAC-C023-40FC-813A-49711F2D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CE3E-B645-4C1A-9D15-FEA3316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18A-0063-489E-8D45-9BF78BA4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A488-F005-4CD1-B5DC-76645975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0583-24D6-4C43-83FB-1BE35AE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82DD-00F8-4703-BFCD-2EA3FB5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2F33-25B4-4BD3-80FC-9CCBA690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CF1A-1E4C-47EF-A5F0-F4775B31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2B61-EFC3-4BD6-B438-3388F440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025E-A5DD-4EA2-9F5B-349E3BF6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854-8BCA-4950-9C52-5A0376B2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309-3B09-4A06-8EFC-5BA08DAC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F8B-D969-4BCE-9626-ADC4C5E3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44F-6C26-42DC-81F0-41E7DC4B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D94-7663-4F4A-AB47-F0B824E3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CC9-6750-43C6-9F92-4176CBAD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8437-54FB-40C0-A946-C797C24B6E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1FEA-66E4-4BFE-989A-FF1A03961C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77CC-7FDC-4835-8C68-4FE7EF5A54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voyrebenok.ru/images/english-cards/professions/b/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tvoyrebenok.ru/images/english-cards/professions/b/2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tvoyrebenok.ru/images/english-cards/professions/b/4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gif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981000"/>
            <a:ext cx="5400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WELCOME 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TO OUR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LESSON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r. Hopkins is a farmer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Picture 14" descr="gallery_223_23912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ara Clifford is a librarian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8" descr="558177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Listen to the text again and answer the questions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re is Michael f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n does his working day begi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he have childr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kinds of animals does his family ha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he like his job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Listen to the text again and answer the questions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re does Sara l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she work at weeken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Mrs. Clifford works both with books and people, doesn’t sh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her main characteristi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Sara like her job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549000"/>
            <a:ext cx="56880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a riddle about any professio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e works in a hospital and wears a special uniform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he  helps a doctor. She should be kind and polite.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(Nurse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-25236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42920" y="764640"/>
            <a:ext cx="489564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for the lesson.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eople work - Nursery Rhymes &amp; Kids Songs - LearnEnglish Kids British Council_(720p)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9360">
            <a:solidFill>
              <a:srgbClr val="cccccc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5f72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Содержимое 6" descr="9792.jpg"/>
          <p:cNvPicPr/>
          <p:nvPr/>
        </p:nvPicPr>
        <p:blipFill>
          <a:blip r:embed="rId1"/>
          <a:stretch/>
        </p:blipFill>
        <p:spPr>
          <a:xfrm>
            <a:off x="539640" y="86364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7"/>
          <p:cNvSpPr/>
          <p:nvPr/>
        </p:nvSpPr>
        <p:spPr>
          <a:xfrm>
            <a:off x="250920" y="11592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  <a:ea typeface="Arial"/>
              </a:rPr>
              <a:t>   </a:t>
            </a:r>
            <a:r>
              <a:rPr b="1" i="1" lang="en-US" sz="4800" spc="-1" strike="noStrike">
                <a:solidFill>
                  <a:srgbClr val="003399"/>
                </a:solidFill>
                <a:latin typeface="Arial"/>
                <a:ea typeface="Arial"/>
              </a:rPr>
              <a:t>The World of Profe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125000"/>
            <a:ext cx="7632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speak about people of different jo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learn to tell what jobs people can have and what characteristics they need for th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speak about your future jo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Профессии на английском в обучающих карточка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81360"/>
            <a:ext cx="1563840" cy="2276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Тема профессии на английском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4581360"/>
            <a:ext cx="1573560" cy="227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Английский 5 класс тема професси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4581360"/>
            <a:ext cx="1577880" cy="22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Английский язык тема профессии"/>
          <p:cNvPicPr/>
          <p:nvPr/>
        </p:nvPicPr>
        <p:blipFill>
          <a:blip r:embed="rId7"/>
          <a:stretch/>
        </p:blipFill>
        <p:spPr>
          <a:xfrm>
            <a:off x="7574040" y="4581360"/>
            <a:ext cx="1569960" cy="2276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5"/>
          <p:cNvPicPr/>
          <p:nvPr/>
        </p:nvPicPr>
        <p:blipFill>
          <a:blip r:embed="rId8"/>
          <a:stretch/>
        </p:blipFill>
        <p:spPr>
          <a:xfrm>
            <a:off x="2987640" y="4581360"/>
            <a:ext cx="1569960" cy="227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Профессии на английском картинки"/>
          <p:cNvPicPr/>
          <p:nvPr/>
        </p:nvPicPr>
        <p:blipFill>
          <a:blip r:embed="rId9"/>
          <a:stretch/>
        </p:blipFill>
        <p:spPr>
          <a:xfrm>
            <a:off x="6012000" y="4581360"/>
            <a:ext cx="1568160" cy="227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hat will we do at the lesso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Альфия\Desktop\фон\Рисунок3.pn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524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honetic drill</a:t>
            </a:r>
            <a:endParaRPr b="0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tt-RU" sz="3700" spc="-1" strike="noStrike">
                <a:solidFill>
                  <a:srgbClr val="000000"/>
                </a:solidFill>
                <a:latin typeface="Times New Roman"/>
              </a:rPr>
              <a:t>ә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tt-RU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urse, work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o:] – lawyer, sportsman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a:] – farm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ai] – driver, librarian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e] – dentist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əu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] – programm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i] – businessman, engine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фонетич. зарядка.wav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Альфия\Desktop\фон\Рисунок3.png"/>
          <p:cNvPicPr/>
          <p:nvPr/>
        </p:nvPicPr>
        <p:blipFill>
          <a:blip r:embed="rId2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6"/>
          <p:cNvSpPr/>
          <p:nvPr/>
        </p:nvSpPr>
        <p:spPr>
          <a:xfrm>
            <a:off x="6227640" y="112536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ttp://www.lenagold.ru/fon/clipart/p/povar/povar05.jpg"/>
          <p:cNvPicPr/>
          <p:nvPr/>
        </p:nvPicPr>
        <p:blipFill>
          <a:blip r:embed="rId3"/>
          <a:stretch/>
        </p:blipFill>
        <p:spPr>
          <a:xfrm>
            <a:off x="7261200" y="0"/>
            <a:ext cx="188280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Содержимое 2" descr="0014-013-Professii-01.jpg"/>
          <p:cNvPicPr/>
          <p:nvPr/>
        </p:nvPicPr>
        <p:blipFill>
          <a:blip r:embed="rId4"/>
          <a:stretch/>
        </p:blipFill>
        <p:spPr>
          <a:xfrm>
            <a:off x="7149960" y="1916280"/>
            <a:ext cx="1994040" cy="196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5"/>
          <a:stretch/>
        </p:blipFill>
        <p:spPr>
          <a:xfrm>
            <a:off x="1835280" y="0"/>
            <a:ext cx="2036520" cy="220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000803_1055_6537_vnvv"/>
          <p:cNvPicPr/>
          <p:nvPr/>
        </p:nvPicPr>
        <p:blipFill>
          <a:blip r:embed="rId6"/>
          <a:stretch/>
        </p:blipFill>
        <p:spPr>
          <a:xfrm>
            <a:off x="3851280" y="115920"/>
            <a:ext cx="160956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000803_1059_2248_vnvv"/>
          <p:cNvPicPr/>
          <p:nvPr/>
        </p:nvPicPr>
        <p:blipFill>
          <a:blip r:embed="rId7"/>
          <a:stretch/>
        </p:blipFill>
        <p:spPr>
          <a:xfrm>
            <a:off x="5435640" y="0"/>
            <a:ext cx="1998720" cy="220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000803_1057_9648_vnvv"/>
          <p:cNvPicPr/>
          <p:nvPr/>
        </p:nvPicPr>
        <p:blipFill>
          <a:blip r:embed="rId8"/>
          <a:stretch/>
        </p:blipFill>
        <p:spPr>
          <a:xfrm>
            <a:off x="0" y="0"/>
            <a:ext cx="1900080" cy="2133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01labgi0l1255397125"/>
          <p:cNvPicPr/>
          <p:nvPr/>
        </p:nvPicPr>
        <p:blipFill>
          <a:blip r:embed="rId9"/>
          <a:stretch/>
        </p:blipFill>
        <p:spPr>
          <a:xfrm>
            <a:off x="0" y="2133720"/>
            <a:ext cx="172404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7" descr="163224-800-600"/>
          <p:cNvPicPr/>
          <p:nvPr/>
        </p:nvPicPr>
        <p:blipFill>
          <a:blip r:embed="rId10"/>
          <a:stretch/>
        </p:blipFill>
        <p:spPr>
          <a:xfrm>
            <a:off x="1692360" y="2133720"/>
            <a:ext cx="2016000" cy="1315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0005-005-Konditer"/>
          <p:cNvPicPr/>
          <p:nvPr/>
        </p:nvPicPr>
        <p:blipFill>
          <a:blip r:embed="rId11"/>
          <a:stretch/>
        </p:blipFill>
        <p:spPr>
          <a:xfrm>
            <a:off x="0" y="4365720"/>
            <a:ext cx="2068560" cy="2492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5" descr="314_belopolsry83"/>
          <p:cNvPicPr/>
          <p:nvPr/>
        </p:nvPicPr>
        <p:blipFill>
          <a:blip r:embed="rId12"/>
          <a:stretch/>
        </p:blipFill>
        <p:spPr>
          <a:xfrm>
            <a:off x="7469280" y="3833640"/>
            <a:ext cx="167472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7" descr="barbar"/>
          <p:cNvPicPr/>
          <p:nvPr/>
        </p:nvPicPr>
        <p:blipFill>
          <a:blip r:embed="rId13"/>
          <a:stretch/>
        </p:blipFill>
        <p:spPr>
          <a:xfrm>
            <a:off x="5796000" y="1916280"/>
            <a:ext cx="1596960" cy="2017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1" descr="maid"/>
          <p:cNvPicPr/>
          <p:nvPr/>
        </p:nvPicPr>
        <p:blipFill>
          <a:blip r:embed="rId14"/>
          <a:stretch/>
        </p:blipFill>
        <p:spPr>
          <a:xfrm>
            <a:off x="6156360" y="4149720"/>
            <a:ext cx="1533600" cy="2708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3" descr="f795ded2c33b"/>
          <p:cNvPicPr/>
          <p:nvPr/>
        </p:nvPicPr>
        <p:blipFill>
          <a:blip r:embed="rId15"/>
          <a:stretch/>
        </p:blipFill>
        <p:spPr>
          <a:xfrm>
            <a:off x="1692360" y="3716280"/>
            <a:ext cx="2517840" cy="314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9" descr="3346540_professii_9"/>
          <p:cNvPicPr/>
          <p:nvPr/>
        </p:nvPicPr>
        <p:blipFill>
          <a:blip r:embed="rId16"/>
          <a:stretch/>
        </p:blipFill>
        <p:spPr>
          <a:xfrm>
            <a:off x="3706920" y="1916280"/>
            <a:ext cx="1971720" cy="24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9" descr="reporter"/>
          <p:cNvPicPr/>
          <p:nvPr/>
        </p:nvPicPr>
        <p:blipFill>
          <a:blip r:embed="rId17"/>
          <a:stretch/>
        </p:blipFill>
        <p:spPr>
          <a:xfrm>
            <a:off x="4427640" y="4076640"/>
            <a:ext cx="15764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Make up your own dialogues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using the following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your parent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you going to b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would you like to be? W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characteristics does your job nee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ttp://fotoramochki.com/risovannie/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6912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The 13</a:t>
            </a:r>
            <a:r>
              <a:rPr b="1" lang="en-US" sz="2600" spc="-1" strike="noStrike" baseline="30000">
                <a:solidFill>
                  <a:srgbClr val="c00000"/>
                </a:solidFill>
                <a:latin typeface="Times New Roman"/>
              </a:rPr>
              <a:t>th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of March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    Classwork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   Ex.25, p.49.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826920" y="220500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rite what kind  of characteristics are necessary for the following jobs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teacher should be intelligent, kind, cre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braria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wy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gine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ma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axi driv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116000" y="3284640"/>
            <a:ext cx="626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Listen to Mr. Hopkins and Mrs. Clifford talking about their jobs.</a:t>
            </a:r>
            <a:r>
              <a:rPr b="1" lang="ru-RU" sz="24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Guess what they 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New wor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out-of-doors –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на открытом воздух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Bath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[b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a: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θ]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Бат, город в Англ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magazine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[‚mægə’zi:n]</a:t>
            </a:r>
            <a:r>
              <a:rPr b="0" lang="ru-RU" sz="29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808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жур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Times New Roman"/>
              </a:rPr>
              <a:t>Listening.</a:t>
            </a:r>
            <a:br>
              <a:rPr sz="3600"/>
            </a:br>
            <a:r>
              <a:rPr b="0" lang="en-US" sz="3600" spc="-1" strike="noStrike">
                <a:solidFill>
                  <a:srgbClr val="008080"/>
                </a:solidFill>
                <a:latin typeface="Times New Roman"/>
              </a:rPr>
              <a:t>Ex.26, p.49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6:49:13Z</dcterms:created>
  <dc:creator>Альфия</dc:creator>
  <dc:description/>
  <dc:language>en-US</dc:language>
  <cp:lastModifiedBy>Гелюса</cp:lastModifiedBy>
  <dcterms:modified xsi:type="dcterms:W3CDTF">2013-03-13T06:20:18Z</dcterms:modified>
  <cp:revision>44</cp:revision>
  <dc:subject/>
  <dc:title>Слайд 1</dc:title>
</cp:coreProperties>
</file>