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90C-62EE-487E-BA3C-C062B457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C07-1EEC-46D8-B18C-4F248AFB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DDB-1431-4DC8-BD09-76B25413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3FF-9442-4F35-9D2E-35B7797C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38F2-C2A6-4F11-B108-325A5778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2D31-2EAD-458A-9DA1-BF6DAF1A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77F4-C572-47BF-94FF-75328DEA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D38E-3D81-416E-BD5F-0F27C1EE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871D-144A-4319-82FF-80C17B28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D374-3AAA-417D-BA65-12410FA7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7FF0-7080-4D13-864F-7C8CCB25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CCF-3A17-486A-A7B7-F9CFE402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2930-E37E-4D71-8EE5-9E96564D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B5C2-886E-4427-8658-DCA4BD4A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4DF9-37E6-4AC9-8561-98431956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5B21-6829-4436-B160-7BFE4AA7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12A1-13D8-408A-A2BC-6DE458CD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7BF-2D3F-4F1E-8335-E9A79C3E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3F3-03A1-4A3C-8BE2-A24F698C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00A-F9EC-45F2-ABB5-339911B7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500-0635-4827-A8A8-27557F2E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F4F-4DC3-4483-B4B4-AC14534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CAF-2CBE-4D59-9A0D-E38C63A8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1BA-F019-484E-9679-2824DF33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AAAE-F1DD-4EAB-A1BE-95FA6AB780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D1A2-33A8-4528-A42B-994E0A9412A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ine Famili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 Das Ha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 Der Man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 Die Ki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 Die Verhalten der Fami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as Hau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194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n Haus befindet sich am Ufer der See. Er ist nicht sehr gross und gem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lich. Das Haus hat f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f Zimm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, Wohnzimmer, zwei Kinderzimmer und Gr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zimmer. Um dem Haus bl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n  viele Blu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6" descr="4518-original"/>
          <p:cNvPicPr/>
          <p:nvPr/>
        </p:nvPicPr>
        <p:blipFill>
          <a:blip r:embed="rId1"/>
          <a:stretch/>
        </p:blipFill>
        <p:spPr>
          <a:xfrm>
            <a:off x="4572000" y="2276640"/>
            <a:ext cx="439884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er Mann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11280" y="1599840"/>
            <a:ext cx="82310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n Mann muss gutherzig, klug, besorgt und arbeitsam sein. Er muss Kinder lieben, gehr reisen. Er muss gute Surprise machen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e Kin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7343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h möchte 2 Kinder – Mädchen und Junge. Sie m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sen klug, schön, lustig und fleissi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6" descr="0_ba7f_6058b89b_XL"/>
          <p:cNvPicPr/>
          <p:nvPr/>
        </p:nvPicPr>
        <p:blipFill>
          <a:blip r:embed="rId1"/>
          <a:stretch/>
        </p:blipFill>
        <p:spPr>
          <a:xfrm>
            <a:off x="1763640" y="2565360"/>
            <a:ext cx="571968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e Verhalten der Famili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ne Familie wird einmutig, gl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ch zusammen se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7:53:34Z</dcterms:created>
  <dc:creator>www.PHILka.RU</dc:creator>
  <dc:description/>
  <dc:language>en-US</dc:language>
  <cp:lastModifiedBy>кабинет 27</cp:lastModifiedBy>
  <dcterms:modified xsi:type="dcterms:W3CDTF">2013-10-01T06:47:59Z</dcterms:modified>
  <cp:revision>10</cp:revision>
  <dc:subject/>
  <dc:title>Слайд 1</dc:title>
</cp:coreProperties>
</file>