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2954-276F-4517-BCFE-3F0C5089A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EDE4-8BCC-46C3-B5B2-CA1D78E02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FA2E-FF92-4750-82F5-5F9C0B6C4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E330-11B0-41B2-B769-42A80D95B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01BE-932A-411E-A61B-C7D7310F3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D315-0F4C-4B20-84CC-9C0309F41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A108-B970-4DD8-99CE-1B234CB5E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FBEB-3086-4AC7-9E5B-7DA9C175E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F9A9-2468-4F15-B344-7E2326F70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FF8E-A125-4B93-AAC1-AC23733D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E6FE-1BE2-4324-B9C4-A3152773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2A4F-4B25-4699-9741-8C1396F9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C0C44-A42C-47C3-B6CA-0AB5A18A39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13880"/>
            <a:ext cx="7772400" cy="28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сечение и объединение множест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13880" y="3571560"/>
            <a:ext cx="435780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математик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 сош №30 имени А.И.Колдуно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томанова Е.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9-2010 учебный год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AG00030_"/>
          <p:cNvPicPr/>
          <p:nvPr/>
        </p:nvPicPr>
        <p:blipFill>
          <a:blip r:embed="rId1"/>
          <a:stretch/>
        </p:blipFill>
        <p:spPr>
          <a:xfrm>
            <a:off x="5072040" y="3286080"/>
            <a:ext cx="3095640" cy="30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8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8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8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8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8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.Пересечение  множест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85840" y="160020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- множество натуральных делителей числа 24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- множество натуральных делителей числа 18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={1,2,3,4,6,8,12,24}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={1,2,3,6,9,18}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- множество общих делителей чисел 24 и 18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={1,2,3,6}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оворят, что множество С является пересечением множеств А и 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8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8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0" y="642960"/>
            <a:ext cx="914400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жество, составляющее общую часть множеств А и В, называют пересечением этих множеств и обозначаю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: А∩В=С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ношение между множествами А,В и С можно проиллюстрировать с помощью специальных схем, называемых кругами Эйлера.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286080" y="3357720"/>
            <a:ext cx="5400720" cy="30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жества А и В изображены на рисунке кругам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гура, образовавшаяся при пересечении кругов, закрашенная на рисунке, изображает множество 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6" descr="C:\Documents and Settings\Администратор\Рабочий стол\Безымянный.bmp"/>
          <p:cNvPicPr/>
          <p:nvPr/>
        </p:nvPicPr>
        <p:blipFill>
          <a:blip r:embed="rId1"/>
          <a:stretch/>
        </p:blipFill>
        <p:spPr>
          <a:xfrm>
            <a:off x="428760" y="3786120"/>
            <a:ext cx="27144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8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8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8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8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ча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928800"/>
            <a:ext cx="847260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торые множества Х 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имеют общих элементов. Тогда говорят, что пересечением множеств Х 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вляется пустое множеств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означение пустого множес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ишут тогда так: Х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000320" y="3786120"/>
            <a:ext cx="4686120" cy="23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={1,3,5,7,9}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={2,4,6,8}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∩В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10" descr="Рисунок7.png"/>
          <p:cNvPicPr/>
          <p:nvPr/>
        </p:nvPicPr>
        <p:blipFill>
          <a:blip r:embed="rId1"/>
          <a:stretch/>
        </p:blipFill>
        <p:spPr>
          <a:xfrm>
            <a:off x="1006560" y="3943440"/>
            <a:ext cx="234612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8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8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8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8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8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Объединение множеств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- множество натуральных делителей числа 24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- множество натуральных делителей числа 18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={1,2,3,4,6,8,12,24}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={1,2,3,6,9,18}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- множество, которому принадлежат все элементы множества А и все элементы множества В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е.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1,2,3,4,6,8,9,12,18,24}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оворят, что множество </a:t>
            </a:r>
            <a:r>
              <a:rPr b="0" i="1" lang="en-US" sz="3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i="1" lang="ru-RU" sz="3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является объединением множеств А и В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142800" y="4643280"/>
            <a:ext cx="6000840" cy="18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8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8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540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0" y="571320"/>
            <a:ext cx="91440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жество, состоящее из элементов, принадлежащих хотя бы одному из множеств А и В, называют объединением этих множеств и обозначают  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499920" y="3285720"/>
            <a:ext cx="5643720" cy="28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жества А и В изображены на рисунке круг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гура, закрашенная на рисунке, является объединением множеств А и 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6" descr="C:\Documents and Settings\Администратор\Рабочий стол\Безымянный.bmp"/>
          <p:cNvPicPr/>
          <p:nvPr/>
        </p:nvPicPr>
        <p:blipFill>
          <a:blip r:embed="rId1"/>
          <a:stretch/>
        </p:blipFill>
        <p:spPr>
          <a:xfrm>
            <a:off x="428760" y="3214800"/>
            <a:ext cx="307152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8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8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8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8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8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8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28760" y="214200"/>
            <a:ext cx="832464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-множество простых чисел, не превосходящих 25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- множество двузначных чисел, не превосходящих 19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пересечение и объединение множеств Х 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57120" y="2499840"/>
            <a:ext cx="842976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{2, 3, 5, 7, 11, 13, 17, 19, 23}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{10,11,12,13,14,15,16,17,18}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ие элементы: 11,13,17,  значит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11,13,17}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{2, 3, 5, 7,10,11,12,13,14,15, 16,17,18,19,23}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8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8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8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8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8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8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8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8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8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8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8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8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8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8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8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8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8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8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8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8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8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8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8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8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8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8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8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8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5" descr=""/>
          <p:cNvPicPr/>
          <p:nvPr/>
        </p:nvPicPr>
        <p:blipFill>
          <a:blip r:embed="rId1"/>
          <a:stretch/>
        </p:blipFill>
        <p:spPr>
          <a:xfrm>
            <a:off x="493560" y="1494000"/>
            <a:ext cx="8242560" cy="454176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6"/>
          <p:cNvSpPr/>
          <p:nvPr/>
        </p:nvSpPr>
        <p:spPr>
          <a:xfrm>
            <a:off x="1000080" y="2928960"/>
            <a:ext cx="711360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Прямоугольник 7" descr=""/>
          <p:cNvPicPr/>
          <p:nvPr/>
        </p:nvPicPr>
        <p:blipFill>
          <a:blip r:embed="rId2"/>
          <a:stretch/>
        </p:blipFill>
        <p:spPr>
          <a:xfrm>
            <a:off x="719280" y="2395440"/>
            <a:ext cx="770544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6T10:49:16Z</dcterms:created>
  <dc:creator>школа</dc:creator>
  <dc:description/>
  <dc:language>en-US</dc:language>
  <cp:lastModifiedBy>школа</cp:lastModifiedBy>
  <dcterms:modified xsi:type="dcterms:W3CDTF">2010-02-11T11:34:43Z</dcterms:modified>
  <cp:revision>7</cp:revision>
  <dc:subject/>
  <dc:title>Пересечение и объединение множеств</dc:title>
</cp:coreProperties>
</file>