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D82A-993A-4E83-BB71-7AD14E6105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курса русского (родного) языка на формирование коммуникативной, языковой и лингвистической (языковедческой) и культуроведческой компетенций нашла отражение в структуре программы курса. В ней выделя­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и сквозные содержательные ли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еспечивающие формирование указанных компетен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, обеспечивающее формиров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оммуни­кативной компет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, обеспечивающее формиров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языковой и лингвистической (языковедческой) компетен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, обеспечивающе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о­ведческой компетенции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у ре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содержательная ли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ена в программе разделами, направленными на со­знательное формирование навыков речевого общения: «Речь и речевое общение», «Речевая деятельность», «Текст», «Функци­ональные разновидности язы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ая содержательная ли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хватывает разделы, отража­ющие устройство языка и особенности функционирования языковых единиц: «Общие сведения о языке», «Фонетика и орфоэпия», «Графика», «Морфемика и словообразование», «Лексикология и фразеология», «Морфология», «Синтаксис», «Правописание: орфография и пунктуац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тья содержательная ли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ена в программе разделами «Культура речи»,  «Язык и культура», изучение которых позволит раскрыть связь языка с историей народа, его культурой, ценностным, эмоциональным и поведенческим компонентом. Содержание данных разделов в целом направлено на формирование гражданской идент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бном процессе указанные содержательные линии естественным образом интегрированы: получение  знаний,  соответ­ствующих каждому разделу, сопровождается овладением необходимыми умениями и навыками, совершенствованием видов речевой деятельности, развитием различных коммуникативных умений и углублением представлений о родном языке как национально-культурном феноме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E11-C4D0-43F7-9259-C07791DF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C16-2430-489C-870E-B13A87CB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DED-6EF8-456D-AF91-04498E09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91D-7772-456A-9968-46E30EA4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1F14-EB49-468E-A29F-E110C221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A321-9ED5-441C-9F28-B4E412B4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2282-72FF-43C2-8531-7FB582CA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4DDD-77A7-4E53-BA34-09603171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6F7C-623F-4AB1-8EBD-83904059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F249-26E1-4FB5-8F35-2763FD59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AB3D-2B7D-45DF-B985-1366D2D1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7ECB-B583-4403-A191-56E9355F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3CBE-198C-4985-8747-02257BE4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5DFC-F5EC-4852-82D8-E599FA31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8E08-DA04-4DE2-B33B-2D9762E3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F5B8-E255-4E31-88F5-14CD9AE0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7022-11FC-427B-B1BA-58D533D5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2E782-0665-43BE-9E0A-1FF93DB7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49F1-39CE-4261-920A-407B7E3E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5AAB0-A3F6-4D40-AEF1-2CD53697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79F6-3DEA-4909-96E7-6B8B9A15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C670C-4D8A-4074-AF98-853A5A92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37D-3ECA-4435-A1BE-0A1B6603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AC101-001C-4B38-8221-E27E26A7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B28D-E9E1-4342-891D-CA38F568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B87BE-747F-43AD-8F79-5F7FE045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0CA6C-D89A-4176-9B1E-8A27381F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7AB67-B063-43B1-A954-8A193491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1DC13-07F3-45A0-A6C5-31DEE9D0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C9E4A-1DCA-4846-BC85-AB996307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E3974-0841-4435-BD91-BDE651A2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D0FBD-EAD5-4DF9-9F14-17B84A12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A0F8A-B28E-4965-A553-4933CD46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E99-5EA2-446E-861D-EBA361A8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987AE-E907-482C-8DE6-4F3AA3D8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ABEC0-89CE-4F97-B771-870E5D82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7962D-1409-4AD5-B8B0-E6C3F54A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0B762-2E36-4FCE-A217-A6457F16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9BD25-1436-486D-9945-12D9EE5B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EA7E0-9F05-437D-8C30-A9F17548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7DE29-48A3-4CD4-A051-9B93682B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1D00E-24BE-46F2-B974-ABBB8929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A157B-ED75-4A3F-A009-B7275E80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F30-9638-4764-B50E-2D0F8EE8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B4B9-02AF-4898-9C6A-FD942363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B1C-C971-4E44-970E-5A4E2367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395F-E2B9-48EE-A231-FF982831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CC6-6A41-4065-AA22-389DE146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3B1A-0283-4E81-B543-E995CBEA397A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AA25-BC75-4602-A951-9D3ECCA2BA1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2650-9ADB-4EE2-A18A-EAA7E10EB540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A2BB-10A9-4BBA-9DBB-F05D5405535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E772-6B69-4C57-8E1B-D0DF54D9109A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A2C0-AC7B-4B16-B5D8-1EC05F00849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12B2-F077-400F-9C9D-B15E20B49584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11EB-922A-4817-8CB1-C1A6AAAD517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6600" y="907920"/>
            <a:ext cx="8832960" cy="2987640"/>
          </a:xfrm>
          <a:prstGeom prst="rect">
            <a:avLst/>
          </a:prstGeom>
          <a:ln w="0">
            <a:noFill/>
          </a:ln>
        </p:spPr>
      </p:pic>
      <p:sp>
        <p:nvSpPr>
          <p:cNvPr id="20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4EE6-CEBB-40E5-ADA1-DC8C8B1ED90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3203640" y="404640"/>
            <a:ext cx="2442960" cy="1884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3"/>
          <a:stretch/>
        </p:blipFill>
        <p:spPr>
          <a:xfrm>
            <a:off x="4873680" y="4149720"/>
            <a:ext cx="3514680" cy="2158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4"/>
          <a:stretch/>
        </p:blipFill>
        <p:spPr>
          <a:xfrm>
            <a:off x="546120" y="3959280"/>
            <a:ext cx="245736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Book Antiqua"/>
              </a:rPr>
              <a:t>Аудирование:</a:t>
            </a:r>
            <a:r>
              <a:rPr b="0" lang="ru-RU" sz="2000" spc="-1" strike="noStrike">
                <a:solidFill>
                  <a:srgbClr val="04617b"/>
                </a:solidFill>
                <a:latin typeface="Book Antiqua"/>
              </a:rPr>
              <a:t>  формирование коммуникативной компетенции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9280" y="1628280"/>
            <a:ext cx="8280360" cy="47530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и образования в блок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ммуникативных УУД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улируются ка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заимодействие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торое обеспечивается владением всеми видами речевой деятельности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област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удир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это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декватное понимание информации устного сообщения (коммуникативной установки, темы текста, основной мысли; основной и дополнительной информации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декватное восприятие на слух текстов разных стилей и жанр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адение разными видами аудирования (выборочным, ознакомительным, детальным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особность извлекать информацию из различных источников, включая средства массовой информации, компакт-диски учебного назначения, ресурсы Интернета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особность к преобразованию, сохранению и передаче информации, полученной в результате аудирован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мение сопоставлять и сравнивать речевые высказывания с точки зрения их содержания, стилистических особенностей и использованных языковых средст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Номер слайда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E1A2-6608-4758-BC7C-D75F3F99133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8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000" y="301320"/>
            <a:ext cx="7692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Book Antiqua"/>
              </a:rPr>
              <a:t>Приложения: ориентирование в научном и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Book Antiqua"/>
              </a:rPr>
              <a:t> справочном материале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0" y="2948040"/>
          <a:ext cx="7192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48040"/>
                    <a:ext cx="7192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21BC-C308-4592-B861-CF09621B56B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58920" y="1916280"/>
            <a:ext cx="6410160" cy="345744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иложение к учебнику 5 класса включает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3 учебных словар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со словами из заданий и упражнений учебника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0 инструкций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с учебными стратегиями формирования видов речевой деятельности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6 инструкций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по видам разбор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8" descr="облприложения"/>
          <p:cNvPicPr/>
          <p:nvPr/>
        </p:nvPicPr>
        <p:blipFill>
          <a:blip r:embed="rId3"/>
          <a:stretch/>
        </p:blipFill>
        <p:spPr>
          <a:xfrm rot="412800">
            <a:off x="7164000" y="175680"/>
            <a:ext cx="17287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Book Antiqua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04617b"/>
                </a:solidFill>
                <a:latin typeface="Book Antiqua"/>
              </a:rPr>
              <a:t>Приложения к учебникам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Номер слайда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E63B-0CAC-49A8-A58A-B165402D4CA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63280" y="1699920"/>
            <a:ext cx="6193080" cy="4105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92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мплекте с учебником предлагаю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921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92160" indent="1728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удио-приложе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компакт-диск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2160" indent="1728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ложение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ающе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2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ые словар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2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фографическ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2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фоэпически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2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лков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2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ые инстру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2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ектные зад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Book Antiqua"/>
              </a:rPr>
              <a:t>Основные положения Федерального государственного образовательного  стандарта основного общего образования (2010г.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1280" y="2205000"/>
            <a:ext cx="8066160" cy="4176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771192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ФГОС: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71192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формулирует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требовани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к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структуре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образовательной программы, к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условиям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 и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результатам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 ее освоения на ступени основного общего образования с учетом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индивидуальных особенностей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обучающихся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71192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ориентирует образовательный процесс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на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результаты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 (личностные, метапредметные, предметные) освоения образовательной программы на основе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системно-деятельностного подхода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71192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является основой для разработки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системы объективной оценки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уровня образования обучающихся на ступени основного общего образования;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71192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риентирован на становление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личностных характеристик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ыпускника;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71192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беспечивает формирование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российской гражданской идентичности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единство образовательного пространства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РФ при сохранении культурного,  языкового национального многообразия страны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1ADA-ECD5-4B66-8F34-954BDF66307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590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Book Antiqua"/>
              </a:rPr>
              <a:t>Концептуальные положения курса русского языка в свете требований ФГОС (2010г.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1" name="Diagram 4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12" name=""/>
          <p:cNvSpPr txBox="1"/>
          <p:nvPr/>
        </p:nvSpPr>
        <p:spPr>
          <a:xfrm>
            <a:off x="539640" y="1436400"/>
            <a:ext cx="7920000" cy="5157720"/>
          </a:xfrm>
          <a:prstGeom prst="rect">
            <a:avLst/>
          </a:prstGeom>
          <a:solidFill>
            <a:srgbClr val="009dd9"/>
          </a:solidFill>
          <a:ln w="9360">
            <a:solidFill>
              <a:srgbClr val="009dd9"/>
            </a:solidFill>
            <a:miter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  <a:ea typeface="宋体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Требования Стандарта послужили основой разработки программы курса русского языка, представленного новой линией учебников под ред. А.Д. Шмелев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Концептуальные положения данной программы обеспечивают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преемственно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ь содержания обучения русскому языку на ступенях начального общего, основного общего и среднего (полного) общего образования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сознательное освоение системы опорных зна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по русскому языку и формирован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функциональной грамот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учащихся на основе  их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активной учебно-познаватель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развитие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личностных, регулятивных, познавательных и коммуникативных универсальных учебных действ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в рамках создания социальной среды развития обучающихс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клад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результатов освоения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по русскому языку 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формирование личности учащего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и его готовности 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саморазвити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непрерывному образованию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6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6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6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6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6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6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6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Номер слайда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2C69-5189-4543-BBE0-82BF238CCEC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3"/>
          <p:cNvSpPr/>
          <p:nvPr/>
        </p:nvSpPr>
        <p:spPr>
          <a:xfrm>
            <a:off x="658800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9687-07CF-4BF0-9F36-C87392B384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971640" y="1052640"/>
          <a:ext cx="6913440" cy="4876560"/>
        </p:xfrm>
        <a:graphic>
          <a:graphicData uri="http://schemas.openxmlformats.org/drawingml/2006/table">
            <a:tbl>
              <a:tblPr/>
              <a:tblGrid>
                <a:gridCol w="3313080"/>
                <a:gridCol w="3600360"/>
              </a:tblGrid>
              <a:tr h="216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Личнос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амо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мысло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равственно-эстетическое оцен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Регулятив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Прогноз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Целеполаг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Конт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Корре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>
                        <a:alpha val="71000"/>
                      </a:srgbClr>
                    </a:solidFill>
                  </a:tcPr>
                </a:tc>
              </a:tr>
              <a:tr h="2715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ознава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троить высказы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ормулировать пробл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ефлекс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скать информ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труктурировать 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Читать, получая информ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>
                        <a:alpha val="83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ffff"/>
                          </a:solidFill>
                          <a:latin typeface="Calibri"/>
                        </a:rPr>
                        <a:t>Коммуникатив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ff"/>
                          </a:solidFill>
                          <a:latin typeface="Calibri"/>
                        </a:rPr>
                        <a:t>Разрешать конфли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ff"/>
                          </a:solidFill>
                          <a:latin typeface="Calibri"/>
                        </a:rPr>
                        <a:t>Ставить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ff"/>
                          </a:solidFill>
                          <a:latin typeface="Calibri"/>
                        </a:rPr>
                        <a:t>Управлять повед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ff"/>
                          </a:solidFill>
                          <a:latin typeface="Calibri"/>
                        </a:rPr>
                        <a:t>Планировать учебное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ff"/>
                          </a:solidFill>
                          <a:latin typeface="Calibri"/>
                        </a:rPr>
                        <a:t>Выражать мыс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D01D-A5AA-4A9D-9DEF-61DAE5E419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64480" cy="108108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txBody>
          <a:bodyPr lIns="0" r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Book Antiqua"/>
                <a:ea typeface="隶书"/>
              </a:rPr>
              <a:t>Программа к линии учебников :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Book Antiqua"/>
                <a:ea typeface="隶书"/>
              </a:rPr>
              <a:t> </a:t>
            </a:r>
            <a:r>
              <a:rPr b="0" lang="ru-RU" sz="2400" spc="-1" strike="noStrike">
                <a:solidFill>
                  <a:srgbClr val="04617b"/>
                </a:solidFill>
                <a:latin typeface="Book Antiqua"/>
                <a:ea typeface="隶书"/>
              </a:rPr>
              <a:t>основные линии и их соотношение с разделами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0" y="33526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28"/>
          <p:cNvSpPr/>
          <p:nvPr/>
        </p:nvSpPr>
        <p:spPr>
          <a:xfrm>
            <a:off x="0" y="52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98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107"/>
          <p:cNvSpPr/>
          <p:nvPr/>
        </p:nvSpPr>
        <p:spPr>
          <a:xfrm>
            <a:off x="0" y="521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117" descr="линии курса"/>
          <p:cNvPicPr/>
          <p:nvPr/>
        </p:nvPicPr>
        <p:blipFill>
          <a:blip r:embed="rId1"/>
          <a:stretch/>
        </p:blipFill>
        <p:spPr>
          <a:xfrm>
            <a:off x="468360" y="1773360"/>
            <a:ext cx="8280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932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4617b"/>
                </a:solidFill>
                <a:latin typeface="Book Antiqua"/>
              </a:rPr>
              <a:t>Соотношение структуры учебников  с основными </a:t>
            </a:r>
            <a:br>
              <a:rPr sz="2000"/>
            </a:br>
            <a:r>
              <a:rPr b="1" lang="ru-RU" sz="2000" spc="-1" strike="noStrike">
                <a:solidFill>
                  <a:srgbClr val="04617b"/>
                </a:solidFill>
                <a:latin typeface="Book Antiqua"/>
              </a:rPr>
              <a:t> содержательными линиями программы по русскому языку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AF42-EE0F-4689-BAFB-B71FC1E0D76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0" descr="структкурса"/>
          <p:cNvPicPr/>
          <p:nvPr/>
        </p:nvPicPr>
        <p:blipFill>
          <a:blip r:embed="rId1"/>
          <a:stretch/>
        </p:blipFill>
        <p:spPr>
          <a:xfrm>
            <a:off x="252360" y="1413000"/>
            <a:ext cx="8475840" cy="54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Book Antiqua"/>
              </a:rPr>
              <a:t>Система заданий учебника:  </a:t>
            </a:r>
            <a:br>
              <a:rPr sz="1800"/>
            </a:br>
            <a:r>
              <a:rPr b="1" lang="ru-RU" sz="1800" spc="-1" strike="noStrike">
                <a:solidFill>
                  <a:srgbClr val="04617b"/>
                </a:solidFill>
                <a:latin typeface="Book Antiqua"/>
              </a:rPr>
              <a:t>принцип комплексного формирования компетенций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4360" y="1052280"/>
            <a:ext cx="7488000" cy="33130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язательны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ля каждого модуля являютс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блюдение, анализ, характеристику особенностей языковых единиц и текстов, выдвижение и обсуждение на этой основе гипотез, предположений  (в парах и группах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торение изученного материала на разных  этапах обучения, развитие способности сохранения и передачи полученной информаци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 всех видов  речевой деятельности, включая аудирование при опосредованном общении  (на основе аудиотекста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 материала по степени сложности с учетом индивидуальных особенностей учащихся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ключая проектные задания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иентирование в научном и справочном материал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9" name="Object 5"/>
          <p:cNvGraphicFramePr/>
          <p:nvPr/>
        </p:nvGraphicFramePr>
        <p:xfrm>
          <a:off x="6278400" y="1917720"/>
          <a:ext cx="122904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8400" y="1917720"/>
                    <a:ext cx="12290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" name="Picture 8" descr="задания"/>
          <p:cNvPicPr/>
          <p:nvPr/>
        </p:nvPicPr>
        <p:blipFill>
          <a:blip r:embed="rId3"/>
          <a:stretch/>
        </p:blipFill>
        <p:spPr>
          <a:xfrm>
            <a:off x="611280" y="4508640"/>
            <a:ext cx="4932360" cy="2230200"/>
          </a:xfrm>
          <a:prstGeom prst="rect">
            <a:avLst/>
          </a:prstGeom>
          <a:ln w="0">
            <a:noFill/>
          </a:ln>
        </p:spPr>
      </p:pic>
      <p:sp>
        <p:nvSpPr>
          <p:cNvPr id="232" name="Номер слайда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F4D4-63B1-49FC-9DB4-F4B598F4BCF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7120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ru-RU" sz="1800" spc="-1" strike="noStrike">
                <a:solidFill>
                  <a:srgbClr val="04617b"/>
                </a:solidFill>
                <a:latin typeface="Times New Roman"/>
              </a:rPr>
              <a:t>Ф</a:t>
            </a:r>
            <a:r>
              <a:rPr b="1" lang="ru-RU" sz="1800" spc="-1" strike="noStrike">
                <a:solidFill>
                  <a:srgbClr val="04617b"/>
                </a:solidFill>
                <a:latin typeface="Times New Roman"/>
              </a:rPr>
              <a:t>ормирование </a:t>
            </a:r>
            <a:r>
              <a:rPr b="1" lang="ru-RU" sz="1800" spc="-1" strike="noStrike">
                <a:solidFill>
                  <a:srgbClr val="04617b"/>
                </a:solidFill>
                <a:latin typeface="Book Antiqua"/>
              </a:rPr>
              <a:t> УУД.</a:t>
            </a:r>
            <a:r>
              <a:rPr b="0" lang="ru-RU" sz="1800" spc="-1" strike="noStrike">
                <a:solidFill>
                  <a:srgbClr val="04617b"/>
                </a:solidFill>
                <a:latin typeface="Book Antiqua"/>
              </a:rPr>
              <a:t> Блок </a:t>
            </a:r>
            <a:r>
              <a:rPr b="1" lang="ru-RU" sz="1800" spc="-1" strike="noStrike">
                <a:solidFill>
                  <a:srgbClr val="04617b"/>
                </a:solidFill>
                <a:latin typeface="Book Antiqua"/>
              </a:rPr>
              <a:t>познавательных</a:t>
            </a:r>
            <a:r>
              <a:rPr b="0" lang="ru-RU" sz="1800" spc="-1" strike="noStrike">
                <a:solidFill>
                  <a:srgbClr val="04617b"/>
                </a:solidFill>
                <a:latin typeface="Book Antiqua"/>
              </a:rPr>
              <a:t> универсальных действий 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Book Antiqua"/>
              </a:rPr>
              <a:t>при формировании языковедческой компетенции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Book Antiqua"/>
              </a:rPr>
              <a:t> 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560" y="1484280"/>
            <a:ext cx="8280360" cy="51832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стоятельное выделение и формулирование познавательной цел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работка и структурирование информации: смысловое чтение, работа с тексто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мысление цели чтения, выбор вида чтения в зависимости от коммуникативной цел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иск и выделение необходимой информации из прослушанных и прочитанных текстов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с научными понятиями  и освоение общего приёма доказательства как компонента формирования логического мышлени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ение учащихся в исследовательскую и проектную деятельность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5" name="Object 6"/>
          <p:cNvGraphicFramePr/>
          <p:nvPr/>
        </p:nvGraphicFramePr>
        <p:xfrm>
          <a:off x="5102280" y="1827360"/>
          <a:ext cx="3576600" cy="19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2280" y="1827360"/>
                    <a:ext cx="357660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Номер слайда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6296-D1E2-4211-96E9-66E7DA0D51C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1436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Book Antiqua"/>
              </a:rPr>
              <a:t>Чтение в составе универсальных учебных действий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98200" y="133776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ладение чтением как видом  речевой деятельности относится к блоку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коммуникативных УУД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0" name="Organization Chart 4"/>
          <p:cNvGrpSpPr/>
          <p:nvPr/>
        </p:nvGrpSpPr>
        <p:grpSpPr>
          <a:xfrm>
            <a:off x="1187280" y="2276640"/>
            <a:ext cx="7567200" cy="1368000"/>
            <a:chOff x="1187280" y="2276640"/>
            <a:chExt cx="7567200" cy="1368000"/>
          </a:xfrm>
        </p:grpSpPr>
        <p:cxnSp>
          <p:nvCxnSpPr>
            <p:cNvPr id="241" name="_s2052"/>
            <p:cNvCxnSpPr>
              <a:stCxn id="242" idx="0"/>
              <a:endCxn id="243" idx="2"/>
            </p:cNvCxnSpPr>
            <p:nvPr/>
          </p:nvCxnSpPr>
          <p:spPr>
            <a:xfrm flipV="1" rot="16200000">
              <a:off x="4833720" y="2958480"/>
              <a:ext cx="274320" cy="3600"/>
            </a:xfrm>
            <a:prstGeom prst="bentConnector3">
              <a:avLst>
                <a:gd name="adj1" fmla="val 417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2053"/>
            <p:cNvCxnSpPr>
              <a:stCxn id="245" idx="0"/>
              <a:endCxn id="243" idx="2"/>
            </p:cNvCxnSpPr>
            <p:nvPr/>
          </p:nvCxnSpPr>
          <p:spPr>
            <a:xfrm flipV="1" rot="16200000">
              <a:off x="6157080" y="1635120"/>
              <a:ext cx="274320" cy="2650320"/>
            </a:xfrm>
            <a:prstGeom prst="bentConnector3">
              <a:avLst>
                <a:gd name="adj1" fmla="val 417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2054"/>
            <p:cNvCxnSpPr>
              <a:stCxn id="247" idx="0"/>
              <a:endCxn id="243" idx="2"/>
            </p:cNvCxnSpPr>
            <p:nvPr/>
          </p:nvCxnSpPr>
          <p:spPr>
            <a:xfrm flipH="1" flipV="1" rot="5400000">
              <a:off x="3508920" y="1636920"/>
              <a:ext cx="274320" cy="2647080"/>
            </a:xfrm>
            <a:prstGeom prst="bentConnector3">
              <a:avLst>
                <a:gd name="adj1" fmla="val 417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2055"/>
            <p:cNvSpPr/>
            <p:nvPr/>
          </p:nvSpPr>
          <p:spPr>
            <a:xfrm>
              <a:off x="3834000" y="2276640"/>
              <a:ext cx="2270880" cy="5472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Типы чтения</a:t>
              </a: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_s2056"/>
            <p:cNvSpPr/>
            <p:nvPr/>
          </p:nvSpPr>
          <p:spPr>
            <a:xfrm>
              <a:off x="1187280" y="3097440"/>
              <a:ext cx="2270880" cy="5472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коммуникативное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_s2057"/>
            <p:cNvSpPr/>
            <p:nvPr/>
          </p:nvSpPr>
          <p:spPr>
            <a:xfrm>
              <a:off x="6483600" y="3097440"/>
              <a:ext cx="2270880" cy="5472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самостоятельное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_s2058"/>
            <p:cNvSpPr/>
            <p:nvPr/>
          </p:nvSpPr>
          <p:spPr>
            <a:xfrm>
              <a:off x="3836880" y="3097440"/>
              <a:ext cx="2268000" cy="5472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учебное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8" name="Organization Chart 18"/>
          <p:cNvGrpSpPr/>
          <p:nvPr/>
        </p:nvGrpSpPr>
        <p:grpSpPr>
          <a:xfrm>
            <a:off x="900000" y="4797360"/>
            <a:ext cx="7991280" cy="1295280"/>
            <a:chOff x="900000" y="4797360"/>
            <a:chExt cx="7991280" cy="1295280"/>
          </a:xfrm>
        </p:grpSpPr>
        <p:cxnSp>
          <p:nvCxnSpPr>
            <p:cNvPr id="249" name="_s2061"/>
            <p:cNvCxnSpPr>
              <a:stCxn id="250" idx="0"/>
              <a:endCxn id="251" idx="2"/>
            </p:cNvCxnSpPr>
            <p:nvPr/>
          </p:nvCxnSpPr>
          <p:spPr>
            <a:xfrm flipH="1" flipV="1" rot="5400000">
              <a:off x="4247640" y="4925160"/>
              <a:ext cx="259560" cy="103860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2062"/>
            <p:cNvCxnSpPr>
              <a:stCxn id="253" idx="0"/>
              <a:endCxn id="251" idx="2"/>
            </p:cNvCxnSpPr>
            <p:nvPr/>
          </p:nvCxnSpPr>
          <p:spPr>
            <a:xfrm flipV="1" rot="16200000">
              <a:off x="6319440" y="3890880"/>
              <a:ext cx="259560" cy="31071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4" name="_s2063"/>
            <p:cNvCxnSpPr>
              <a:stCxn id="255" idx="0"/>
              <a:endCxn id="251" idx="2"/>
            </p:cNvCxnSpPr>
            <p:nvPr/>
          </p:nvCxnSpPr>
          <p:spPr>
            <a:xfrm flipV="1" rot="16200000">
              <a:off x="5284440" y="4925880"/>
              <a:ext cx="259560" cy="10371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6" name="_s2064"/>
            <p:cNvCxnSpPr>
              <a:stCxn id="257" idx="0"/>
              <a:endCxn id="251" idx="2"/>
            </p:cNvCxnSpPr>
            <p:nvPr/>
          </p:nvCxnSpPr>
          <p:spPr>
            <a:xfrm flipH="1" flipV="1" rot="5400000">
              <a:off x="3212640" y="3890160"/>
              <a:ext cx="259560" cy="31089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1" name="_s2065"/>
            <p:cNvSpPr/>
            <p:nvPr/>
          </p:nvSpPr>
          <p:spPr>
            <a:xfrm>
              <a:off x="4006440" y="4797360"/>
              <a:ext cx="1776240" cy="5180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Виды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чтения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2066"/>
            <p:cNvSpPr/>
            <p:nvPr/>
          </p:nvSpPr>
          <p:spPr>
            <a:xfrm>
              <a:off x="900000" y="5574600"/>
              <a:ext cx="1776240" cy="5180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ознакомительно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2067"/>
            <p:cNvSpPr/>
            <p:nvPr/>
          </p:nvSpPr>
          <p:spPr>
            <a:xfrm>
              <a:off x="5042520" y="5574600"/>
              <a:ext cx="1776240" cy="5180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поисково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2068"/>
            <p:cNvSpPr/>
            <p:nvPr/>
          </p:nvSpPr>
          <p:spPr>
            <a:xfrm>
              <a:off x="7115040" y="5574600"/>
              <a:ext cx="1776240" cy="5180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выразительно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_s2069"/>
            <p:cNvSpPr/>
            <p:nvPr/>
          </p:nvSpPr>
          <p:spPr>
            <a:xfrm>
              <a:off x="2972160" y="5574600"/>
              <a:ext cx="1774080" cy="5180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изучающе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8" name="Номер слайда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FDC4-BEFC-4BC8-9A36-534F94E59A8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41"/>
          <p:cNvSpPr/>
          <p:nvPr/>
        </p:nvSpPr>
        <p:spPr>
          <a:xfrm>
            <a:off x="826920" y="4005360"/>
            <a:ext cx="72345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адение чтение как интеллектуально-познавательным процессом относится к блок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знавательных УУ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6:21:46Z</dcterms:created>
  <dc:creator>User</dc:creator>
  <dc:description/>
  <dc:language>en-US</dc:language>
  <cp:lastModifiedBy>Алевтина</cp:lastModifiedBy>
  <dcterms:modified xsi:type="dcterms:W3CDTF">2013-09-30T19:12:46Z</dcterms:modified>
  <cp:revision>129</cp:revision>
  <dc:subject/>
  <dc:title>Совместное издание издательствами «Вентана-Граф » и  «Pearson Education Limited»  учебников английского языка нового поколения</dc:title>
</cp:coreProperties>
</file>