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5FE1-E0AB-4B0F-A239-0DDB89D4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54C0-1A93-47BC-82B1-79321E91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8DA-626F-4231-A84E-481EBE50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9852-FB7B-405D-A680-A6CF6AF9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CA7E-CB0E-4E5D-A0EF-784B7440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0BEA-A100-4AF0-B375-54840717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8402-611C-417C-A7C7-FF8E17F1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DCC2-9FA5-459B-A94F-952BB5E1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390B-C78D-4B24-A14D-0B83F575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0448-DAC5-4450-B2DF-651FE68B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76B0-10F5-435F-B32C-20741C3D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7096-9952-4ED5-BE33-3C7FEA7A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6B27-CF0D-410B-A405-17615A2FCC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:\!!!АТТЕСТАЦИЯ\для нс-портала\Внимание (Королёва О.В.)\Презентация к докладу по вниманию\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:\!!!АТТЕСТАЦИЯ\для нс-портала\Внимание (Королёва О.В.)\Презентация к докладу по вниманию\Слайд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:\!!!АТТЕСТАЦИЯ\для нс-портала\Внимание (Королёва О.В.)\Презентация к докладу по вниманию\Слайд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:\!!!АТТЕСТАЦИЯ\для нс-портала\Внимание (Королёва О.В.)\Презентация к докладу по вниманию\Слайд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:\!!!АТТЕСТАЦИЯ\для нс-портала\Внимание (Королёва О.В.)\Презентация к докладу по вниманию\Слайд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:\!!!АТТЕСТАЦИЯ\для нс-портала\Внимание (Королёва О.В.)\Презентация к докладу по вниманию\Слайд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:\!!!АТТЕСТАЦИЯ\для нс-портала\Внимание (Королёва О.В.)\Презентация к докладу по вниманию\Слайд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:\!!!АТТЕСТАЦИЯ\для нс-портала\Внимание (Королёва О.В.)\Презентация к докладу по вниманию\Слайд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:\!!!АТТЕСТАЦИЯ\для нс-портала\Внимание (Королёва О.В.)\Презентация к докладу по вниманию\Слайд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:\!!!АТТЕСТАЦИЯ\для нс-портала\Внимание (Королёва О.В.)\Презентация к докладу по вниманию\Слайд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:\!!!АТТЕСТАЦИЯ\для нс-портала\Внимание (Королёва О.В.)\Презентация к докладу по вниманию\Слайд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:\!!!АТТЕСТАЦИЯ\для нс-портала\Внимание (Королёва О.В.)\Презентация к докладу по вниманию\Слайд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22:09:50Z</dcterms:created>
  <dc:creator>Королёва</dc:creator>
  <dc:description/>
  <dc:language>en-US</dc:language>
  <cp:lastModifiedBy>Оксана</cp:lastModifiedBy>
  <dcterms:modified xsi:type="dcterms:W3CDTF">2013-09-25T10:56:51Z</dcterms:modified>
  <cp:revision>61</cp:revision>
  <dc:subject/>
  <dc:title>Слайд 1</dc:title>
</cp:coreProperties>
</file>