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C8C1-08A4-4253-A4A9-4ED2E0CBD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F4D4-D253-474C-ADE2-4BF2E5F87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2E7B-8FDA-475A-8184-5C9E2D32B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F249-956B-4A8C-9F7A-6BE977F1E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551F-803A-4A66-BF46-52FF7218C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BE28-B103-47C1-81C0-C6ED51578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D424-600D-44FA-8F51-C7FD7CDD2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8729-3CE8-4E9E-A940-269D4D483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9327-C2A5-4856-BFC6-EF09F9DBE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04D2-25E3-4F26-98CA-95160164B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4E96-F03C-4D6A-B9A0-3D88E476F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B38C-B1B8-4130-831E-849F83145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84E9D-F4F2-4437-84B7-23BEED1331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827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alibri"/>
              </a:rPr>
              <a:t>Ледовое побоище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C:\Users\Teacher\Desktop\Новая папка\20[1].jpg"/>
          <p:cNvPicPr/>
          <p:nvPr/>
        </p:nvPicPr>
        <p:blipFill>
          <a:blip r:embed="rId1"/>
          <a:stretch/>
        </p:blipFill>
        <p:spPr>
          <a:xfrm>
            <a:off x="826920" y="1844640"/>
            <a:ext cx="767736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УКОВОДИТЕЛЬ ТЕВТОНСКОГО ОРДЕНА НОСИЛ ТИТУЛ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А. КОРОЛ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Б. ЯР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. МАГИСТ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В. МАГИСТР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858960" y="443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КУЛИКОВСКАЯ БИТВ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C:\Users\Teacher\Desktop\Новая папка\3385_20100419100838_original[1].jpg"/>
          <p:cNvPicPr/>
          <p:nvPr/>
        </p:nvPicPr>
        <p:blipFill>
          <a:blip r:embed="rId1"/>
          <a:stretch/>
        </p:blipFill>
        <p:spPr>
          <a:xfrm>
            <a:off x="324000" y="0"/>
            <a:ext cx="835164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КУЛИКОВСКАЯ БИТВА ПРОИЗОШЛ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А. 8 СЕНТЯБРЯ 1380 г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Б. 8 СЕНТЯБРЯ 1382 г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. 8 АВГУСТА 1380 г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А. 8 СЕНТЯБРЯ 1380 г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БИТВА НАЧАЛАСЬ С ПОЕДИНКА ТАТАРИНА ЧЕЛУБЕЯ С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А. ДМИТРИЕМ ОСЛЯБ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Б. АЛЕКСАНДРОМ ПЕРЕСВЕТО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. МИХАИЛОМ БРЕНКОМ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Б. АЛЕКСАНДР ПЕРЕСВЕ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240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ЗАСАДНЫМ ПОЛКОМ В СРАЖЕНИИ КОМАНДОВАЛ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А. ВЛАДИМИР СЕРПУХОВСКИЙ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Б. АНДРЕЙ ПОЛОЦКИЙ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В. МИКУЛА ВЕЛЬЯМИНОВ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А. ВЛАДИМИР СЕРПУХОВСКИЙ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7928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КУЛИКОВСКОЙ БИТВЕ ПРЕДШЕСТВОВАЛО СРАЖЕНИЕ НА РЕКЕ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А. ПЬЯН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Б. ВОЖ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В. СУР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ЛЕДОВОЕ ПОБОИЩЕ ПРОИЗОШЛО НА ЛЬДУ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А. ЧУДСКОГО ОЗЕР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Б.   ЛАДОЖСКОГО ОЗЕР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В.   ОНЕЖСКОГО ОЗЕРА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Б. ВОЖ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9528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Calibri"/>
              </a:rPr>
              <a:t>ДОКУМЕНТ ВЫДАВАЕМЫЙ ХАНАМИ ЗОЛОТОЙ ОРДЫ И ДАВАВШИЙ ПРАВО НА ВЕЛИКОЕ КНЯЖЕНИЕ ВЛАДИМИРСКОЕ НАЗЫВАЛСЯ: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Calibri"/>
              </a:rPr>
              <a:t>А. ЯРЛЫК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Calibri"/>
              </a:rPr>
              <a:t>Б. ГРАМОТА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Calibri"/>
              </a:rPr>
              <a:t>В. ДИРХЕМ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964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РУССКИЕ ВОЙСКА НА БИТВУ БЛАГОСЛОВИЛ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А. СЕРАФИМ САРОВСКИЙ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Б. СТЕПАН ПЕРМСКИЙ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В. СЕРГИЙ РАДОНЕЖСКИЙ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В. СЕРГИЙ РАДОНЕЖСКИЙ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240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ОЮЗНИКОМ МАМАЯ В ЭТО ВРЕМЯ БЫЛ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А. ПОЛЬСКИЙ КОРОЛЬ КАЗИМИ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Б. ЛИТОВСКИЙ КНЯЗЬ ЯГАЙЛ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. ХАН ВОЛЖСКОЙ ОРДЫ ТОХТАМЫШ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Б. ЛИТОВСКИЙ КНЯЗЬ ЯГАЙЛО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95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БОРОДИНСКОЕ СРАЖЕНИ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C:\Users\Teacher\Desktop\Новая папка\cda6c1ac26f9[1].jpg"/>
          <p:cNvPicPr/>
          <p:nvPr/>
        </p:nvPicPr>
        <p:blipFill>
          <a:blip r:embed="rId1"/>
          <a:stretch/>
        </p:blipFill>
        <p:spPr>
          <a:xfrm>
            <a:off x="1187280" y="2260440"/>
            <a:ext cx="65026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 НАЧАЛЕ ВОЙНЫ 1812 г. РУССКИМИ ВОЙСКАМИ КОМАНДОВАЛ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А. ГЕНЕРАЛ БАГРАТИО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Б. ГЕНЕРАЛ РАЕВСК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. ГЕНЕРАЛ БАРКЛАЙ ДЕ ТОЛЛ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В. ГЕНЕРАЛ БАРКЛАЙ ДЕ ТОЛЛ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СРАЖЕНИЕ ПРОИЗОШЛО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А. 26 СЕНТЯБРЯ 1812 г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Б. 26 августа 1812 г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В. 26 ОКТЯБРЯ 1812 г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А. ЧУДСКОЕ ОЗЕРО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Б. 26 августа 1812 г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2400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ИНЖЕНЕРНЫЕ СООРУЖЕНИЯ НА ЛЕВОМ ФЛАНГЕ РУССКИХ ПОЗИЦИЙ НАЗЫВАЛИСЬ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А. БАГРАТИОНОВЫ ФЛЕШ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Б. БАГРАТИОНОВЫ ФЛЕШК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В. БАГРАТИОНОВЫ ОКОПЫ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А. БАГРАТИОНОВЫ ФЛЕШ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-10800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В ЦЕНТРЕ РУССКОЙ ПОЗИЦИИ НАХОДИЛОСЬ УКРЕПЛЕНИЕ НАЗЫВАЕМОЕ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А. БАТАРЕЯ ЕРМОЛОВА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Б.  БАТАРЕЯ РАЕВСКОГО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В.  БАТАРЕЯ КУТУЗОВ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Б. БАТАРЕЯ РАЕВСКОГО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БИТВА ЗА МОСКВУ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C:\Users\Teacher\Desktop\Новая папка\1318130701_x_e6eeb22d[1].jpg"/>
          <p:cNvPicPr/>
          <p:nvPr/>
        </p:nvPicPr>
        <p:blipFill>
          <a:blip r:embed="rId1"/>
          <a:stretch/>
        </p:blipFill>
        <p:spPr>
          <a:xfrm>
            <a:off x="826920" y="2492280"/>
            <a:ext cx="78487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БИТВА ЗА МОСКВУ ПРОИСХОДИЛА В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А. 1941г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Б. 1942 г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В. 1943 г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ГИТЛЕР НАЗВАЛ ОПЕРАЦИЮ ПО ЗАХВАТУ МОСКВЫ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А. УРАГАН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Б. СМЕРЧ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В. ТАЙФУН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В. ТАЙФУН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2400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ЗАПАДНЫМ ФРОНТОМ ЗАЩИЩАВШИМ МОСКВУ КОМАНДОВАЛ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И.С. КОНЕВ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С.М. БУДЕННЫЙ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М.Н. ТУХАЧЕВСКИЙ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ЛЕДОВОЕ ПОБОИЩЕ ПРОИЗОШЛО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А.  5 АПРЕЛЯ 1242 г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Б.  5 АПРЕЛЯ 1240 г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В.  5 АПРЕЛЯ 1243 г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А. И.С. КОНЕВ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7928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ЗНАМЕНИТЫЕ УСТАНОВКИ ГВАРДЕЙСКИХ МИНОМЕТОВ НАЗЫВАЛИСЬ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А. МАМАШ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Б. КАТЮШ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В. НАТАШ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Б. КАТЮШ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964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В НЕБЕ НАД МОСКВОЙ ВПЕРВЫЕ НОЧНОЙ ТАРАН СОВЕРШИЛ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А. ИВАН КОЖЕДУБ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Б. ВИКТОР ТАЛАЛИХИН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В. АЛЕКСАНДР ПОКРЫШКИН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Б. ВИКТОР ТАЛАЛИХИН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9528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ПАРАД ВОЙСК МОСКОВСКОГО ГАРНИЗОНА СОСТОЯЛСЯ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А. 4 НОЯБРЯ 1941 г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Б. 7 НОЯБРЯ 1941 г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В. 7 ДЕКАБРЯ 1941 г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Б. 7 НОЯБРЯ 1941 г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6836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НАСТУПЛЕНИЕ КРАСНОЙ АРМИИ ПОД МОСКВОЙ НАЧАЛОСЬ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5 ДЕКАБРЯ 1941 г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5 ЯНВАРЯ 1942 г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5 ДЕКАБРЯ 1942 г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А. 5 ДЕКАБРЯ 1941 г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7928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ЛОВА «ВЕЛИКА РОССИЯ, А ОТСТУПАТЬ НЕКУДА – ПОЗАДИ МОСКВА» ПРИНАДЛЕЖАТ ПОЛИТРУКУ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А. КУСКОВ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Б. КЛОЧКОВ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. КАТКОВ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А. 5 АПРЕЛЯ 1242 г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Б. КЛОЧКОВ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АЕМНАЯ ПЕХОТА В ВОЙСКЕ ТЕВТОНОВ НАЗЫВАЛАСЬ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А. ЧУДИНЫ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Б. КНЕХТЫ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. КСЕНДЗ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Б. КНЕХТЫ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РУССКИМИ ВОЙСКАМИ В СРАЖЕНИИ РУКОВОДИЛ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А.  ДМИТРИЙ ДОНСКОЙ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Б.  АЛЕКСАНДР ПЕРЕСВЕ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В.  АЛЕКСАНДР НЕВСКИЙ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В. АЛЕКСАНДР НЕВСКИЙ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6T11:08:08Z</dcterms:created>
  <dc:creator>Teacher</dc:creator>
  <dc:description/>
  <dc:language>en-US</dc:language>
  <cp:lastModifiedBy>Teacher</cp:lastModifiedBy>
  <dcterms:modified xsi:type="dcterms:W3CDTF">2012-12-03T12:13:56Z</dcterms:modified>
  <cp:revision>29</cp:revision>
  <dc:subject/>
  <dc:title>Ледовое побоище</dc:title>
</cp:coreProperties>
</file>