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D3D-8E6B-4009-A9AF-DB624A38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B57-8490-4E2D-9119-6DEA8B8D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0A9-CDF4-4525-B583-5D49C82A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D5E-2604-4183-B619-AEB92FE3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DE8D-C32B-44C5-8853-2E9DF8D6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E878-0E8C-482E-8A8A-725FFD15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7AE8-4EC7-4271-85C7-5514D80B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1E0C-71C1-4BC7-B1AE-3DB9F96F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5E59-B08A-46ED-8A54-7A971BEF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F4E5-C65D-4D66-838E-A06109D2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DA9A-8AB0-4F23-8231-1FB36CA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73C-D5F5-41CC-987E-0668E573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19C2-AD53-4BE7-B91B-0DCC375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D5B1-7EDB-494C-8A55-5B0B774B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CD8F-F96B-4D32-A170-85B41381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D60C-9FC3-4FA1-82E2-88A5DC76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41AE-29EF-4378-8EC7-A86FF330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DF33-11F5-4192-81BB-DED3B043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CB61-01EF-4109-B0E7-D04B259C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70DB-9F5B-4651-8884-4714D070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4C4B-9EC5-4DBB-92C8-5C151540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8A2BC-6EFF-4574-839C-464A5539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CB9-C2EB-45C5-A4A0-E695F5F6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8537-6C57-461B-9FD7-CBDA883D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8813-9302-4ABF-A65F-5D8C89DE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80BA-1A4E-4A44-954F-8781E9AD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3879-711E-4EC9-8DFA-76BAC1CA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0E95-69AF-447B-9977-C68C62B9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45B8-93F3-453F-800F-F6D04882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ADD5-91C7-40E3-9B67-197E050B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B6DE-48CF-450B-8506-024E5FEC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3159F-F4C4-44D6-BF46-68DEAD1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9C4A-8B17-47E5-9B59-A180FBBD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53C-AF9E-4FCA-8AE7-53F969B9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EEDD-311D-4CC4-A6AE-720AF32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21FAE-FFBB-4DDF-940A-B85BFC3E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55BA-99AB-4A8C-A1A2-1F548B82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BEE8D-4E78-4154-92C3-B05BC4D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17F7-8069-4DFB-AB75-FA05A1B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2A809-B8B9-47C5-ABFF-439AF8A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D5BB3-AD99-4370-8285-EF440A84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7757-3E24-49D7-B619-24B767B1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6334-E82A-4DB7-A118-63240E32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DA51B-521D-47CB-A73B-46B754DC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0E9-3253-4A00-98BA-B5843DCC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C9B43-97FC-4D34-941D-2CEFE51B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AFF0-D64A-427B-AE20-3E708C90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112D-7A06-4CAE-AC9B-755C24D9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26DC-FEAA-4C33-9B8B-B6C40662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D6315-9A54-4008-97F4-853608CF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F2C0-0F7E-4338-BBC5-717B919F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18F08-6C03-4850-8CBE-235A720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6157-BCF4-4188-A6B0-BDB344FC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E40DC-1CBA-4568-9768-EEE3B927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3C625-8C8F-49B4-B45A-FD6C218E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E71-34D1-42C3-8917-893D385A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68196-B7CE-4B97-B396-3F8E969A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083-0D21-4F5F-898D-21969B2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DCC-86E9-4AD2-8CAF-4802B914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2D5-5F9E-4C29-B643-DD172358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58C2-914D-49EB-8A75-73799C1A050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A8AF-289C-4605-BC34-BD42F0E86DE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DBC0-43EB-4DF1-9E40-63ADD6B2A97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1E28-AE66-4D62-A79E-C4D068683008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DD25-8C94-447A-A0AD-4EED44385B1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 rot="19140000">
            <a:off x="-76680" y="2968200"/>
            <a:ext cx="5583240" cy="16527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ЛОЕ   ИЛИ КОРИЧНЕВОЕ?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932360" y="4365720"/>
            <a:ext cx="39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Автор: учениц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7б класс МБОУ СОШ №20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уководитель работы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учитель химии и биологи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амофалова Наталья Николаевн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817560" y="173016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250920" y="18900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рочности куриного яйца (с разным цветом скорлупы: белые и коричневые), для чего были использованы физические методы, проведены химические опыты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литературу по теме исследования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строение скорлупы яйца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учиться определять массу, плотность, прочность яиц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9" name="Picture 3" descr="F:\курица\DSC05632.JPG"/>
          <p:cNvPicPr/>
          <p:nvPr/>
        </p:nvPicPr>
        <p:blipFill>
          <a:blip r:embed="rId1"/>
          <a:stretch/>
        </p:blipFill>
        <p:spPr>
          <a:xfrm>
            <a:off x="2120760" y="3236760"/>
            <a:ext cx="4756320" cy="356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896472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ССОВАЯ ДОЛЯ СКОРЛУПЫ КОРИЧНЕВОГО ЦВЕТА БОЛЬШЕ, ЧЕМ МАССОВАЯ ДОЛЯ СКОРЛУПЫ БЕЛОГО ЦВЕТА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6" descr="C:\Users\user\Desktop\нла.jpg"/>
          <p:cNvPicPr/>
          <p:nvPr/>
        </p:nvPicPr>
        <p:blipFill>
          <a:blip r:embed="rId1"/>
          <a:stretch/>
        </p:blipFill>
        <p:spPr>
          <a:xfrm>
            <a:off x="2340000" y="1746360"/>
            <a:ext cx="4680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889308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РЛУПА КОРИЧНЕВОГО ЦВЕТА ВЫДЕРЖАЛА МАССУ ГИРЬ 1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Г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500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И РАЗДАВИЛАСЬ,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БОЛЬШЕ НА 220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ЧЕМ ВЫДЕРЖАЛА СКОРЛУПА БЕЛОГО ЦВЕТА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5" name="Picture 9" descr="E:\DCIM\100OLYMP\PA030150.JPG"/>
          <p:cNvPicPr/>
          <p:nvPr/>
        </p:nvPicPr>
        <p:blipFill>
          <a:blip r:embed="rId1"/>
          <a:stretch/>
        </p:blipFill>
        <p:spPr>
          <a:xfrm>
            <a:off x="1547640" y="2346480"/>
            <a:ext cx="5359680" cy="4024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19000" y="1701720"/>
            <a:ext cx="320040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828036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ДЕРЖАНИЕ КАРБОНАТА КАЛЬЦИЯ БОЛЬШЕ В СКОРЛУПЕ КОРИЧНЕВОГО ЦВЕТА, ЧТО ПОДТВЕРЖДАЕТ ПРОЧНОСТЬ ЯИЦ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8" name="Picture 2" descr="E:\DCIM\100OLYMP\PA020138.JPG"/>
          <p:cNvPicPr/>
          <p:nvPr/>
        </p:nvPicPr>
        <p:blipFill>
          <a:blip r:embed="rId1"/>
          <a:stretch/>
        </p:blipFill>
        <p:spPr>
          <a:xfrm>
            <a:off x="469800" y="2419200"/>
            <a:ext cx="3200400" cy="240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E:\DCIM\100OLYMP\PA030159.JPG"/>
          <p:cNvPicPr/>
          <p:nvPr/>
        </p:nvPicPr>
        <p:blipFill>
          <a:blip r:embed="rId2"/>
          <a:stretch/>
        </p:blipFill>
        <p:spPr>
          <a:xfrm>
            <a:off x="5510160" y="2494080"/>
            <a:ext cx="32004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3640" y="365040"/>
            <a:ext cx="8569080" cy="16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ЛЩИНА СКОРЛУПЫ СВЯЗАНА С ПЛОТНОСТЬЮ ЯИЦ. ЧЕМ ТОЛЩЕ СКОРЛУПА, ТЕМ БОЛЬШЕ ПЛОТНОСТЬ ЯЙЦА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1" name="Picture 2" descr="E:\DCIM\100OLYMP\PA030162.JPG"/>
          <p:cNvPicPr/>
          <p:nvPr/>
        </p:nvPicPr>
        <p:blipFill>
          <a:blip r:embed="rId1"/>
          <a:stretch/>
        </p:blipFill>
        <p:spPr>
          <a:xfrm>
            <a:off x="2054160" y="1987560"/>
            <a:ext cx="5280120" cy="3962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8:09:56Z</dcterms:created>
  <dc:creator>Михеев</dc:creator>
  <dc:description/>
  <dc:language>en-US</dc:language>
  <cp:lastModifiedBy>Михеев</cp:lastModifiedBy>
  <dcterms:modified xsi:type="dcterms:W3CDTF">2013-10-03T19:21:40Z</dcterms:modified>
  <cp:revision>18</cp:revision>
  <dc:subject/>
  <dc:title>Краевой конкурс юных исследователей окружающей среды Номинация «Зоокультура и ветеринария»</dc:title>
</cp:coreProperties>
</file>