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71D-A0FD-42B0-94D2-9AD023B9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500-016D-41B5-8D7C-FAEAEE6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602-2342-4146-A04D-C22DD130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13B-60BA-49D4-8806-271C5E59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E71-2C9B-44A3-A6AD-E124DED0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37D-9626-4B1D-84FE-5978007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5AC-A991-425C-9651-616588C4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D85-6A9F-4893-8101-063D9D28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D47-9493-4E19-AC28-436538DB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A10-3E30-4404-A4E7-4943162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7F5-DAF2-4015-958C-035E793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E80-1930-4A7D-B2DE-499FFCF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1F8D-10F4-412B-9433-892E5F14F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Тест  по русскому языку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«Разделительный ь и ъ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14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 правильное высказы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>
            <a:hlinkClick r:id="rId1" action="ppaction://hlinksldjump"/>
          </p:cNvPr>
          <p:cNvSpPr/>
          <p:nvPr/>
        </p:nvSpPr>
        <p:spPr>
          <a:xfrm>
            <a:off x="2571840" y="3929040"/>
            <a:ext cx="3456000" cy="223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684360" y="1628640"/>
            <a:ext cx="3527280" cy="187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>
            <a:hlinkClick r:id="rId3" action="ppaction://hlinksldjump"/>
          </p:cNvPr>
          <p:cNvSpPr/>
          <p:nvPr/>
        </p:nvSpPr>
        <p:spPr>
          <a:xfrm>
            <a:off x="4500720" y="1484280"/>
            <a:ext cx="3598560" cy="216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ери правильное высказыва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>
            <a:hlinkClick r:id="rId1" action="ppaction://hlinksldjump"/>
          </p:cNvPr>
          <p:cNvSpPr/>
          <p:nvPr/>
        </p:nvSpPr>
        <p:spPr>
          <a:xfrm>
            <a:off x="2286000" y="3786120"/>
            <a:ext cx="3529080" cy="2163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>
            <a:hlinkClick r:id="rId2" action="ppaction://hlinksldjump"/>
          </p:cNvPr>
          <p:cNvSpPr/>
          <p:nvPr/>
        </p:nvSpPr>
        <p:spPr>
          <a:xfrm>
            <a:off x="684360" y="1700280"/>
            <a:ext cx="352728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3" action="ppaction://hlinksldjump"/>
          </p:cNvPr>
          <p:cNvSpPr/>
          <p:nvPr/>
        </p:nvSpPr>
        <p:spPr>
          <a:xfrm>
            <a:off x="4643280" y="1557360"/>
            <a:ext cx="3456000" cy="2087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 правильное высказ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428920" y="3929040"/>
            <a:ext cx="3456000" cy="223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498960" indent="-49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55640" y="1700280"/>
            <a:ext cx="3456000" cy="180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3280" y="1557360"/>
            <a:ext cx="3456000" cy="2087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3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ряду слов пишется только разделительный ъ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859280" y="1484280"/>
            <a:ext cx="338472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…ютант, об…ект, ин…е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1484280"/>
            <a:ext cx="352728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…ект, павил…он, шампи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700360" y="3860640"/>
            <a:ext cx="3527280" cy="2232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…ективный, бул…он, компа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643800" y="385776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ряду слов пишется только разделительный ъ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716360" y="1557360"/>
            <a:ext cx="352764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…ютант, об…ект, ин…е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6920" y="1557360"/>
            <a:ext cx="338472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…ект, павил…он, шампи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771640" y="4005360"/>
            <a:ext cx="345600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…ективный, бул…он, компа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572160" y="400068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ряду слов пишется только разделительный ъ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…ютант, об…ект, ин…е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84360" y="1557360"/>
            <a:ext cx="352728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…ект, павил…он, шампи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…ективный, бул…он, компа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572160" y="392904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ряду слов пишется только разделительный ъ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…ютант, об…ект, ин…е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55640" y="1557360"/>
            <a:ext cx="345600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…ект, павил…он, шампи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…ективный, бул…он, компа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3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715080" y="400068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ряду слов пишется только разделительный ъ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716360" y="1557360"/>
            <a:ext cx="352764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…ютант, об…ект, ин…е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55640" y="1557360"/>
            <a:ext cx="3456000" cy="21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…ект, павил…он, шампи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700360" y="4005360"/>
            <a:ext cx="3527280" cy="21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…ективный, бул…он, компан…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4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643800" y="400068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ожалению, сегодня ты показал низк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ую повторить прави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уверен, у тебя всё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3571920" y="4286160"/>
            <a:ext cx="218124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ты показал средн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ую повторить прав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уверен, у тебя всё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6286680" y="4357800"/>
            <a:ext cx="21808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3143160"/>
            <a:ext cx="5860800" cy="2925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ройди тест и определи уровень своих знаний по теме «Разделительный ь и ъ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E:\Новая папка (2)\Презентации\Сказочные персонажи\847eb483505f.JPG"/>
          <p:cNvPicPr/>
          <p:nvPr/>
        </p:nvPicPr>
        <p:blipFill>
          <a:blip r:embed="rId3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й уровень знаний по данной теме достаточно хорош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3214800" y="3214800"/>
            <a:ext cx="218124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воя отмет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ец! Ты показал высокий уровень знаний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дальнейших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E:\Новая папка (2)\Презентации\Сказочные персонажи\847eb483505f.JPG"/>
          <p:cNvPicPr/>
          <p:nvPr/>
        </p:nvPicPr>
        <p:blipFill>
          <a:blip r:embed="rId1"/>
          <a:stretch/>
        </p:blipFill>
        <p:spPr>
          <a:xfrm>
            <a:off x="3357720" y="3357720"/>
            <a:ext cx="242856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ве на месте пропуска пишется разделительны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>
            <a:hlinkClick r:id="rId1" action="ppaction://hlinksldjump"/>
          </p:cNvPr>
          <p:cNvSpPr/>
          <p:nvPr/>
        </p:nvSpPr>
        <p:spPr>
          <a:xfrm>
            <a:off x="642960" y="20001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..ех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>
            <a:hlinkClick r:id="rId2" action="ppaction://hlinksldjump"/>
          </p:cNvPr>
          <p:cNvSpPr/>
          <p:nvPr/>
        </p:nvSpPr>
        <p:spPr>
          <a:xfrm>
            <a:off x="457200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…ю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>
            <a:hlinkClick r:id="rId3" action="ppaction://hlinksldjump"/>
          </p:cNvPr>
          <p:cNvSpPr/>
          <p:nvPr/>
        </p:nvSpPr>
        <p:spPr>
          <a:xfrm>
            <a:off x="2500200" y="40719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…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2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каком ряду во всех словах не пишется разделительный 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>
            <a:hlinkClick r:id="rId1" action="ppaction://hlinksldjump"/>
          </p:cNvPr>
          <p:cNvSpPr/>
          <p:nvPr/>
        </p:nvSpPr>
        <p:spPr>
          <a:xfrm>
            <a:off x="234000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…еса, об…ехал, в…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>
            <a:hlinkClick r:id="rId2" action="ppaction://hlinksldjump"/>
          </p:cNvPr>
          <p:cNvSpPr/>
          <p:nvPr/>
        </p:nvSpPr>
        <p:spPr>
          <a:xfrm>
            <a:off x="4643280" y="17733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…ий, медвеж…я,кошач…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>
            <a:hlinkClick r:id="rId3" action="ppaction://hlinksldjump"/>
          </p:cNvPr>
          <p:cNvSpPr/>
          <p:nvPr/>
        </p:nvSpPr>
        <p:spPr>
          <a:xfrm>
            <a:off x="571680" y="1785960"/>
            <a:ext cx="345564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ч…ной, без…облачный, реч…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060720" y="6165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2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каком ряду во всех словах не пишется 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 action="ppaction://hlinksldjump"/>
          </p:cNvPr>
          <p:cNvSpPr/>
          <p:nvPr/>
        </p:nvSpPr>
        <p:spPr>
          <a:xfrm>
            <a:off x="2340000" y="40766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…еса, об…ехал, в…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…ий, медвеж…я,кошач…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 action="ppaction://hlinksldjump"/>
          </p:cNvPr>
          <p:cNvSpPr/>
          <p:nvPr/>
        </p:nvSpPr>
        <p:spPr>
          <a:xfrm>
            <a:off x="642960" y="20001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ч…ной, без…облачный, реч…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60720" y="6165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а месте пропусков пишется одна и та же букв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>
            <a:hlinkClick r:id="rId1" action="ppaction://hlinksldjump"/>
          </p:cNvPr>
          <p:cNvSpPr/>
          <p:nvPr/>
        </p:nvSpPr>
        <p:spPr>
          <a:xfrm>
            <a:off x="4643280" y="1928880"/>
            <a:ext cx="3456000" cy="157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…явить, с…есть, об…яс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>
            <a:hlinkClick r:id="rId2" action="ppaction://hlinksldjump"/>
          </p:cNvPr>
          <p:cNvSpPr/>
          <p:nvPr/>
        </p:nvSpPr>
        <p:spPr>
          <a:xfrm>
            <a:off x="755640" y="1857240"/>
            <a:ext cx="3456000" cy="1643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…летел, вороб…и, с…ез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3" action="ppaction://hlinksldjump"/>
          </p:cNvPr>
          <p:cNvSpPr/>
          <p:nvPr/>
        </p:nvSpPr>
        <p:spPr>
          <a:xfrm>
            <a:off x="2643120" y="41432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…ер, раз…единить, свин…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786720" y="3929040"/>
            <a:ext cx="218124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а месте пропусков пишется одна и та же букв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>
            <a:hlinkClick r:id="rId1" action="ppaction://hlinksldjump"/>
          </p:cNvPr>
          <p:cNvSpPr/>
          <p:nvPr/>
        </p:nvSpPr>
        <p:spPr>
          <a:xfrm>
            <a:off x="4643280" y="20001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…явить, с…есть, об…яс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>
            <a:hlinkClick r:id="rId2" action="ppaction://hlinksldjump"/>
          </p:cNvPr>
          <p:cNvSpPr/>
          <p:nvPr/>
        </p:nvSpPr>
        <p:spPr>
          <a:xfrm>
            <a:off x="763560" y="200016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…летел, вороб…и, с…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>
            <a:hlinkClick r:id="rId3" action="ppaction://hlinksldjump"/>
          </p:cNvPr>
          <p:cNvSpPr/>
          <p:nvPr/>
        </p:nvSpPr>
        <p:spPr>
          <a:xfrm>
            <a:off x="2571840" y="400068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…ер, раз…единить, свин…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1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а месте пропусков пишется одна и та же букв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>
            <a:hlinkClick r:id="rId1" action="ppaction://hlinksldjump"/>
          </p:cNvPr>
          <p:cNvSpPr/>
          <p:nvPr/>
        </p:nvSpPr>
        <p:spPr>
          <a:xfrm>
            <a:off x="464328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…явить, с…есть, об…яс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>
            <a:hlinkClick r:id="rId2" action="ppaction://hlinksldjump"/>
          </p:cNvPr>
          <p:cNvSpPr/>
          <p:nvPr/>
        </p:nvSpPr>
        <p:spPr>
          <a:xfrm>
            <a:off x="755640" y="198900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…летел, вороб…и, с…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3" action="ppaction://hlinksldjump"/>
          </p:cNvPr>
          <p:cNvSpPr/>
          <p:nvPr/>
        </p:nvSpPr>
        <p:spPr>
          <a:xfrm>
            <a:off x="2643120" y="3929040"/>
            <a:ext cx="34560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…ер, раз…единить, свин…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2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дание №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 правильное высказыва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>
            <a:hlinkClick r:id="rId1" action="ppaction://hlinksldjump"/>
          </p:cNvPr>
          <p:cNvSpPr/>
          <p:nvPr/>
        </p:nvSpPr>
        <p:spPr>
          <a:xfrm>
            <a:off x="2500200" y="3857760"/>
            <a:ext cx="3529080" cy="22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>
            <a:hlinkClick r:id="rId2" action="ppaction://hlinksldjump"/>
          </p:cNvPr>
          <p:cNvSpPr/>
          <p:nvPr/>
        </p:nvSpPr>
        <p:spPr>
          <a:xfrm>
            <a:off x="755640" y="1844640"/>
            <a:ext cx="3456000" cy="180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и в корня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>
            <a:hlinkClick r:id="rId3" action="ppaction://hlinksldjump"/>
          </p:cNvPr>
          <p:cNvSpPr/>
          <p:nvPr/>
        </p:nvSpPr>
        <p:spPr>
          <a:xfrm>
            <a:off x="4643280" y="1557360"/>
            <a:ext cx="3456000" cy="2087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ельный ь пишется после согласных перед буквами е, е, ю, я,  в корнях или в конц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59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набрали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:\Новая папка (2)\Презентации\Сказочные персонажи\847eb483505f.JPG"/>
          <p:cNvPicPr/>
          <p:nvPr/>
        </p:nvPicPr>
        <p:blipFill>
          <a:blip r:embed="rId4"/>
          <a:stretch/>
        </p:blipFill>
        <p:spPr>
          <a:xfrm>
            <a:off x="6286680" y="3786120"/>
            <a:ext cx="2180880" cy="264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4:20:07Z</dcterms:created>
  <dc:creator>User</dc:creator>
  <dc:description/>
  <dc:language>en-US</dc:language>
  <cp:lastModifiedBy>OLGA</cp:lastModifiedBy>
  <dcterms:modified xsi:type="dcterms:W3CDTF">2013-10-01T09:33:10Z</dcterms:modified>
  <cp:revision>29</cp:revision>
  <dc:subject/>
  <dc:title>Вопрос №1 </dc:title>
</cp:coreProperties>
</file>