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8FA-8B5E-4BA9-90F4-729E19A0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5EE-6487-445E-ABA5-02904C36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2CE-7780-41A7-B875-678D5058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CFA-7C25-41FB-A540-B25B3C5D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34E9-1E8B-4044-9FA0-34AE92AC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10CA-54DC-4ABC-A404-60308FFE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F41E-5A46-44D0-9393-7BDE6DBF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8A05-E463-4CFC-8D76-435DE8F4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F8ED-5558-42C7-9282-E6010BAD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BE33-FE0D-435F-B503-D4D76F3C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E7C4-36B5-424B-989A-075D7F00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CF2-DABD-43BB-9331-1383B99C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49AC-4B93-4C81-8B67-6622B27C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EAB5-99A7-4102-8D81-437FE286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DA71-EABF-4E57-9AD1-247D0D67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2321-4CE5-4946-903C-61B6FFF1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9283-F129-4539-80D4-FF92D40C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BC3-72FA-459B-A68D-E5B150B7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DEE-CEB7-450E-80FD-82F14CFC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F1B-E8EF-4EE8-93F9-D2BA521D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72F-5043-4D6B-AC4E-41468541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63C-7B39-4C09-86E3-6010BEB6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7C7-41A4-49E7-B77E-599AF544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2C6-5619-4F49-8A50-F5A456DB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7DA1-5FB0-4620-977A-C02022C51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B274-57CB-4BB3-8A0E-906DADA20F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12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09680" y="533520"/>
            <a:ext cx="4648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657600" y="0"/>
            <a:ext cx="5486400" cy="3673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657600" y="3657600"/>
            <a:ext cx="548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38480" cy="3014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800600" y="0"/>
            <a:ext cx="4343400" cy="3225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752480" y="3200400"/>
            <a:ext cx="48006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Красная книга Росс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200400" y="1447920"/>
            <a:ext cx="2438280" cy="1973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172200" y="1447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80880" y="42670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505320" y="4038480"/>
            <a:ext cx="170640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867280" y="40384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6424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5648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76312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60958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3076560" cy="4667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572000" y="1066680"/>
            <a:ext cx="3232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86868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243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819520" y="0"/>
            <a:ext cx="3276360" cy="2433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0" y="2438280"/>
            <a:ext cx="2819520" cy="2133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819520" y="243828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6172200" y="2438280"/>
            <a:ext cx="2971800" cy="2149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0" y="4572000"/>
            <a:ext cx="281952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2819520" y="457200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6172200" y="4495680"/>
            <a:ext cx="2971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2298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4599000"/>
            <a:ext cx="2895480" cy="225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0" y="2286000"/>
            <a:ext cx="2819520" cy="2362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2819520" y="0"/>
            <a:ext cx="2971800" cy="4495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2895480" y="4419720"/>
            <a:ext cx="2895840" cy="243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5791320" y="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5715000" y="335268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3:53:47Z</dcterms:created>
  <dc:creator>Светка</dc:creator>
  <dc:description/>
  <dc:language>en-US</dc:language>
  <cp:lastModifiedBy>Светка</cp:lastModifiedBy>
  <dcterms:modified xsi:type="dcterms:W3CDTF">2012-11-05T14:44:0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